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777-66E6-4E86-94DB-DDE065DC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1DB-89BD-4A07-8100-DD330DB0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B2E93-CCC9-4416-90B8-3AF43967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6E9D4-16B6-4D9D-AE75-526297DD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F967E-1751-4DBC-BFE9-740CA252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9FD3D-0B30-43A2-9719-8C9FE44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32008-AC31-4689-A119-2D0CC6DC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D4631-9159-478A-B38E-6C042D70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606F7-6247-4A21-B45C-96D6F367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7E3F5-0E5A-4C25-AF3B-9560535B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C25E9-CC67-4A72-B552-220833F8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38F73-068F-4A86-BF5A-161F5A91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55C-8448-46DA-9235-BFF3875A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A4F60-2B2F-4D7F-B23B-2D24C2F3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EF89B-0DF4-4216-95AB-24595E3D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DE41A-784B-4ADE-B524-C2CBF420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733B1-0099-46E8-923A-8A2BE0F5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6AF05-5A39-4822-ADE2-2C211CBC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39FA7-D63C-4B99-8615-AB268767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7FB91-1B8F-4867-933C-CD038536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5D3AB-876F-4BC5-AAE7-C95382F5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CDC6A-302D-4046-8B5B-11357587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99E4D-508D-4E34-8FE6-055C41D3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6B2-004E-4AA3-A38E-08CF5FC8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ED550-C755-4467-AF57-F3FB5011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9492A-956F-4153-82E8-B7746C48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4DECF-DBBA-4DB1-BEA4-A7A0C7B4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4BA1F-52F4-4AE2-95B0-3E7A2C06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4FB7F-9C97-4E6E-8C77-79B34B99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C0B79-360B-4D9B-B6C7-C46C8B08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A50EB-9259-4927-9CF4-065CFD67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7E73A-A802-4637-890C-B078CBD1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7CF0E-C086-4839-A01D-6E56AEF6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931B2-05D8-408B-920D-C5AC79CB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98FA-FB4D-41A6-A030-75ABF7AF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1AE29-BED2-4180-B594-00B4AA6F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68EB1-B628-447E-9340-D82E55F7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18AD3-6F9D-4924-8D7B-28220F9C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D000D-1FDB-47E3-91A7-E275D7C7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7CC6D-7B3E-4A38-88E0-5CAFA228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870C0-8786-456E-BAE8-E91B2773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62982-11DC-445F-9208-1CCE2C7D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F0DFE-E3E7-4F8E-BAF3-AF7690D1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D5E15-6412-43C9-93EF-D0E9EFD6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BB3FE-FAD8-48F1-8013-2A22D97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B04A-B8EF-4BFD-AE1B-C9059143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A86D2-0353-4514-ADCA-B1AC68B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D2EEF-7E9D-4B5F-9B07-548A7BCE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E794C-5417-453D-ACEC-D6DB20D8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4A724-F480-4AA6-8400-91175D1F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3920B-3675-4774-9D68-B9119F29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EE314-7325-4F60-9396-FE538013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0B3F0-2B24-469D-8186-F1D8742F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59AD0-E1C1-488B-8E59-6BBCA589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5BA43-F02A-47B5-A28E-699EC651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36116-871D-47D2-9D9C-A8071F8C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1C68-D534-4CA0-992A-656105B1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4D1E8-DF50-4542-9EAD-EC782C44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0C62E-081A-4B89-8BF2-19C7CE45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58C8E-B41E-419E-8313-EAFF3F82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FBB24-3D4C-40F6-AFC1-B43D6852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0A4F6-FDD8-4D18-8FD9-5E7F835C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28E95-4272-403F-B223-9EF3ACA7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F6F54-8856-441D-8B16-BECAB768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B77FA-4DE5-407A-B37F-A390F1D1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176A5-95F8-4614-B794-02729023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1413F-EEAD-4101-B7D7-09387C5F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9EE4-0945-49CB-9C6E-91E239EA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7C286-0749-487F-B17E-E9C211AD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5948D-4CDE-4F0A-9F1C-67344E79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CE632-6D77-4262-9274-36BA163A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D8F32-7447-4C17-8D69-A5A17B8F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BD40C-AD94-4F20-A7A2-5BCB8B2A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B6F60-F584-49F7-9DB8-7427B3A2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E091E-0FF9-4C7C-AD6D-FD0AF680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E4C80-E9E8-49F9-8360-100DE189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FE7EA-F6E6-4A1F-B984-9DA7F9A6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2C833-A412-492D-96C8-A92CF989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6EA7-F260-4E57-9132-113C784F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0907E-8928-40AF-A556-426926AB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6589E-5E3A-49D4-B07F-09E05BD4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DCE7F-5A55-4CEE-820C-E9854BA1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39992-BE14-49F7-B47D-E73BFFCF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9CC75-B5A8-42AC-87B2-97E352EE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7C16B-A8E6-427E-9794-DD32D185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5834E-2F3D-4821-8C89-A46F16D2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D8B17-0038-4748-98DB-EEA1F044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9C595-9F8E-467C-BC6E-86AB3225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6D187-B283-4326-8D21-AAEBA0FB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C424-1976-4C03-9BB7-42B34AA8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1EFA8-A07F-4FEA-AE18-45A7B62D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C4BD-EE7F-4202-AD3E-B3032F01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61F-D5DD-4ABB-A526-6A1DD921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2DD1-0553-44C8-9DE4-7933AC9B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C497-C038-45BF-92B8-BF785EC5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5B4C-6347-4DE3-877D-976024B5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929E-016B-490D-A81D-3213039B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9CBD-6E68-4C10-8DC3-7637C6FB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1DB1-2DF8-483D-8D21-7B25256F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2B2B-FE1A-4135-8CF8-43F5ABA1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F30A-8911-4A2D-8279-CC0A3982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F1DE-D131-4D8D-B099-5FACD05F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00FF-BA57-441C-8849-F6CCE7A6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C25-7650-45D1-8D0C-5EEAB545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62F0-2D97-45D9-B72A-40B77D94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513F-393C-42BA-862D-C4DD4FC4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28D6-FEE4-4516-A5A3-6D538F4F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51E7-DF78-424E-A34C-93F88B5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13AC-5584-47F0-BE58-837DD27B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CCFA-56F5-4D16-A8CE-7FB5DE8B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5869-A626-4A8F-94E9-5789EBEF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52F05-82DB-4A34-A9F5-B9B21B95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9CA8-9BD6-4E41-83D3-FBDA8B40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DDAE8-647B-4FCC-B929-B0B3A964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2DC-98D9-46AA-B19A-035A2CD2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B8F3D-B523-47C8-AB5F-A3378A26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61052-C4AF-4E80-8C5A-4B00735D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2C1C-5244-4CEE-8016-756AEAFD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D9EAD-54A7-4C5F-8AF2-EC502AC5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D3875-FDDD-4E43-82AB-E36F8B9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576B-8BCF-4567-9CC9-8190BDB6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CB86B-F726-4BB8-8B2D-B3C5F571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5F63-2C13-42D0-AAAD-1AEDA83B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36A3-C1C8-4B28-9FF8-B78AF236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E0F87-BB4D-4B27-9779-6F34F2C8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224-D5B8-4838-9706-A34526B3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DD987-280D-4B47-A506-17F3B178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44EC0-FFEA-43FD-9B77-72C901FA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44473-AFD0-468A-9C3D-FFAB57D5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F798C-7277-4899-86A1-B26972E4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71FB4-FE53-4205-B261-CC5587FB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6923E-8992-4D4F-B682-9C21E0F2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10BAA-9D88-45B3-A1BC-AFE7B37A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F1D0C-2CED-4BA3-901A-502DCF4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F1050-0C30-43FB-8375-A913A735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9FFDE-3FEE-4911-9DBD-88DE37C8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548-EE4E-4814-932E-4FEB924D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EC5DE-5336-474E-A4F5-9D208C1B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31288-F39E-4BE5-BC1B-57D926C7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47CD7-16CD-4930-8F2F-F7DF8392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5C3F3-519B-488A-94FB-C9375A97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F3DA5-EABD-47AC-ADE8-49591F3C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E1751-EDEF-48C8-8AAE-F0B5F01A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1EE7E-0E26-4A9B-AD1F-4803A002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CE96C-D317-41CF-AD06-CF366064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C2C15-93CF-4821-AE63-6AC96456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89355-55FA-4829-9225-EB18287D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794-3D11-40B2-A717-5C978990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2E2A3-DCC1-4DF3-B5BB-9A57A5D6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B447B-C983-4B60-9CC6-007A76B2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6EE2A-4209-4977-9C93-83669E9B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B8F5F-1E23-42AA-8947-AA6E2002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A4E85-69FA-4714-9658-B669D8F7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B730C-97A6-4BAD-B246-B5EC5241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D46C4-6D97-48F4-9BCB-B1C85641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B49C0-B4BF-4E8A-9275-65FCE222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D173A-0CBC-437B-B223-548FCAB0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17D00-9592-4AD7-9950-32798108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E7A-EE10-448F-9C8D-62955FF6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8F1B8-5CC6-4067-8336-8E8C1035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8DC37-872E-4D4C-8F61-F6AFBD2F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1E88A-A4F8-4FAC-93E2-B2BD8F7B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7A45F-7A9F-4FDF-8B62-24F859AF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E8864-F629-4CAB-B0FB-5A41BFF0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E542B-4CBC-4E55-BFE7-D512DF63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65F17-D231-4DD0-B039-E4C3B3E0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377BA-9698-4EEF-9132-A19ED4E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885AE-D13B-4676-A5D3-3027DAA0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0112D-7F82-430F-ADA0-BF848BEE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F07-2C95-4E86-AE05-1E32896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EAFA9-45F7-40CF-A4A3-28EF68C3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C640F-AF8F-478E-9D10-179C5C1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71EA4-3B40-4521-92C3-CDBF0455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6C20E-3799-44DE-8ADE-D55394B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FF72C-AF0F-41CD-A1B5-47E90C1F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E3067-E756-4B2F-9913-7B5DF66A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E0257-4AE1-40A1-84AB-265C5599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E30C9-C4D0-4D7E-B7B9-4BF8357F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DAD42-C0CB-4EAF-84D2-439C29CA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42EA9-6F6C-4EF1-B968-AAA43857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E041-DA6E-4C72-8626-AB85330AFC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8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8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8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8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8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69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69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0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2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3C42-A458-4841-8ADB-198366C627FA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7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78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78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8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8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8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9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9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9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9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9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0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0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0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0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0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0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1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1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1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1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1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1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2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2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2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2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2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2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2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2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2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2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3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3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3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3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3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3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4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4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85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5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5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5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5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5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5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5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6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6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6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7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7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7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8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8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88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88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8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8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8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CBDB-498D-476F-9E56-8A8BC0A46185}" type="slidenum">
              <a:rPr b="0" lang="ru-RU" sz="14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8311-C8A3-420C-893E-1BD885CD41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1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1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1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3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4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5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5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6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FCD6-F8CA-488C-926D-3BD10D733F95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0FA-AA81-48B2-B459-3951AEFFF2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8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430C-E4C8-4801-8B3F-8025DCAB6D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B5AD-E29F-4EF9-B9E6-B9EEF63655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1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11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11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DC66-05C5-4DF9-9AC7-B4296C1EBF9B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9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9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0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0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0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0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0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6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07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0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0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11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12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13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4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5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1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7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8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19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0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1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2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3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4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25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6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7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28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0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3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2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3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34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5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3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2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3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5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5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7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58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9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6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3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64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5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6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67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8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9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70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2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73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4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7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grpSp>
              <p:nvGrpSpPr>
                <p:cNvPr id="277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78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9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0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81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3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84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6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87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8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9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92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93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4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95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96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7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98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99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1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02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3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0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7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08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9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1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1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4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7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8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0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3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5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0D9E-07A2-430E-9821-FE639190A234}" type="slidenum">
              <a:rPr b="0" lang="ru-RU" sz="14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7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2E0B-A073-43DA-988A-443FC30174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3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3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3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6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6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6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7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9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47BE-DB77-45EF-A4C7-D87E9B20B4C9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312C-912B-4C89-9E17-75E5F571A2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A86A-6D6A-4953-9DB9-41E3D8BB7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857E-980E-4A76-9E0B-8FA5589C1A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 txBox="1"/>
          <p:nvPr/>
        </p:nvSpPr>
        <p:spPr>
          <a:xfrm>
            <a:off x="-228960" y="-152280"/>
            <a:ext cx="19717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6600" spc="-1" strike="noStrike">
                <a:solidFill>
                  <a:srgbClr val="2f1311"/>
                </a:solidFill>
                <a:latin typeface="Arial"/>
              </a:rPr>
              <a:t>ир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Содержимое 2"/>
          <p:cNvSpPr/>
          <p:nvPr/>
        </p:nvSpPr>
        <p:spPr>
          <a:xfrm>
            <a:off x="762120" y="685800"/>
            <a:ext cx="17571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  <a:ea typeface="Arial"/>
              </a:rPr>
              <a:t>р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ис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0" name="Содержимое 2"/>
          <p:cNvSpPr/>
          <p:nvPr/>
        </p:nvSpPr>
        <p:spPr>
          <a:xfrm>
            <a:off x="1600200" y="1295280"/>
            <a:ext cx="2514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Arial"/>
              </a:rPr>
              <a:t>о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гонь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1" name="Содержимое 2"/>
          <p:cNvSpPr/>
          <p:nvPr/>
        </p:nvSpPr>
        <p:spPr>
          <a:xfrm>
            <a:off x="2362320" y="2057400"/>
            <a:ext cx="266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Arial"/>
              </a:rPr>
              <a:t>ф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рукт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2" name="Содержимое 2"/>
          <p:cNvSpPr/>
          <p:nvPr/>
        </p:nvSpPr>
        <p:spPr>
          <a:xfrm>
            <a:off x="3200400" y="2819520"/>
            <a:ext cx="1928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ль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3" name="Содержимое 2"/>
          <p:cNvSpPr/>
          <p:nvPr/>
        </p:nvSpPr>
        <p:spPr>
          <a:xfrm>
            <a:off x="3733920" y="3581280"/>
            <a:ext cx="39621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Arial"/>
              </a:rPr>
              <a:t>с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осулька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 marL="191880" indent="-191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4" name="Содержимое 2"/>
          <p:cNvSpPr/>
          <p:nvPr/>
        </p:nvSpPr>
        <p:spPr>
          <a:xfrm>
            <a:off x="5562720" y="4876920"/>
            <a:ext cx="259056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Arial"/>
              </a:rPr>
              <a:t>и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рис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5" name="Содержимое 2"/>
          <p:cNvSpPr/>
          <p:nvPr/>
        </p:nvSpPr>
        <p:spPr>
          <a:xfrm>
            <a:off x="6248520" y="5643720"/>
            <a:ext cx="2666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  <a:ea typeface="Arial"/>
              </a:rPr>
              <a:t>я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Arial"/>
              </a:rPr>
              <a:t>блоко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6" name="Содержимое 2"/>
          <p:cNvSpPr/>
          <p:nvPr/>
        </p:nvSpPr>
        <p:spPr>
          <a:xfrm>
            <a:off x="4952880" y="4191120"/>
            <a:ext cx="22860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Arial"/>
              </a:rPr>
              <a:t>с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лон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597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omic Sans MS"/>
              </a:rPr>
              <a:t>Конкурс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omic Sans MS"/>
              </a:rPr>
              <a:t>«БЮРО НАХОДОК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2000"/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2000"/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Счастлив тот, кто занимается любимым делом, кто правильно выбрал себе профессию.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2" name="Picture 5" descr="Cartoon-Businessman-Happy-2718798-335x353"/>
          <p:cNvPicPr/>
          <p:nvPr/>
        </p:nvPicPr>
        <p:blipFill>
          <a:blip r:embed="rId1"/>
          <a:stretch/>
        </p:blipFill>
        <p:spPr>
          <a:xfrm>
            <a:off x="304920" y="3124080"/>
            <a:ext cx="3190680" cy="336240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7" descr="902595466-Cartoon-Businessman-Happy-and-Running"/>
          <p:cNvPicPr/>
          <p:nvPr/>
        </p:nvPicPr>
        <p:blipFill>
          <a:blip r:embed="rId2"/>
          <a:stretch/>
        </p:blipFill>
        <p:spPr>
          <a:xfrm>
            <a:off x="5486400" y="3124080"/>
            <a:ext cx="288612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 txBox="1"/>
          <p:nvPr/>
        </p:nvSpPr>
        <p:spPr>
          <a:xfrm>
            <a:off x="-360" y="-360"/>
            <a:ext cx="1971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8" name="Содержимое 2"/>
          <p:cNvSpPr/>
          <p:nvPr/>
        </p:nvSpPr>
        <p:spPr>
          <a:xfrm>
            <a:off x="1000080" y="642960"/>
            <a:ext cx="17575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р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9" name="Содержимое 2"/>
          <p:cNvSpPr/>
          <p:nvPr/>
        </p:nvSpPr>
        <p:spPr>
          <a:xfrm>
            <a:off x="1928880" y="128592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0" name="Содержимое 2"/>
          <p:cNvSpPr/>
          <p:nvPr/>
        </p:nvSpPr>
        <p:spPr>
          <a:xfrm>
            <a:off x="2714760" y="2071800"/>
            <a:ext cx="20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ф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1" name="Содержимое 2"/>
          <p:cNvSpPr/>
          <p:nvPr/>
        </p:nvSpPr>
        <p:spPr>
          <a:xfrm>
            <a:off x="3571920" y="2714760"/>
            <a:ext cx="1928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2" name="Содержимое 2"/>
          <p:cNvSpPr/>
          <p:nvPr/>
        </p:nvSpPr>
        <p:spPr>
          <a:xfrm>
            <a:off x="4429080" y="3357720"/>
            <a:ext cx="19432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3" name="Содержимое 2"/>
          <p:cNvSpPr/>
          <p:nvPr/>
        </p:nvSpPr>
        <p:spPr>
          <a:xfrm>
            <a:off x="6357960" y="4929120"/>
            <a:ext cx="178596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4" name="Содержимое 2"/>
          <p:cNvSpPr/>
          <p:nvPr/>
        </p:nvSpPr>
        <p:spPr>
          <a:xfrm>
            <a:off x="7162920" y="5643720"/>
            <a:ext cx="1785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5" name="Содержимое 2"/>
          <p:cNvSpPr/>
          <p:nvPr/>
        </p:nvSpPr>
        <p:spPr>
          <a:xfrm>
            <a:off x="5500800" y="4143240"/>
            <a:ext cx="15001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 advTm="8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-0.00312 0.39908 E">
                                      <p:cBhvr>
                                        <p:cTn id="6" dur="2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0033 0.31782 E">
                                      <p:cBhvr>
                                        <p:cTn id="8" dur="2000" fill="hold"/>
                                        <p:tgtEl>
                                          <p:spTgt spid="1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0244 0.22407 E">
                                      <p:cBhvr>
                                        <p:cTn id="10" dur="2000" fill="hold"/>
                                        <p:tgtEl>
                                          <p:spTgt spid="1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0486 0.11458 E">
                                      <p:cBhvr>
                                        <p:cTn id="12" dur="2000" fill="hold"/>
                                        <p:tgtEl>
                                          <p:spTgt spid="1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382 -0.08843 E">
                                      <p:cBhvr>
                                        <p:cTn id="14" dur="2000" fill="hold"/>
                                        <p:tgtEl>
                                          <p:spTgt spid="1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-0.00243 -0.20833 E">
                                      <p:cBhvr>
                                        <p:cTn id="16" dur="2000" fill="hold"/>
                                        <p:tgtEl>
                                          <p:spTgt spid="1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-0.00156 -0.32083 E">
                                      <p:cBhvr>
                                        <p:cTn id="18" dur="2000" fill="hold"/>
                                        <p:tgtEl>
                                          <p:spTgt spid="1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00851 -0.42176 E">
                                      <p:cBhvr>
                                        <p:cTn id="20" dur="2000" fill="hold"/>
                                        <p:tgtEl>
                                          <p:spTgt spid="1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-685800" y="6091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"/>
              </a:rPr>
              <a:t>Время выбирать профессию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47" name="Picture 6" descr="%D0%9F%D1%80%D0%BE%D1%84%D0%B5%D1%81%D1%81%D0%B8%D0%B8"/>
          <p:cNvPicPr/>
          <p:nvPr/>
        </p:nvPicPr>
        <p:blipFill>
          <a:blip r:embed="rId1"/>
          <a:stretch/>
        </p:blipFill>
        <p:spPr>
          <a:xfrm>
            <a:off x="380880" y="2971800"/>
            <a:ext cx="7086600" cy="2986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20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" dur="2000"/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8" name="'Все профессии нужны, все профессии важны' (мультфильм-песенка для малышей)..mp4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Text Box 7"/>
          <p:cNvSpPr/>
          <p:nvPr/>
        </p:nvSpPr>
        <p:spPr>
          <a:xfrm>
            <a:off x="228600" y="152280"/>
            <a:ext cx="7086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Профессия – это вид труда, который требует от человека определенной подготовки, знаний и умений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50" name="Picture 9" descr="Slovar"/>
          <p:cNvPicPr/>
          <p:nvPr/>
        </p:nvPicPr>
        <p:blipFill>
          <a:blip r:embed="rId1"/>
          <a:stretch/>
        </p:blipFill>
        <p:spPr>
          <a:xfrm rot="20601000">
            <a:off x="5333760" y="2666520"/>
            <a:ext cx="309060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Picture 7" descr="stock-vector-two-cartoon-boys-talking-238538239"/>
          <p:cNvPicPr/>
          <p:nvPr/>
        </p:nvPicPr>
        <p:blipFill>
          <a:blip r:embed="rId1"/>
          <a:stretch/>
        </p:blipFill>
        <p:spPr>
          <a:xfrm>
            <a:off x="1600200" y="2336760"/>
            <a:ext cx="6362640" cy="4521240"/>
          </a:xfrm>
          <a:prstGeom prst="rect">
            <a:avLst/>
          </a:prstGeom>
          <a:ln w="0">
            <a:noFill/>
          </a:ln>
        </p:spPr>
      </p:pic>
      <p:sp>
        <p:nvSpPr>
          <p:cNvPr id="1252" name="Text Box 8"/>
          <p:cNvSpPr/>
          <p:nvPr/>
        </p:nvSpPr>
        <p:spPr>
          <a:xfrm>
            <a:off x="1066680" y="22860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6600" spc="-1" strike="noStrike">
                <a:solidFill>
                  <a:srgbClr val="ffffff"/>
                </a:solidFill>
                <a:latin typeface="Comic Sans MS"/>
              </a:rPr>
              <a:t>А. Кравченко «Честный ответ»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8" descr="21632479-%D0%93%D0%B5%D1%80%D0%BE%D0%B8-%D0%BC%D1%83%D0%BB%D1%8C%D1%82%D1%84%D0%B8%D0%BB%D1%8C%D0%BC%D0%BE%D0%B2-%D0%BC%D0%B5%D0%BD%D0%B5%D0%B4%D0%B6%D0%B5%D1%80,-%D1%88%D0%B5%D1%84-%D0%BF%D0%BE%D0%B2%D0%B0%D1%80,-%D0%BF%D0%BE%D0%BB%D0%B8%D1%86%D0%B5%D0%B9%D1%81%D0%BA%D0%B8%D0%B9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ВАЧ = В- - - (медработни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ЁРКА = А - - - - (театральная и кинематографическая  професс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ЛОН = К - - - - (весёлая цирковая професс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ЕДИТОР = Д - - - - - - - (руководитель предприятия, начальни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5" name="Picture 9" descr="C45-04"/>
          <p:cNvPicPr/>
          <p:nvPr/>
        </p:nvPicPr>
        <p:blipFill>
          <a:blip r:embed="rId1"/>
          <a:stretch/>
        </p:blipFill>
        <p:spPr>
          <a:xfrm>
            <a:off x="4572000" y="380880"/>
            <a:ext cx="1452600" cy="236232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10" descr="C30-26"/>
          <p:cNvPicPr/>
          <p:nvPr/>
        </p:nvPicPr>
        <p:blipFill>
          <a:blip r:embed="rId2"/>
          <a:stretch/>
        </p:blipFill>
        <p:spPr>
          <a:xfrm>
            <a:off x="4495680" y="3124080"/>
            <a:ext cx="2040120" cy="228600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11" descr="C34-06"/>
          <p:cNvPicPr/>
          <p:nvPr/>
        </p:nvPicPr>
        <p:blipFill>
          <a:blip r:embed="rId3"/>
          <a:stretch/>
        </p:blipFill>
        <p:spPr>
          <a:xfrm>
            <a:off x="6324480" y="4572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9" descr="C03-37"/>
          <p:cNvPicPr/>
          <p:nvPr/>
        </p:nvPicPr>
        <p:blipFill>
          <a:blip r:embed="rId4"/>
          <a:stretch/>
        </p:blipFill>
        <p:spPr>
          <a:xfrm>
            <a:off x="6324480" y="4495680"/>
            <a:ext cx="243540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46483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cc"/>
                </a:solidFill>
                <a:latin typeface="Monotype Corsiva"/>
              </a:rPr>
              <a:t>«</a:t>
            </a:r>
            <a:r>
              <a:rPr b="1" lang="ru-RU" sz="6000" spc="-1" strike="noStrike">
                <a:solidFill>
                  <a:srgbClr val="ff33cc"/>
                </a:solidFill>
                <a:latin typeface="Monotype Corsiva"/>
              </a:rPr>
              <a:t>САМАЯ-САМАЯ</a:t>
            </a:r>
            <a:r>
              <a:rPr b="0" lang="ru-RU" sz="6000" spc="-1" strike="noStrike">
                <a:solidFill>
                  <a:srgbClr val="ff33cc"/>
                </a:solidFill>
                <a:latin typeface="Monotype Corsiva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я «детская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я «смешна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я «общительна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я «серьезна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3000"/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3000"/>
                                        <p:tgtEl>
                                          <p:spTgt spid="1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3000"/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8" dur="3000"/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" dur="3000"/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7-01-31T04:28:1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