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1CE-8C15-4F71-95CA-1520FB2F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462-6593-4512-B3F5-8B17DD3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C7373-A97F-4FA2-88AA-42EC25DA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3ED0D-79AC-4F55-B5BD-53B124D2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A3E1F-B44A-4138-B8B3-EBB9B5C1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58A72-2F5C-40B3-8DE9-600C476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A2742-7B26-4467-8A8B-6388A5A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BEF83-77C2-4CCC-9FC5-31B1923F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EFA03-337E-47C8-A5CC-57C88DC3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4F3A1-777C-4637-9247-261D3E0A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CBD37-E717-47CD-B35A-DEB45FE3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141A-55C0-4F10-BB00-71C27F84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5CD-7300-46D0-AB28-5BEC0C9C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29119-8192-43A3-BA09-CA4A0334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3E32C-6AFF-4086-B615-17C85BB8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A3B20-61AC-4010-8A9B-4027240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1A20E-E50E-42A2-83D8-F45906CF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52771-2E97-469F-9775-2678AAF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7A0F3-A22B-4944-9F06-CA746CA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DB742-6EF9-4A2A-9BF9-8508706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851EB-ED17-4BEB-8865-C525705F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84472-DBFA-476E-ABC7-D911633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E5C23-3074-4288-85E8-480EEF54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D8D-0B1D-4329-867A-DBF54513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D6B94-C85B-472C-854B-05D35E0D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F5320-C260-4866-B26B-A266F53C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F2B7F-E739-46AD-A752-4576687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EBFF7-584E-44B5-B5B7-52F5E6F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1FDA6-711B-49F3-9608-AEDB35B2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3818E-56BA-4D43-BDED-B6BAC2A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7BD90-853F-49A1-AD12-E59BFC7F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ACDDF-064D-4D9A-985E-0077E40F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0E51D-B077-4B2C-93B1-E8EB2BFC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27414-0449-4D79-BA23-54B65CE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73A9-E5DF-425D-A691-A023B465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6B6A-3749-4422-A3CB-40775A8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0F9D-4D01-4CC4-95D8-2B837E8B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A23BD-FD0E-4BB0-957A-C3F4090B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53B11-B83B-44D2-96FC-8E247E72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BD13B-DC26-473C-BF26-44128F88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1A4C1-00DD-464E-B82C-A985F3EE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B57B0-122C-453B-B6D5-89C2A159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C46C4-FBE5-4E39-9F2A-4C24315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EDDF6-C2A6-4905-A151-F30DB65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13464-75FD-42E2-A20B-CC3FD98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7B20-FE30-43D0-8FF2-156730C7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1171F-4EF6-4869-A33F-2CA5E70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89FF6-2598-4A7B-AC7A-350734B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95E00-855E-45EA-978D-DDD1F5CC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1829E-42B2-471F-BAA7-59BCA4DE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1AC4B-A3E4-48F2-A274-63F8B2FC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7056E-A06F-4D04-8AD8-42BA315A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88D8C-79BE-488D-A538-AA78094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2551D-3B5E-46AE-96E3-F0BA087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14C60-D91B-414D-9488-EF2179A9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A6314-23E0-4977-982E-BECC13F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FE04-593B-4713-A199-1E564B35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E400D-404A-4E22-BF3F-F5BB231D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1E477-C6A4-46E9-AE45-1EEB7DC7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BA0E2-F2DF-404D-9EB6-CCA4E06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3B4EF-6910-4191-BF7B-6E9F0123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1D55C-E654-4906-8BF6-448A934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8CBB0-14A7-425D-92BD-0E5177E1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7E115-EB9E-4095-B653-F6BFC015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A31AE-B6E8-4A04-9531-0BD02688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9E5C8-491F-4442-B98A-9701FD7D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F4ABD-7EC2-4FFD-971E-30B16DE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064F-189F-40C2-AF47-EF1410DE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B3B29-AACF-4E89-B43D-B53D0F45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8599F-5872-4B99-AFEB-37BA69DD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18466-486E-4DF9-8ACC-FFC7CBD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1CB8C-A2DD-4C1B-A0E8-D05D1E3E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980BC-9F7B-48CD-B997-1D77FC7E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C1602-4C6A-4704-ACFA-360FFEC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DCD23-4BFB-47C2-A5D7-715971C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8B21A-FED4-433D-BBC6-845C59EF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5DF98-F242-4412-B01A-B74D0A70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98F7E-9FD4-4B9C-A910-923312EF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1116-CB1C-4D66-B974-875683FD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63D00-81DF-4433-BC9B-B7C64670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C4866-D9B0-49EA-9569-011A21DC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F3FDA-4774-4869-89DE-0802CB51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E1951-D794-4973-B5B1-90E27126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C7023-48DC-4771-A105-367E394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2D7E1-8A28-48D0-AADF-0D64A0A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789E6-863F-4553-AEE8-1E865F94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FD4D8-0866-4C1A-BAEB-494803D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6ED19-EE15-46C4-AF3A-655F80DC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87EA0-0773-4921-BEB7-C8961BD9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E22B-8011-4B52-B1E0-7936244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83A1F-E257-4D0E-8286-4DBDFEB5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DF0-7A1A-4580-9D67-FDC84D9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FB3-A9FD-4928-B32A-B56FB182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70BF-5D91-4CB7-83A4-A85D2F46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0E04-DE84-4F78-8132-16D0901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F462-474A-4F2F-B0EE-A6E85F7C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2B5B-3E8A-4066-BC99-B34AFF75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976-CC8A-4E6B-95D9-90C69F61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3156-9E49-4A72-96D4-591E4AA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9219-5CCD-4A93-AAAE-A80DCB6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53E6-36A7-406B-BEBA-F06D1A2A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2094-BDAE-438A-B264-BAFC2FE7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335B-42F7-443C-A0D4-565C210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783-3461-4DFF-BC83-F84FF7B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0431-A55D-41F3-B4BC-2241780A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916B-8985-4BC0-94EB-209E1C24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BAFA-251E-459F-9EBA-607DAAD4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5F90-AD8F-4BF5-BFEA-75C1C13E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2308-4465-42A2-972D-FDF1B310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193C-85B7-4241-AD96-1F65CA59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0C8F-CC1F-4C48-9E9D-AD97450F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4B8F-8586-46C4-AE19-0D8BE912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AB03-BAA5-4D2B-AE9A-54854065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AD11-7FA1-45FC-A3CF-0930E37F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504-469B-4F68-8B77-C53D60B3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5543E-0B48-41FD-97E8-CEC020E6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19122-742F-462C-867C-D4E70ED7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9F27-05EF-474B-87BE-B3C8633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738D-9A3D-4634-827A-51D3F60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5DC8-82BA-4743-B824-3685AE1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0CF1-DFBC-4E11-AC6E-9263D17D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3F47-6670-4D0F-98B4-44EA5AD9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B0C4-8F57-4454-AC7B-706AE049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039B-6CF7-48D7-8204-B7C76976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28CB5-ECD0-46A4-8131-1EFD614D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9CE-8976-4C87-BC60-500FB903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BCB6-8AF2-4D74-9D00-00A1BF77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6419-E7F2-44F1-B2F7-6033222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7C617-825F-49ED-A40B-FD3D052F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219E-3FE5-4430-88B6-E25BA04C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AD9C-09F7-4008-BC57-6FE51AA4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2C14-2B53-4B3F-9610-3DE623E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47B6-B9A3-4821-BD4F-BD303FFF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2146C-5FE4-4154-B332-B8F6D4DD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B8DDC-8771-4D04-9A9D-6900FB06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F497-41E7-40D5-9EA7-1DB14EA9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2F3-EDC5-4C98-BB93-6A007F1E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63AD-4FCC-4C15-B4E9-5EB40E98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14EA0-AF2E-4360-B7C8-C2739B8A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F9886-9B72-42B4-B9E2-CA14E52D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5661A-0CDE-4CE0-802D-6FFBCE2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751F8-46F8-4E5B-93F7-DBE346FE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9FFDE-2A29-45BC-A11D-AF450E78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AB2E6-20FC-42CE-951B-F6D97A98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1018-9BDE-4045-A482-96DED0C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E6EE-E2D3-4D11-96DE-1611D43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E4D1-0BBF-44FF-8372-F7E44357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7D6-AE16-4160-8E48-0292120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6062-BE5F-4BE0-BEE3-8FD6CAF1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669A-6771-426C-AF77-665F7C48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CD34-8E96-4FBF-A9C6-9ADD917A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F23D7-B7DA-4329-9C2D-A9C2C2B4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42DC-D798-483C-A53F-13E27E21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8134F-D018-430F-80F9-3B5C9B54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CBCA3-BA3C-459E-A4D5-53640446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72D6-ADE5-470F-BFAB-1E5394E2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2957-9E73-4253-A6F3-2F2EDB6D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231D2-1CCF-475B-96D7-EBC20C93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BF3-2D05-4362-890C-5C4EFECC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12FD4-4084-4383-9284-E305CDD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F9F38-D6E9-49D1-A4B0-CABCCD1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E204-8A7A-4606-9CAC-88EE93A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BBB8D-90C6-4CE4-9625-C19EEE04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A66D-C4F1-4D59-AF85-137803E7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AA82-9B43-4CA7-976E-60F02A99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2A8E6-598C-4801-92A2-8A49213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12CDE-E35F-49F0-A586-141D76C8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E5F6-138D-4FC5-990F-C503EB68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DE393-C7DD-433B-B116-2035C916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B0F-996E-43A3-B3D4-45E9CBD1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D304C-C8D6-44C6-BF81-0AA9B911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8BB23-72D9-4986-B253-1FEF445D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A1DBC-B52E-441A-90A0-EE4501E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2665F-8AC4-4D3B-85CB-BDACC1B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308B8-9724-4079-8A5C-F45D4D75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55967-2E88-4D2B-9BAB-6E28DE72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D2643-F748-467C-8270-954D0852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D9CBF-EA7C-4893-B3A1-A9F56A87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83477-8988-4E53-8993-8FDCEE01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276A0-AD6B-4C9B-B555-C30A66F0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FEF-AB7D-4BF5-BB87-1F5704DA2E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8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8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8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8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69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69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0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2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577-637C-444C-965D-4ECA266CA9DA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7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8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78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8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8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8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0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0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1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2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2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2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2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2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3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3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4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4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4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85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5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5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5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5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6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7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88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88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88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8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8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8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0698-E8F6-43F7-A974-B18CFD204994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7B80-E69A-4430-9FA3-063CB4C707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1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1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1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3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4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5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5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5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6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352B-6BB2-4305-AA0C-7F60410456CB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495A-BC1B-4E62-A1DF-31D207BAD1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8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4082-3A2E-4907-8CD8-094FEE728F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D0FE-08AE-4A56-AF4E-9CA955A6CC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1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6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1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1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D6F8-64CD-43BE-A8C5-55B93FF7424C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9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0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1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1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1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1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1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3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3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3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5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5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5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7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7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27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7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9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9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9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9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66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1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6C22-1355-4013-8BFF-AB9C63A8F9BC}" type="slidenum">
              <a:rPr b="0" lang="ru-RU" sz="14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2C33-DD0C-4F67-82D1-9F1E4FBAB5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3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3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3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4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5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6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6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6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7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66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9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3B55-7E68-481E-B477-11A7E3EB81CF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CA16-157A-40E4-B0DB-9E19EAA679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3F6F-06B6-4024-83FE-3292432F1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275-0AB9-4049-ABA3-8CB0BBF86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 txBox="1"/>
          <p:nvPr/>
        </p:nvSpPr>
        <p:spPr>
          <a:xfrm>
            <a:off x="-228960" y="-152280"/>
            <a:ext cx="19717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6600" spc="-1" strike="noStrike">
                <a:solidFill>
                  <a:srgbClr val="2f1311"/>
                </a:solidFill>
                <a:latin typeface="Arial"/>
              </a:rPr>
              <a:t>ир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9" name="Содержимое 2"/>
          <p:cNvSpPr/>
          <p:nvPr/>
        </p:nvSpPr>
        <p:spPr>
          <a:xfrm>
            <a:off x="762120" y="685800"/>
            <a:ext cx="1757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  <a:ea typeface="Arial"/>
              </a:rPr>
              <a:t>р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ис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0" name="Содержимое 2"/>
          <p:cNvSpPr/>
          <p:nvPr/>
        </p:nvSpPr>
        <p:spPr>
          <a:xfrm>
            <a:off x="1600200" y="1295280"/>
            <a:ext cx="2514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о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гонь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1" name="Содержимое 2"/>
          <p:cNvSpPr/>
          <p:nvPr/>
        </p:nvSpPr>
        <p:spPr>
          <a:xfrm>
            <a:off x="2362320" y="2057400"/>
            <a:ext cx="26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ф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рукт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2" name="Содержимое 2"/>
          <p:cNvSpPr/>
          <p:nvPr/>
        </p:nvSpPr>
        <p:spPr>
          <a:xfrm>
            <a:off x="3200400" y="2819520"/>
            <a:ext cx="1928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ль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3" name="Содержимое 2"/>
          <p:cNvSpPr/>
          <p:nvPr/>
        </p:nvSpPr>
        <p:spPr>
          <a:xfrm>
            <a:off x="3733920" y="3581280"/>
            <a:ext cx="39621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с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осулька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191880" indent="-191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4" name="Содержимое 2"/>
          <p:cNvSpPr/>
          <p:nvPr/>
        </p:nvSpPr>
        <p:spPr>
          <a:xfrm>
            <a:off x="5562720" y="4876920"/>
            <a:ext cx="25905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и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рис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5" name="Содержимое 2"/>
          <p:cNvSpPr/>
          <p:nvPr/>
        </p:nvSpPr>
        <p:spPr>
          <a:xfrm>
            <a:off x="6248520" y="5643720"/>
            <a:ext cx="2666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  <a:ea typeface="Arial"/>
              </a:rPr>
              <a:t>я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блоко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6" name="Содержимое 2"/>
          <p:cNvSpPr/>
          <p:nvPr/>
        </p:nvSpPr>
        <p:spPr>
          <a:xfrm>
            <a:off x="4952880" y="4191120"/>
            <a:ext cx="22860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Arial"/>
              </a:rPr>
              <a:t>с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лон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597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Конкурс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omic Sans MS"/>
              </a:rPr>
              <a:t>«БЮРО НАХОДОК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2000"/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2000"/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Счастлив тот, кто занимается любимым делом, кто правильно выбрал себе профессию.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2" name="Picture 5" descr="Cartoon-Businessman-Happy-2718798-335x353"/>
          <p:cNvPicPr/>
          <p:nvPr/>
        </p:nvPicPr>
        <p:blipFill>
          <a:blip r:embed="rId1"/>
          <a:stretch/>
        </p:blipFill>
        <p:spPr>
          <a:xfrm>
            <a:off x="304920" y="3124080"/>
            <a:ext cx="3190680" cy="336240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7" descr="902595466-Cartoon-Businessman-Happy-and-Running"/>
          <p:cNvPicPr/>
          <p:nvPr/>
        </p:nvPicPr>
        <p:blipFill>
          <a:blip r:embed="rId2"/>
          <a:stretch/>
        </p:blipFill>
        <p:spPr>
          <a:xfrm>
            <a:off x="5486400" y="3124080"/>
            <a:ext cx="288612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-360" y="-360"/>
            <a:ext cx="1971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8" name="Содержимое 2"/>
          <p:cNvSpPr/>
          <p:nvPr/>
        </p:nvSpPr>
        <p:spPr>
          <a:xfrm>
            <a:off x="1000080" y="642960"/>
            <a:ext cx="17575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р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9" name="Содержимое 2"/>
          <p:cNvSpPr/>
          <p:nvPr/>
        </p:nvSpPr>
        <p:spPr>
          <a:xfrm>
            <a:off x="1928880" y="128592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0" name="Содержимое 2"/>
          <p:cNvSpPr/>
          <p:nvPr/>
        </p:nvSpPr>
        <p:spPr>
          <a:xfrm>
            <a:off x="2714760" y="2071800"/>
            <a:ext cx="20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ф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1" name="Содержимое 2"/>
          <p:cNvSpPr/>
          <p:nvPr/>
        </p:nvSpPr>
        <p:spPr>
          <a:xfrm>
            <a:off x="3571920" y="2714760"/>
            <a:ext cx="1928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2" name="Содержимое 2"/>
          <p:cNvSpPr/>
          <p:nvPr/>
        </p:nvSpPr>
        <p:spPr>
          <a:xfrm>
            <a:off x="4429080" y="3357720"/>
            <a:ext cx="1943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3" name="Содержимое 2"/>
          <p:cNvSpPr/>
          <p:nvPr/>
        </p:nvSpPr>
        <p:spPr>
          <a:xfrm>
            <a:off x="6357960" y="4929120"/>
            <a:ext cx="17859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4" name="Содержимое 2"/>
          <p:cNvSpPr/>
          <p:nvPr/>
        </p:nvSpPr>
        <p:spPr>
          <a:xfrm>
            <a:off x="7162920" y="5643720"/>
            <a:ext cx="1785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5" name="Содержимое 2"/>
          <p:cNvSpPr/>
          <p:nvPr/>
        </p:nvSpPr>
        <p:spPr>
          <a:xfrm>
            <a:off x="5500800" y="4143240"/>
            <a:ext cx="15001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-0.00312 0.39908 E">
                                      <p:cBhvr>
                                        <p:cTn id="6" dur="2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0033 0.31782 E">
                                      <p:cBhvr>
                                        <p:cTn id="8" dur="2000" fill="hold"/>
                                        <p:tgtEl>
                                          <p:spTgt spid="1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0244 0.22407 E">
                                      <p:cBhvr>
                                        <p:cTn id="10" dur="2000" fill="hold"/>
                                        <p:tgtEl>
                                          <p:spTgt spid="1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0486 0.11458 E">
                                      <p:cBhvr>
                                        <p:cTn id="12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382 -0.08843 E">
                                      <p:cBhvr>
                                        <p:cTn id="14" dur="2000" fill="hold"/>
                                        <p:tgtEl>
                                          <p:spTgt spid="1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-0.00243 -0.20833 E">
                                      <p:cBhvr>
                                        <p:cTn id="16" dur="2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-0.00156 -0.32083 E">
                                      <p:cBhvr>
                                        <p:cTn id="18" dur="2000" fill="hold"/>
                                        <p:tgtEl>
                                          <p:spTgt spid="1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0851 -0.42176 E">
                                      <p:cBhvr>
                                        <p:cTn id="20" dur="2000" fill="hold"/>
                                        <p:tgtEl>
                                          <p:spTgt spid="1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-685800" y="6091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"/>
              </a:rPr>
              <a:t>Время выбирать профессию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47" name="Picture 6" descr="%D0%9F%D1%80%D0%BE%D1%84%D0%B5%D1%81%D1%81%D0%B8%D0%B8"/>
          <p:cNvPicPr/>
          <p:nvPr/>
        </p:nvPicPr>
        <p:blipFill>
          <a:blip r:embed="rId1"/>
          <a:stretch/>
        </p:blipFill>
        <p:spPr>
          <a:xfrm>
            <a:off x="380880" y="2971800"/>
            <a:ext cx="7086600" cy="2986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20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" dur="2000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'Все профессии нужны, все профессии важны' (мультфильм-песенка для малышей)..mp4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Text Box 7"/>
          <p:cNvSpPr/>
          <p:nvPr/>
        </p:nvSpPr>
        <p:spPr>
          <a:xfrm>
            <a:off x="228600" y="152280"/>
            <a:ext cx="7086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Профессия – это вид труда, который требует от человека определенной подготовки, знаний и умений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0" name="Picture 9" descr="Slovar"/>
          <p:cNvPicPr/>
          <p:nvPr/>
        </p:nvPicPr>
        <p:blipFill>
          <a:blip r:embed="rId1"/>
          <a:stretch/>
        </p:blipFill>
        <p:spPr>
          <a:xfrm rot="20601000">
            <a:off x="5333760" y="2666520"/>
            <a:ext cx="309060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Picture 7" descr="stock-vector-two-cartoon-boys-talking-238538239"/>
          <p:cNvPicPr/>
          <p:nvPr/>
        </p:nvPicPr>
        <p:blipFill>
          <a:blip r:embed="rId1"/>
          <a:stretch/>
        </p:blipFill>
        <p:spPr>
          <a:xfrm>
            <a:off x="1600200" y="2336760"/>
            <a:ext cx="6362640" cy="452124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8"/>
          <p:cNvSpPr/>
          <p:nvPr/>
        </p:nvSpPr>
        <p:spPr>
          <a:xfrm>
            <a:off x="1066680" y="22860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6600" spc="-1" strike="noStrike">
                <a:solidFill>
                  <a:srgbClr val="ffffff"/>
                </a:solidFill>
                <a:latin typeface="Comic Sans MS"/>
              </a:rPr>
              <a:t>А. Кравченко «Честный ответ»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8" descr="21632479-%D0%93%D0%B5%D1%80%D0%BE%D0%B8-%D0%BC%D1%83%D0%BB%D1%8C%D1%82%D1%84%D0%B8%D0%BB%D1%8C%D0%BC%D0%BE%D0%B2-%D0%BC%D0%B5%D0%BD%D0%B5%D0%B4%D0%B6%D0%B5%D1%80,-%D1%88%D0%B5%D1%84-%D0%BF%D0%BE%D0%B2%D0%B0%D1%80,-%D0%BF%D0%BE%D0%BB%D0%B8%D1%86%D0%B5%D0%B9%D1%81%D0%BA%D0%B8%D0%B9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ВАЧ = В- - - (медработни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ЁРКА = А - - - - (театральная и кинематографическая  професс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ЛОН = К - - - - (весёлая цирковая професс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ДИТОР = Д - - - - - - - (руководитель предприятия, начальни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5" name="Picture 9" descr="C45-04"/>
          <p:cNvPicPr/>
          <p:nvPr/>
        </p:nvPicPr>
        <p:blipFill>
          <a:blip r:embed="rId1"/>
          <a:stretch/>
        </p:blipFill>
        <p:spPr>
          <a:xfrm>
            <a:off x="4572000" y="380880"/>
            <a:ext cx="1452600" cy="236232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0" descr="C30-26"/>
          <p:cNvPicPr/>
          <p:nvPr/>
        </p:nvPicPr>
        <p:blipFill>
          <a:blip r:embed="rId2"/>
          <a:stretch/>
        </p:blipFill>
        <p:spPr>
          <a:xfrm>
            <a:off x="4495680" y="3124080"/>
            <a:ext cx="2040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11" descr="C34-06"/>
          <p:cNvPicPr/>
          <p:nvPr/>
        </p:nvPicPr>
        <p:blipFill>
          <a:blip r:embed="rId3"/>
          <a:stretch/>
        </p:blipFill>
        <p:spPr>
          <a:xfrm>
            <a:off x="6324480" y="4572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9" descr="C03-37"/>
          <p:cNvPicPr/>
          <p:nvPr/>
        </p:nvPicPr>
        <p:blipFill>
          <a:blip r:embed="rId4"/>
          <a:stretch/>
        </p:blipFill>
        <p:spPr>
          <a:xfrm>
            <a:off x="6324480" y="4495680"/>
            <a:ext cx="243540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46483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cc"/>
                </a:solidFill>
                <a:latin typeface="Monotype Corsiva"/>
              </a:rPr>
              <a:t>«</a:t>
            </a:r>
            <a:r>
              <a:rPr b="1" lang="ru-RU" sz="6000" spc="-1" strike="noStrike">
                <a:solidFill>
                  <a:srgbClr val="ff33cc"/>
                </a:solidFill>
                <a:latin typeface="Monotype Corsiva"/>
              </a:rPr>
              <a:t>САМАЯ-САМАЯ</a:t>
            </a:r>
            <a:r>
              <a:rPr b="0" lang="ru-RU" sz="6000" spc="-1" strike="noStrike">
                <a:solidFill>
                  <a:srgbClr val="ff33cc"/>
                </a:solidFill>
                <a:latin typeface="Monotype Corsiva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детская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смеш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общитель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я «серьез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3000"/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3000"/>
                                        <p:tgtEl>
                                          <p:spTgt spid="1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3000"/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" dur="3000"/>
                                        <p:tgtEl>
                                          <p:spTgt spid="1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3000"/>
                                        <p:tgtEl>
                                          <p:spTgt spid="1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7-01-31T04:28:1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