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9B6-8646-4286-B8E5-8CE19544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B47-066A-482D-B6CB-4647ACC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557-C89E-4922-ADE9-FE325198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040-2AF5-4C32-9DE3-728B6380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B6F7-9B91-4C82-B97D-5DCE36BE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AE8DC-A6AD-40A0-B35B-4B569F33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2A4A3-6B27-4051-AB6E-90B697B2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0195-D1A5-471D-B5E2-FABCEF5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DAA3-D3D7-4DF7-B35B-1FE0FE37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7F2A-ED24-4ECF-9C2F-7E2153F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D1012-CC65-4584-9388-C73DA525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B61-55C4-4754-8DAF-14C408D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2026-E926-44D1-A4A8-236F153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34C0-3EC9-4B53-AA64-D686725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122E3-45FA-4782-8FDC-4D4AC3CE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83572-F103-4134-A412-CB337A2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2F438-BA96-43C1-BA1F-2C9CE94F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740-85EC-4CE0-A296-FB977217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79E-FF71-46D4-AC70-39C9808F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D8A-A5EA-40DB-9CF0-5839B2A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F2-D4EA-4425-AB0E-D51962C0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70B-A823-4D41-BF31-A1F3525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3CA-6354-41A8-B9D6-A7AECF0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6BB-8C6A-4278-A601-9A17681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A9A1-C2F8-4D97-9930-627C3684E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6A4-22E1-4546-B4FC-061B195D13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2"/>
          <p:cNvSpPr txBox="1"/>
          <p:nvPr/>
        </p:nvSpPr>
        <p:spPr>
          <a:xfrm>
            <a:off x="2016000" y="981000"/>
            <a:ext cx="5791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деева Анастасия Сергеевна</a:t>
            </a:r>
            <a:endParaRPr b="0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37"/>
          <p:cNvSpPr/>
          <p:nvPr/>
        </p:nvSpPr>
        <p:spPr>
          <a:xfrm>
            <a:off x="684360" y="3141720"/>
            <a:ext cx="787068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anklin Gothic Medium"/>
              </a:rPr>
              <a:t>«Особенности проведения физкультурно-оздоровительных мероприят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anklin Gothic Medium"/>
              </a:rPr>
              <a:t>в группах продленного дня»</a:t>
            </a:r>
            <a:r>
              <a:rPr b="1" lang="ru-RU" sz="23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5"/>
          <p:cNvSpPr/>
          <p:nvPr/>
        </p:nvSpPr>
        <p:spPr>
          <a:xfrm>
            <a:off x="3276720" y="476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Text Box 76" descr=""/>
          <p:cNvPicPr/>
          <p:nvPr/>
        </p:nvPicPr>
        <p:blipFill>
          <a:blip r:embed="rId1"/>
          <a:stretch/>
        </p:blipFill>
        <p:spPr>
          <a:xfrm>
            <a:off x="2432160" y="2109960"/>
            <a:ext cx="4492440" cy="6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45" repeatCount="300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470"/>
          <p:cNvGraphicFramePr/>
          <p:nvPr/>
        </p:nvGraphicFramePr>
        <p:xfrm>
          <a:off x="900000" y="476280"/>
          <a:ext cx="734544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7345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472"/>
          <p:cNvSpPr/>
          <p:nvPr/>
        </p:nvSpPr>
        <p:spPr>
          <a:xfrm>
            <a:off x="468360" y="5229360"/>
            <a:ext cx="82090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 1. Динамика показателей скоростн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бег 30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16"/>
          <p:cNvSpPr/>
          <p:nvPr/>
        </p:nvSpPr>
        <p:spPr>
          <a:xfrm>
            <a:off x="1080" y="4980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634"/>
          <p:cNvGraphicFramePr/>
          <p:nvPr/>
        </p:nvGraphicFramePr>
        <p:xfrm>
          <a:off x="1116000" y="765000"/>
          <a:ext cx="6912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6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91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37"/>
          <p:cNvSpPr/>
          <p:nvPr/>
        </p:nvSpPr>
        <p:spPr>
          <a:xfrm>
            <a:off x="971640" y="5445000"/>
            <a:ext cx="73436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2. Динамика показателей скоростно-силовой подготовлен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прыжок в длину с мес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827"/>
          <p:cNvGraphicFramePr/>
          <p:nvPr/>
        </p:nvGraphicFramePr>
        <p:xfrm>
          <a:off x="971640" y="981000"/>
          <a:ext cx="734544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8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73454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829"/>
          <p:cNvSpPr/>
          <p:nvPr/>
        </p:nvSpPr>
        <p:spPr>
          <a:xfrm>
            <a:off x="900000" y="4941720"/>
            <a:ext cx="75614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3. Динамика показателей общей вынослив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5-ти мин бег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64"/>
          <p:cNvSpPr/>
          <p:nvPr/>
        </p:nvSpPr>
        <p:spPr>
          <a:xfrm>
            <a:off x="0" y="704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Object 378"/>
          <p:cNvGraphicFramePr/>
          <p:nvPr/>
        </p:nvGraphicFramePr>
        <p:xfrm>
          <a:off x="826920" y="1052640"/>
          <a:ext cx="741708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3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417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380"/>
          <p:cNvSpPr/>
          <p:nvPr/>
        </p:nvSpPr>
        <p:spPr>
          <a:xfrm>
            <a:off x="755640" y="5445000"/>
            <a:ext cx="75614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 4. Динамика показателей координационных спосо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челночный бег 3х10 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2421000"/>
          <a:ext cx="8064360" cy="3233520"/>
        </p:xfrm>
        <a:graphic>
          <a:graphicData uri="http://schemas.openxmlformats.org/drawingml/2006/table">
            <a:tbl>
              <a:tblPr/>
              <a:tblGrid>
                <a:gridCol w="844560"/>
                <a:gridCol w="1963800"/>
                <a:gridCol w="2303280"/>
                <a:gridCol w="1440000"/>
                <a:gridCol w="15127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ес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Эксперимента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онтро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 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(p&lt;0,05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Бег 30м,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,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2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1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,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-ти мин бег,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87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80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елночный бег, 3х10м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626"/>
          <p:cNvSpPr/>
          <p:nvPr/>
        </p:nvSpPr>
        <p:spPr>
          <a:xfrm>
            <a:off x="0" y="43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784"/>
          <p:cNvSpPr/>
          <p:nvPr/>
        </p:nvSpPr>
        <p:spPr>
          <a:xfrm>
            <a:off x="755640" y="907920"/>
            <a:ext cx="7920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абл.4. Итоговые показатели общей физическ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ладших школь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71"/>
          <p:cNvSpPr/>
          <p:nvPr/>
        </p:nvSpPr>
        <p:spPr>
          <a:xfrm>
            <a:off x="3059280" y="260280"/>
            <a:ext cx="5905440" cy="1994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анализа научно-метод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тературы мною было установлен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детский организм отличается от взросл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логическими и физиологическими особенност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торые необходимо учитывать при построен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ы занятий и определении нагруз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72"/>
          <p:cNvSpPr/>
          <p:nvPr/>
        </p:nvSpPr>
        <p:spPr>
          <a:xfrm>
            <a:off x="3276720" y="2492280"/>
            <a:ext cx="5472000" cy="14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проведении занятий с детьми следует уделя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обое внимание на физиологические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логические особенности, учитыва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нситивные пери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вития физических качест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73"/>
          <p:cNvSpPr/>
          <p:nvPr/>
        </p:nvSpPr>
        <p:spPr>
          <a:xfrm>
            <a:off x="3059280" y="4292640"/>
            <a:ext cx="5905440" cy="165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зультаты исследования подтвердили эффектив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зкультурно-оздоровительных мероприят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уппах продленного дня, их положительное влия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физическое развитие детей младшего школьн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рас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476"/>
          <p:cNvSpPr/>
          <p:nvPr/>
        </p:nvSpPr>
        <p:spPr>
          <a:xfrm>
            <a:off x="179280" y="2205000"/>
            <a:ext cx="2592360" cy="22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78"/>
          <p:cNvSpPr/>
          <p:nvPr/>
        </p:nvSpPr>
        <p:spPr>
          <a:xfrm flipV="1">
            <a:off x="1763640" y="1268280"/>
            <a:ext cx="1152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479"/>
          <p:cNvSpPr/>
          <p:nvPr/>
        </p:nvSpPr>
        <p:spPr>
          <a:xfrm>
            <a:off x="1979640" y="4581360"/>
            <a:ext cx="863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480"/>
          <p:cNvSpPr/>
          <p:nvPr/>
        </p:nvSpPr>
        <p:spPr>
          <a:xfrm>
            <a:off x="2843280" y="3357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Рекоменд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телям физического воспитания и воспитателям ГПД необходимо постоянно углублять свои знания в физическом воспитан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ать деятельность более опытных и квалифицированных коллег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адевать современными технологиями организации и проведения физкультурно-оздоровительной работы в группах продленного дн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ть психологию физического воспитания младшего школьника и педагогические при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50920" y="2852640"/>
            <a:ext cx="86900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ЗА ВНИМАНИЕ 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250920" y="2349360"/>
            <a:ext cx="871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Определить особенности проведения физкультурно-оздоровительных мероприятий в группе продленного дня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900000" y="836640"/>
            <a:ext cx="777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ЦЕЛЬ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68360" y="2924280"/>
            <a:ext cx="818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1"/>
          <p:cNvSpPr txBox="1"/>
          <p:nvPr/>
        </p:nvSpPr>
        <p:spPr>
          <a:xfrm>
            <a:off x="1187280" y="620640"/>
            <a:ext cx="6477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кт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971640" y="1268280"/>
            <a:ext cx="73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нятия физическим воспитанием в группах продленного д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33"/>
          <p:cNvSpPr txBox="1"/>
          <p:nvPr/>
        </p:nvSpPr>
        <p:spPr>
          <a:xfrm>
            <a:off x="1258920" y="2637000"/>
            <a:ext cx="6765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684360" y="3429000"/>
            <a:ext cx="7991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лияние физкультурно-оздоровительных мероприятий в группах продленного дня на физическую подготовленность младшего школьн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зработать содержательные и процессуальные основы проведения физкультурно-оздоровительных мероприятий в группах продленного дня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онкретизировать соотношение основных параметров физической нагрузки для младших школьников в группах продленного д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зработать рекомендации проведения физкультурно-оздоровительных мероприятий  в группах продленного дня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68360" y="692280"/>
            <a:ext cx="8136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И ИССЛЕДОВАНИЯ: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0920" y="260280"/>
            <a:ext cx="8250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26"/>
          <p:cNvSpPr txBox="1"/>
          <p:nvPr/>
        </p:nvSpPr>
        <p:spPr>
          <a:xfrm>
            <a:off x="1763640" y="4437000"/>
            <a:ext cx="4886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31"/>
          <p:cNvSpPr txBox="1"/>
          <p:nvPr/>
        </p:nvSpPr>
        <p:spPr>
          <a:xfrm>
            <a:off x="1187280" y="476280"/>
            <a:ext cx="6837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  исследован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539640" y="1341360"/>
            <a:ext cx="84250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состояла в предположении, что если в группах продленного дня: организация физкультурно-оздоровительных мероприятий проводится по типу модульно-блочного построения и под руководством специалиста по физическому воспитанию, а направленность занятий выбирается с учетом сенситивных периодов развития физических качеств, то все это будет оказывать положительное влияние на физическое развитие ребенка, и будет восполняться необходимый режим двигательной активност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324000" y="2133720"/>
            <a:ext cx="3168360" cy="1295280"/>
          </a:xfrm>
          <a:prstGeom prst="wedgeEllipseCallout">
            <a:avLst>
              <a:gd name="adj1" fmla="val 51300"/>
              <a:gd name="adj2" fmla="val 336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Наглядные: пед.наблюд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экскурс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2916360" y="4869000"/>
            <a:ext cx="3382920" cy="1295280"/>
          </a:xfrm>
          <a:prstGeom prst="wedgeEllipseCallout">
            <a:avLst>
              <a:gd name="adj1" fmla="val 1995"/>
              <a:gd name="adj2" fmla="val -998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Математико-статистические мет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796000" y="4076640"/>
            <a:ext cx="3097080" cy="1295640"/>
          </a:xfrm>
          <a:prstGeom prst="wedgeEllipseCallout">
            <a:avLst>
              <a:gd name="adj1" fmla="val -47180"/>
              <a:gd name="adj2" fmla="val -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Словес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рассказ, беседа, объяс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627280" y="549360"/>
            <a:ext cx="4392720" cy="2087640"/>
          </a:xfrm>
          <a:prstGeom prst="wedgeEllipseCallout">
            <a:avLst>
              <a:gd name="adj1" fmla="val -1935"/>
              <a:gd name="adj2" fmla="val 703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Анализ данных литературно-документальных источников по исследуемой проблем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084720" y="2276640"/>
            <a:ext cx="2808360" cy="1295280"/>
          </a:xfrm>
          <a:prstGeom prst="wedgeEllipseCallout">
            <a:avLst>
              <a:gd name="adj1" fmla="val -46888"/>
              <a:gd name="adj2" fmla="val 355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Естественный педагогический эксперимен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059280" y="3068640"/>
            <a:ext cx="33130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ы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611280" y="4076640"/>
            <a:ext cx="2808360" cy="792360"/>
          </a:xfrm>
          <a:prstGeom prst="wedgeEllipseCallout">
            <a:avLst>
              <a:gd name="adj1" fmla="val 59611"/>
              <a:gd name="adj2" fmla="val -4599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Упраж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абл.1. Примерная схема модульно-блочной системы физкультурно-оздоровительной деятельности в ГП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133720"/>
          <a:ext cx="8481960" cy="3835440"/>
        </p:xfrm>
        <a:graphic>
          <a:graphicData uri="http://schemas.openxmlformats.org/drawingml/2006/table">
            <a:tbl>
              <a:tblPr/>
              <a:tblGrid>
                <a:gridCol w="1039680"/>
                <a:gridCol w="1077840"/>
                <a:gridCol w="846360"/>
                <a:gridCol w="954000"/>
                <a:gridCol w="942840"/>
                <a:gridCol w="839880"/>
                <a:gridCol w="890640"/>
                <a:gridCol w="981000"/>
                <a:gridCol w="909720"/>
              </a:tblGrid>
              <a:tr h="51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яц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Октябр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ябрь-Дека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а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рель-Ма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локи педагогического проце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й трениров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й 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оду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тверти в средней общеобр. школ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611280" y="160920"/>
            <a:ext cx="79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. 2. Предложенная методика организации и проведения физкультурно-оздоровительных мероприятий в ГП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052640"/>
          <a:ext cx="8424720" cy="6254640"/>
        </p:xfrm>
        <a:graphic>
          <a:graphicData uri="http://schemas.openxmlformats.org/drawingml/2006/table">
            <a:tbl>
              <a:tblPr/>
              <a:tblGrid>
                <a:gridCol w="1395360"/>
                <a:gridCol w="2179800"/>
                <a:gridCol w="1555560"/>
                <a:gridCol w="1573200"/>
                <a:gridCol w="172080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ентябрь-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Ноябрь-дека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Январь-ма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Апрель-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Бл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Бл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Дать понятие о ЗОЖ.  Определить мотивацию детей к занятиям физической культурой.  Выявить исходный уровень физической подготовленности учащихся. Содейств-ть формированию потребности в систематических занятиях физ.воспитание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оспитание морально-волевых качеств детей.  Научить детей технике выполнения движений посредством  подвижных игр на свежем воздух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ыявить динамику развития физических качест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овершенствование ранее изученного материала, обучение детей технике движ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Определить итоговый уровень развития физических качеств занимающих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Дальнейшее совершенств-ие ранее изученного материал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Физк-оздор. мероприятия, в ГП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Анкетирование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портивный час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Тестирование физических качеств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движные игры: «Пятнашки», «Охотники и утки», « веселые старты»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«Новогодние веселые старты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гры в снежки, «Снайперы», игры на лыжах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вторное тестирование физических кач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гры на лыжах, катание на санках и др., спортивный ча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тоговое тестирование физических кач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еселые старты, круговая эстафета, встречная эстафета и т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71560" y="1473120"/>
          <a:ext cx="7372440" cy="4415040"/>
        </p:xfrm>
        <a:graphic>
          <a:graphicData uri="http://schemas.openxmlformats.org/drawingml/2006/table">
            <a:tbl>
              <a:tblPr/>
              <a:tblGrid>
                <a:gridCol w="644400"/>
                <a:gridCol w="1720800"/>
                <a:gridCol w="2111400"/>
                <a:gridCol w="1422360"/>
                <a:gridCol w="147348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Тес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Эксперимент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Контро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(p&gt;0,05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Бег 30м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Прыжок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длину с мест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1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1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5-ти мин бег,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4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4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Челно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бег, 3х10м,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86"/>
          <p:cNvSpPr/>
          <p:nvPr/>
        </p:nvSpPr>
        <p:spPr>
          <a:xfrm>
            <a:off x="847800" y="549360"/>
            <a:ext cx="7396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Табл.3. Исходный уровень общей физическ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ладших школь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1:07:49Z</dcterms:created>
  <dc:creator>Dr. Muller</dc:creator>
  <dc:description/>
  <dc:language>en-US</dc:language>
  <cp:lastModifiedBy>user</cp:lastModifiedBy>
  <dcterms:modified xsi:type="dcterms:W3CDTF">2017-02-13T13:10:34Z</dcterms:modified>
  <cp:revision>241</cp:revision>
  <dc:subject/>
  <dc:title>Презентация PowerPoint</dc:title>
</cp:coreProperties>
</file>