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E59-1AC9-4C36-9639-59A06F6B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F7F-C5FF-4E5E-BA0C-BDA25E9D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EAF-036D-47F8-99F2-5C4AF5C3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D36-1B4E-4190-B87B-47716EC6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9A042-B4A4-4EBF-9D0D-94B5987A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648D5-EDC5-439D-A2A4-50F47537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CE47-4AAC-485B-B047-E45745D5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BB296-84F6-4449-B848-CF1873F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1C63B-9F7E-435A-9EE3-79FCBAA0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05614-DE31-4F71-AC9D-94C42FC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46356-0188-4DE1-A60A-9644476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27B-4CAE-4356-8B04-67152DF6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D978E-EEFE-47E9-935B-CC363DAB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2A37E-F034-455E-85AA-5AF01CC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FD652-FCF5-471A-83B2-05C7797B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2B0FC-4B6E-4827-895F-D2BC8599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FF2D6-276E-467C-B336-78661C44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D39-918E-400D-8CD3-6F02A2AE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C05-4646-4AD7-8BE1-12C4682E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DAB-9A41-4FF2-A2D1-186DD2AB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844-74A5-4085-A0E3-FAAE4E82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EDC-B57E-4270-89F6-982EABA6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887-E909-4E21-B152-4F39D4EF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142-E943-4691-8E09-7A088A8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BD24-46CB-49BD-B891-6D3EFBF2D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44A1-47BA-4EB6-AEFB-524A808989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2"/>
          <p:cNvSpPr txBox="1"/>
          <p:nvPr/>
        </p:nvSpPr>
        <p:spPr>
          <a:xfrm>
            <a:off x="2016000" y="981000"/>
            <a:ext cx="5791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деева Анастасия Сергеевна</a:t>
            </a:r>
            <a:endParaRPr b="0" lang="en-US" sz="20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37"/>
          <p:cNvSpPr/>
          <p:nvPr/>
        </p:nvSpPr>
        <p:spPr>
          <a:xfrm>
            <a:off x="684360" y="3141720"/>
            <a:ext cx="787068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Franklin Gothic Medium"/>
              </a:rPr>
              <a:t>«Особенности проведения физкультурно-оздоровительных мероприят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Franklin Gothic Medium"/>
              </a:rPr>
              <a:t>в группах продленного дня»</a:t>
            </a:r>
            <a:r>
              <a:rPr b="1" lang="ru-RU" sz="2300" spc="-1" strike="noStrike">
                <a:solidFill>
                  <a:srgbClr val="990000"/>
                </a:solidFill>
                <a:latin typeface="Franklin Gothic Medium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75"/>
          <p:cNvSpPr/>
          <p:nvPr/>
        </p:nvSpPr>
        <p:spPr>
          <a:xfrm>
            <a:off x="3276720" y="47628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Text Box 76" descr=""/>
          <p:cNvPicPr/>
          <p:nvPr/>
        </p:nvPicPr>
        <p:blipFill>
          <a:blip r:embed="rId1"/>
          <a:stretch/>
        </p:blipFill>
        <p:spPr>
          <a:xfrm>
            <a:off x="2432160" y="2109960"/>
            <a:ext cx="4492440" cy="6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45" repeatCount="300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470"/>
          <p:cNvGraphicFramePr/>
          <p:nvPr/>
        </p:nvGraphicFramePr>
        <p:xfrm>
          <a:off x="900000" y="476280"/>
          <a:ext cx="734544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6280"/>
                    <a:ext cx="73454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472"/>
          <p:cNvSpPr/>
          <p:nvPr/>
        </p:nvSpPr>
        <p:spPr>
          <a:xfrm>
            <a:off x="468360" y="5229360"/>
            <a:ext cx="82090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Рис. 1. Динамика показателей скоростной подготовлен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ладших школьников (бег 30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16"/>
          <p:cNvSpPr/>
          <p:nvPr/>
        </p:nvSpPr>
        <p:spPr>
          <a:xfrm>
            <a:off x="1080" y="4980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Object 634"/>
          <p:cNvGraphicFramePr/>
          <p:nvPr/>
        </p:nvGraphicFramePr>
        <p:xfrm>
          <a:off x="1116000" y="765000"/>
          <a:ext cx="69120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6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65000"/>
                    <a:ext cx="6912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37"/>
          <p:cNvSpPr/>
          <p:nvPr/>
        </p:nvSpPr>
        <p:spPr>
          <a:xfrm>
            <a:off x="971640" y="5445000"/>
            <a:ext cx="734364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Рис.2. Динамика показателей скоростно-силовой подготовлен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ладших школьников (прыжок в длину с мес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Object 827"/>
          <p:cNvGraphicFramePr/>
          <p:nvPr/>
        </p:nvGraphicFramePr>
        <p:xfrm>
          <a:off x="971640" y="981000"/>
          <a:ext cx="7345440" cy="35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8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81000"/>
                    <a:ext cx="734544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829"/>
          <p:cNvSpPr/>
          <p:nvPr/>
        </p:nvSpPr>
        <p:spPr>
          <a:xfrm>
            <a:off x="900000" y="4941720"/>
            <a:ext cx="756144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Рис.3. Динамика показателей общей вынослив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ладших школьников (5-ти мин бег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64"/>
          <p:cNvSpPr/>
          <p:nvPr/>
        </p:nvSpPr>
        <p:spPr>
          <a:xfrm>
            <a:off x="0" y="704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Object 378"/>
          <p:cNvGraphicFramePr/>
          <p:nvPr/>
        </p:nvGraphicFramePr>
        <p:xfrm>
          <a:off x="826920" y="1052640"/>
          <a:ext cx="741708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37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4170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380"/>
          <p:cNvSpPr/>
          <p:nvPr/>
        </p:nvSpPr>
        <p:spPr>
          <a:xfrm>
            <a:off x="755640" y="5445000"/>
            <a:ext cx="756144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Рис. 4. Динамика показателей координационных спосо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ладших школьников (челночный бег 3х10 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2421000"/>
          <a:ext cx="8064360" cy="3233520"/>
        </p:xfrm>
        <a:graphic>
          <a:graphicData uri="http://schemas.openxmlformats.org/drawingml/2006/table">
            <a:tbl>
              <a:tblPr/>
              <a:tblGrid>
                <a:gridCol w="844560"/>
                <a:gridCol w="1963800"/>
                <a:gridCol w="2303280"/>
                <a:gridCol w="1440000"/>
                <a:gridCol w="151272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Тес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Экспериментальная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онтрольная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 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(p&lt;0,05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Бег 30м,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,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рыжок в длину с места, 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12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11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,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5-ти мин бег, 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87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80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3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Челночный бег, 3х10м, 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626"/>
          <p:cNvSpPr/>
          <p:nvPr/>
        </p:nvSpPr>
        <p:spPr>
          <a:xfrm>
            <a:off x="0" y="43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784"/>
          <p:cNvSpPr/>
          <p:nvPr/>
        </p:nvSpPr>
        <p:spPr>
          <a:xfrm>
            <a:off x="755640" y="907920"/>
            <a:ext cx="79200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абл.4. Итоговые показатели общей физической подготовлен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ладших школь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71"/>
          <p:cNvSpPr/>
          <p:nvPr/>
        </p:nvSpPr>
        <p:spPr>
          <a:xfrm>
            <a:off x="3059280" y="260280"/>
            <a:ext cx="5905440" cy="1994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анализа научно-метод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тературы мною было установлено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детский организм отличается от взрослог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логическими и физиологическими особенностям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торые необходимо учитывать при построен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ы занятий и определении нагруз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472"/>
          <p:cNvSpPr/>
          <p:nvPr/>
        </p:nvSpPr>
        <p:spPr>
          <a:xfrm>
            <a:off x="3276720" y="2492280"/>
            <a:ext cx="5472000" cy="14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 проведении занятий с детьми следует уделя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обое внимание на физиологические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ихологические особенности, учитыва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нситивные перио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вития физических качест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473"/>
          <p:cNvSpPr/>
          <p:nvPr/>
        </p:nvSpPr>
        <p:spPr>
          <a:xfrm>
            <a:off x="3059280" y="4292640"/>
            <a:ext cx="5905440" cy="1655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зультаты исследования подтвердили эффектив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зкультурно-оздоровительных мероприят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уппах продленного дня, их положительное влия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физическое развитие детей младшего школьног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рас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476"/>
          <p:cNvSpPr/>
          <p:nvPr/>
        </p:nvSpPr>
        <p:spPr>
          <a:xfrm>
            <a:off x="179280" y="2205000"/>
            <a:ext cx="2592360" cy="22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478"/>
          <p:cNvSpPr/>
          <p:nvPr/>
        </p:nvSpPr>
        <p:spPr>
          <a:xfrm flipV="1">
            <a:off x="1763640" y="1268280"/>
            <a:ext cx="115272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479"/>
          <p:cNvSpPr/>
          <p:nvPr/>
        </p:nvSpPr>
        <p:spPr>
          <a:xfrm>
            <a:off x="1979640" y="4581360"/>
            <a:ext cx="863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480"/>
          <p:cNvSpPr/>
          <p:nvPr/>
        </p:nvSpPr>
        <p:spPr>
          <a:xfrm>
            <a:off x="2843280" y="3357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Рекоменд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одавателям физического воспитания и воспитателям ГПД необходимо постоянно углублять свои знания в физическом воспитан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ать деятельность более опытных и квалифицированных коллег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ладевать современными технологиями организации и проведения физкультурно-оздоровительной работы в группах продленного дн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ть психологию физического воспитания младшего школьника и педагогические при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6"/>
          <p:cNvSpPr txBox="1"/>
          <p:nvPr/>
        </p:nvSpPr>
        <p:spPr>
          <a:xfrm>
            <a:off x="250920" y="2852640"/>
            <a:ext cx="869004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АГОДАРЮ ЗА ВНИМАНИЕ 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250920" y="2349360"/>
            <a:ext cx="8713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Определить особенности проведения физкультурно-оздоровительных мероприятий в группе продленного дня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WordArt 11"/>
          <p:cNvSpPr txBox="1"/>
          <p:nvPr/>
        </p:nvSpPr>
        <p:spPr>
          <a:xfrm>
            <a:off x="900000" y="836640"/>
            <a:ext cx="777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ЦЕЛЬ ИССЛЕДОВАНИЯ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468360" y="2924280"/>
            <a:ext cx="818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1"/>
          <p:cNvSpPr txBox="1"/>
          <p:nvPr/>
        </p:nvSpPr>
        <p:spPr>
          <a:xfrm>
            <a:off x="1187280" y="620640"/>
            <a:ext cx="6477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кт исследования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971640" y="1268280"/>
            <a:ext cx="737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нятия физическим воспитанием в группах продленного д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WordArt 33"/>
          <p:cNvSpPr txBox="1"/>
          <p:nvPr/>
        </p:nvSpPr>
        <p:spPr>
          <a:xfrm>
            <a:off x="1258920" y="2637000"/>
            <a:ext cx="6765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мет исследования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684360" y="3429000"/>
            <a:ext cx="7991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лияние физкультурно-оздоровительных мероприятий в группах продленного дня на физическую подготовленность младшего школьн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зработать содержательные и процессуальные основы проведения физкультурно-оздоровительных мероприятий в группах продленного дня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онкретизировать соотношение основных параметров физической нагрузки для младших школьников в группах продленного дн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зработать рекомендации проведения физкультурно-оздоровительных мероприятий  в группах продленного дня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68360" y="692280"/>
            <a:ext cx="8136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ЗАДАЧИ ИССЛЕДОВАНИЯ: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0920" y="260280"/>
            <a:ext cx="8250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WordArt 26"/>
          <p:cNvSpPr txBox="1"/>
          <p:nvPr/>
        </p:nvSpPr>
        <p:spPr>
          <a:xfrm>
            <a:off x="1763640" y="4437000"/>
            <a:ext cx="4886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31"/>
          <p:cNvSpPr txBox="1"/>
          <p:nvPr/>
        </p:nvSpPr>
        <p:spPr>
          <a:xfrm>
            <a:off x="1187280" y="476280"/>
            <a:ext cx="6837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  исследовани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539640" y="1341360"/>
            <a:ext cx="84250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Times New Roman"/>
              </a:rPr>
              <a:t>состояла в предположении, что если в группах продленного дня: организация физкультурно-оздоровительных мероприятий проводится по типу модульно-блочного построения и под руководством специалиста по физическому воспитанию, а направленность занятий выбирается с учетом сенситивных периодов развития физических качеств, то все это будет оказывать положительное влияние на физическое развитие ребенка, и будет восполняться необходимый режим двигательной активност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324000" y="2133720"/>
            <a:ext cx="3168360" cy="1295280"/>
          </a:xfrm>
          <a:prstGeom prst="wedgeEllipseCallout">
            <a:avLst>
              <a:gd name="adj1" fmla="val 51300"/>
              <a:gd name="adj2" fmla="val 3369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Наглядные: пед.наблюд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экскурс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2916360" y="4869000"/>
            <a:ext cx="3382920" cy="1295280"/>
          </a:xfrm>
          <a:prstGeom prst="wedgeEllipseCallout">
            <a:avLst>
              <a:gd name="adj1" fmla="val 1995"/>
              <a:gd name="adj2" fmla="val -998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Математико-статистические метод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796000" y="4076640"/>
            <a:ext cx="3097080" cy="1295640"/>
          </a:xfrm>
          <a:prstGeom prst="wedgeEllipseCallout">
            <a:avLst>
              <a:gd name="adj1" fmla="val -47180"/>
              <a:gd name="adj2" fmla="val -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Словесны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рассказ, беседа, объяс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627280" y="549360"/>
            <a:ext cx="4392720" cy="2087640"/>
          </a:xfrm>
          <a:prstGeom prst="wedgeEllipseCallout">
            <a:avLst>
              <a:gd name="adj1" fmla="val -1935"/>
              <a:gd name="adj2" fmla="val 7030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Анализ данных литературно-документальных источников по исследуемой проблем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6084720" y="2276640"/>
            <a:ext cx="2808360" cy="1295280"/>
          </a:xfrm>
          <a:prstGeom prst="wedgeEllipseCallout">
            <a:avLst>
              <a:gd name="adj1" fmla="val -46888"/>
              <a:gd name="adj2" fmla="val 3553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Естественный педагогический эксперимен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059280" y="3068640"/>
            <a:ext cx="331308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етоды 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611280" y="4076640"/>
            <a:ext cx="2808360" cy="792360"/>
          </a:xfrm>
          <a:prstGeom prst="wedgeEllipseCallout">
            <a:avLst>
              <a:gd name="adj1" fmla="val 59611"/>
              <a:gd name="adj2" fmla="val -4599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Упраж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Табл.1. Примерная схема модульно-блочной системы физкультурно-оздоровительной деятельности в ГП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2133720"/>
          <a:ext cx="8481960" cy="3835440"/>
        </p:xfrm>
        <a:graphic>
          <a:graphicData uri="http://schemas.openxmlformats.org/drawingml/2006/table">
            <a:tbl>
              <a:tblPr/>
              <a:tblGrid>
                <a:gridCol w="1039680"/>
                <a:gridCol w="1077840"/>
                <a:gridCol w="846360"/>
                <a:gridCol w="954000"/>
                <a:gridCol w="942840"/>
                <a:gridCol w="839880"/>
                <a:gridCol w="890640"/>
                <a:gridCol w="981000"/>
                <a:gridCol w="909720"/>
              </a:tblGrid>
              <a:tr h="51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сяц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нтябрь-Октябрь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ябр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ябрь-Декабр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кабр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Мар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р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прель-Ма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д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локи педагогического проце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й трениров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.-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й 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.-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.-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н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.-тре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оду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тверти в средней общеобр. школ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твер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611280" y="160920"/>
            <a:ext cx="79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бл. 2. Предложенная методика организации и проведения физкультурно-оздоровительных мероприятий в ГПД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052640"/>
          <a:ext cx="8424720" cy="6254640"/>
        </p:xfrm>
        <a:graphic>
          <a:graphicData uri="http://schemas.openxmlformats.org/drawingml/2006/table">
            <a:tbl>
              <a:tblPr/>
              <a:tblGrid>
                <a:gridCol w="1395360"/>
                <a:gridCol w="2179800"/>
                <a:gridCol w="1555560"/>
                <a:gridCol w="1573200"/>
                <a:gridCol w="1720800"/>
              </a:tblGrid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Сентябрь-октя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Ноябрь-декаб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Январь-ма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Апрель-ма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Бло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Задач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Бл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Дать понятие о ЗОЖ.  Определить мотивацию детей к занятиям физической культурой.  Выявить исходный уровень физической подготовленности учащихся. Содейств-ть формированию потребности в систематических занятиях физ.воспитание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Воспитание морально-волевых качеств детей.  Научить детей технике выполнения движений посредством  подвижных игр на свежем воздух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Выявить динамику развития физических качест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Совершенствование ранее изученного материала, обучение детей технике движ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Определить итоговый уровень развития физических качеств занимающихс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Дальнейшее совершенств-ие ранее изученного материал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225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Физк-оздор. мероприятия, в ГП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Анкетирование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Спортивный час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Тестирование физических качеств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Подвижные игры: «Пятнашки», «Охотники и утки», « веселые старты»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«Новогодние веселые старты»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Игры в снежки, «Снайперы», игры на лыжах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Повторное тестирование физических качеств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Игры на лыжах, катание на санках и др., спортивный ча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Итоговое тестирование физических качеств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Веселые старты, круговая эстафета, встречная эстафета и т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871560" y="1473120"/>
          <a:ext cx="7372440" cy="4415040"/>
        </p:xfrm>
        <a:graphic>
          <a:graphicData uri="http://schemas.openxmlformats.org/drawingml/2006/table">
            <a:tbl>
              <a:tblPr/>
              <a:tblGrid>
                <a:gridCol w="644400"/>
                <a:gridCol w="1720800"/>
                <a:gridCol w="2111400"/>
                <a:gridCol w="1422360"/>
                <a:gridCol w="1473480"/>
              </a:tblGrid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Тес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Эксперимент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Контрольная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(p&gt;0,05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Бег 30м, 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Прыжок 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длину с мест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1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1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5-ти мин бег, 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746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74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0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Челно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бег, 3х10м,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1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10199"/>
                          </a:solidFill>
                          <a:latin typeface="Tahoma"/>
                          <a:ea typeface="Times New Roman"/>
                        </a:rPr>
                        <a:t>0,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86"/>
          <p:cNvSpPr/>
          <p:nvPr/>
        </p:nvSpPr>
        <p:spPr>
          <a:xfrm>
            <a:off x="847800" y="549360"/>
            <a:ext cx="73962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Табл.3. Исходный уровень общей физической подготовлен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ладших школьник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1:07:49Z</dcterms:created>
  <dc:creator>Dr. Muller</dc:creator>
  <dc:description/>
  <dc:language>en-US</dc:language>
  <cp:lastModifiedBy>user</cp:lastModifiedBy>
  <dcterms:modified xsi:type="dcterms:W3CDTF">2017-02-13T13:10:34Z</dcterms:modified>
  <cp:revision>241</cp:revision>
  <dc:subject/>
  <dc:title>Презентация PowerPoint</dc:title>
</cp:coreProperties>
</file>