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B60C-4B86-44FD-8C30-60F982DF3E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B9C6-3402-401B-9B29-DF657405BF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C305-3D04-4F3F-B8C9-032B327540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E3A-1246-470E-89F0-28ADDD9E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3B45-D247-41C9-881B-0D49326B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FCA-955F-4EC1-A557-D3AD9A84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A96-0B5D-475B-9829-567BFDEF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351-0413-42C3-A062-1696C751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FED-ECC4-44FA-BAA9-47D61CFD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FD1-D146-4A30-85AB-C295554C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7B3-CDAF-480F-8F68-FA28D41F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E4EB-040F-4D34-B5CF-DE06B692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15C-A0FC-4A55-8547-6E5436A7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9F72-84A3-4A93-9A37-7A97546C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9CA-B7BC-4323-8167-6DAF06AB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5FB8-67DD-4C57-944D-024360F231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9" descr="post-3-13084143413170"/>
          <p:cNvPicPr/>
          <p:nvPr/>
        </p:nvPicPr>
        <p:blipFill>
          <a:blip r:embed="rId1"/>
          <a:stretch/>
        </p:blipFill>
        <p:spPr>
          <a:xfrm>
            <a:off x="0" y="0"/>
            <a:ext cx="103330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Приветствуем вас на борту самолета!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красивая мелодия - просто спокойная мелодия))))).mp3" descr=""/>
          <p:cNvPicPr/>
          <p:nvPr/>
        </p:nvPicPr>
        <p:blipFill>
          <a:blip r:embed="rId2"/>
          <a:stretch/>
        </p:blipFill>
        <p:spPr>
          <a:xfrm>
            <a:off x="304920" y="6235560"/>
            <a:ext cx="59508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0_643ad_a6f7ad3b_XL"/>
          <p:cNvPicPr/>
          <p:nvPr/>
        </p:nvPicPr>
        <p:blipFill>
          <a:blip r:embed="rId1"/>
          <a:stretch/>
        </p:blipFill>
        <p:spPr>
          <a:xfrm>
            <a:off x="0" y="0"/>
            <a:ext cx="103330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4 конкурсное испытание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1116000" y="1557360"/>
            <a:ext cx="705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«Кто, в чем силен» 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0" y="2852640"/>
            <a:ext cx="5219640" cy="339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мственный труд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3348000" y="3679920"/>
            <a:ext cx="5545080" cy="31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изический труд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5" descr=""/>
          <p:cNvPicPr/>
          <p:nvPr/>
        </p:nvPicPr>
        <p:blipFill>
          <a:blip r:embed="rId1"/>
          <a:stretch/>
        </p:blipFill>
        <p:spPr>
          <a:xfrm>
            <a:off x="109440" y="0"/>
            <a:ext cx="8858520" cy="7063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0" y="8366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исатель, бухгалтер, учитель, экскурсовод, актёр, библиотекарь, врач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Прямоугольник 8" descr=""/>
          <p:cNvPicPr/>
          <p:nvPr/>
        </p:nvPicPr>
        <p:blipFill>
          <a:blip r:embed="rId2"/>
          <a:stretch/>
        </p:blipFill>
        <p:spPr>
          <a:xfrm>
            <a:off x="176040" y="2773440"/>
            <a:ext cx="8791920" cy="7081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9"/>
          <p:cNvSpPr/>
          <p:nvPr/>
        </p:nvSpPr>
        <p:spPr>
          <a:xfrm>
            <a:off x="117360" y="340668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окарь, строитель, фермер, водитель, портной, сапожник, спасател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2-sukhoi"/>
          <p:cNvPicPr/>
          <p:nvPr/>
        </p:nvPicPr>
        <p:blipFill>
          <a:blip r:embed="rId1"/>
          <a:stretch/>
        </p:blipFill>
        <p:spPr>
          <a:xfrm>
            <a:off x="-1585800" y="-652320"/>
            <a:ext cx="10729800" cy="7510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941c"/>
                </a:solidFill>
                <a:latin typeface="Arial"/>
              </a:rPr>
              <a:t>5 конкурсное испытание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684360" y="2637000"/>
            <a:ext cx="8135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Он – Она»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468360" y="47628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а -  балерина, он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-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4643280" y="476280"/>
            <a:ext cx="36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нцовщ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458640" y="1125360"/>
            <a:ext cx="44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а -  медсестра, он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859280" y="1125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бр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68360" y="177336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гимнаст - , она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4211640" y="1757520"/>
            <a:ext cx="22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мнас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468360" y="2421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поэт - , она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3635280" y="24210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эте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468360" y="306864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повар - , она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3924360" y="3068640"/>
            <a:ext cx="14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468360" y="372276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портной - , она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4427640" y="3726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тни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468360" y="436572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а доктор - , он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4067280" y="4365720"/>
            <a:ext cx="19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2-sukhoi"/>
          <p:cNvPicPr/>
          <p:nvPr/>
        </p:nvPicPr>
        <p:blipFill>
          <a:blip r:embed="rId1"/>
          <a:stretch/>
        </p:blipFill>
        <p:spPr>
          <a:xfrm>
            <a:off x="-1585800" y="-652320"/>
            <a:ext cx="10729800" cy="7510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941c"/>
                </a:solidFill>
                <a:latin typeface="Arial"/>
              </a:rPr>
              <a:t>6 конкурсное испытание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755640" y="2637000"/>
            <a:ext cx="7993080" cy="39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600"/>
                    </a:gs>
                    <a:gs pos="5000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Покажи профессию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600"/>
                  </a:gs>
                  <a:gs pos="5000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324000" y="40464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7 конкурсное испытани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Прямоугольник 4" descr=""/>
          <p:cNvPicPr/>
          <p:nvPr/>
        </p:nvPicPr>
        <p:blipFill>
          <a:blip r:embed="rId2"/>
          <a:stretch/>
        </p:blipFill>
        <p:spPr>
          <a:xfrm>
            <a:off x="237960" y="3975120"/>
            <a:ext cx="805824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755640" y="5493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ст «Ты и твоя професси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2" descr=""/>
          <p:cNvPicPr/>
          <p:nvPr/>
        </p:nvPicPr>
        <p:blipFill>
          <a:blip r:embed="rId1"/>
          <a:stretch/>
        </p:blipFill>
        <p:spPr>
          <a:xfrm>
            <a:off x="971640" y="1257480"/>
            <a:ext cx="720072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3"/>
          <p:cNvSpPr/>
          <p:nvPr/>
        </p:nvSpPr>
        <p:spPr>
          <a:xfrm>
            <a:off x="2286000" y="-20993040"/>
            <a:ext cx="4572000" cy="171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Й ТИП: 6-8 треугольников – тип руководителя, хорошие преподаватели. Ярко выражено стремление к лидерству, хорошо разбираются в людях, работают с информац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ОРОЙ ТИП: 5 треугольников. Ответственный исполнитель, хорошие организаторские способности. Профессионал, до мелочей продумывающий свою дея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ЕТИЙ ТИП: 4 треугольника. Разнообразие интересов и талантов. Склонность к индивидуальной рабо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ТВЕРТЫЙ ТИП 3 треугольника. Тип ученого. Рационален, объективен, легко переключается с одного вида деятельности на друг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ЯТЫЙ ТИП 2 треугольника. Интерес к искусству и человеку. Тонко чувствует все новое и необычн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СТОЙ ТИП 1 треугольник. Изобретатель, конструктор, художник. Обладает богатым воображе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611280" y="260280"/>
            <a:ext cx="835344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ТИП: 6-8 треугольников – тип руководителя, хорошие преподаватели. Ярко выражено стремление к лидерству, хорошо разбираются в людях, работают с информацие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ТИП: 5 треугольников. Ответственный исполнитель, хорошие организаторские способности. Профессионал, до мелочей продумывающий свою деятельность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ИЙ ТИП: 4 треугольника. Разнообразие интересов и талантов. Склонность к индивидуальной работ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ТВЕРТЫЙ ТИП 3 треугольника. Тип ученого. Рационален, объективен, легко переключается с одного вида деятельности на друго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ЯТЫЙ ТИП 2 треугольника. Интерес к искусству и человеку. Тонко чувствует все новое и необычно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СТОЙ ТИП 1 треугольник. Изобретатель, конструктор, художник. Обладает богатым воображение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5" descr=""/>
          <p:cNvPicPr/>
          <p:nvPr/>
        </p:nvPicPr>
        <p:blipFill>
          <a:blip r:embed="rId1"/>
          <a:stretch/>
        </p:blipFill>
        <p:spPr>
          <a:xfrm>
            <a:off x="7236000" y="3068640"/>
            <a:ext cx="93636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941c"/>
                </a:solidFill>
                <a:latin typeface="Arial"/>
              </a:rPr>
              <a:t>Идем на посадку!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" name="Picture 4" descr="1047930"/>
          <p:cNvPicPr/>
          <p:nvPr/>
        </p:nvPicPr>
        <p:blipFill>
          <a:blip r:embed="rId1"/>
          <a:stretch/>
        </p:blipFill>
        <p:spPr>
          <a:xfrm>
            <a:off x="900000" y="1341360"/>
            <a:ext cx="7417080" cy="5194440"/>
          </a:xfrm>
          <a:prstGeom prst="rect">
            <a:avLst/>
          </a:prstGeom>
          <a:ln w="0">
            <a:noFill/>
          </a:ln>
        </p:spPr>
      </p:pic>
      <p:pic>
        <p:nvPicPr>
          <p:cNvPr id="134" name="Звук самолета – Посадка (www.petamusic.ru).mp3" descr=""/>
          <p:cNvPicPr/>
          <p:nvPr/>
        </p:nvPicPr>
        <p:blipFill>
          <a:blip r:embed="rId2"/>
          <a:stretch/>
        </p:blipFill>
        <p:spPr>
          <a:xfrm>
            <a:off x="900000" y="6093000"/>
            <a:ext cx="46044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5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3045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0" y="549360"/>
            <a:ext cx="90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d45"/>
                </a:solidFill>
                <a:latin typeface="Arial"/>
              </a:rPr>
              <a:t>Зелёный- занятие прошло удачно. Я доволен собой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0" y="1989000"/>
            <a:ext cx="867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Жёлтый- мне было трудно, но я справлялся с заданиями. Я вполне доволен собой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0" y="3860640"/>
            <a:ext cx="85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Красный- мне было очень трудно. Мне требовалась помощь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941c"/>
                </a:solidFill>
                <a:latin typeface="Arial"/>
              </a:rPr>
              <a:t>Взлетаем !!!!!!!!!!!!!!!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4" descr="1047930"/>
          <p:cNvPicPr/>
          <p:nvPr/>
        </p:nvPicPr>
        <p:blipFill>
          <a:blip r:embed="rId1"/>
          <a:stretch/>
        </p:blipFill>
        <p:spPr>
          <a:xfrm>
            <a:off x="793800" y="1413000"/>
            <a:ext cx="7526160" cy="5271840"/>
          </a:xfrm>
          <a:prstGeom prst="rect">
            <a:avLst/>
          </a:prstGeom>
          <a:ln w="0">
            <a:noFill/>
          </a:ln>
        </p:spPr>
      </p:pic>
      <p:pic>
        <p:nvPicPr>
          <p:cNvPr id="53" name="Звук самолета – The New Life (www.petamusic.ru).mp3" descr=""/>
          <p:cNvPicPr/>
          <p:nvPr/>
        </p:nvPicPr>
        <p:blipFill>
          <a:blip r:embed="rId2"/>
          <a:stretch/>
        </p:blipFill>
        <p:spPr>
          <a:xfrm>
            <a:off x="971640" y="6237360"/>
            <a:ext cx="4474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27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16682302"/>
          <p:cNvPicPr/>
          <p:nvPr/>
        </p:nvPicPr>
        <p:blipFill>
          <a:blip r:embed="rId1"/>
          <a:stretch/>
        </p:blipFill>
        <p:spPr>
          <a:xfrm>
            <a:off x="179280" y="692280"/>
            <a:ext cx="8763120" cy="3429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3360" y="4437000"/>
            <a:ext cx="854064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«Выбор профессии – выбор будущего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0_643ad_a6f7ad3b_XL"/>
          <p:cNvPicPr/>
          <p:nvPr/>
        </p:nvPicPr>
        <p:blipFill>
          <a:blip r:embed="rId1"/>
          <a:stretch/>
        </p:blipFill>
        <p:spPr>
          <a:xfrm>
            <a:off x="0" y="0"/>
            <a:ext cx="103330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7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Полет в мир профессий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-360" y="1700280"/>
            <a:ext cx="1011708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«Выбор профессии –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выбор будущего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2268360" y="442800"/>
            <a:ext cx="4751640" cy="5362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Записанный звук" descr=""/>
          <p:cNvPicPr/>
          <p:nvPr/>
        </p:nvPicPr>
        <p:blipFill>
          <a:blip r:embed="rId2"/>
          <a:stretch/>
        </p:blipFill>
        <p:spPr>
          <a:xfrm>
            <a:off x="324000" y="62355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28c22911677b"/>
          <p:cNvPicPr/>
          <p:nvPr/>
        </p:nvPicPr>
        <p:blipFill>
          <a:blip r:embed="rId1"/>
          <a:stretch/>
        </p:blipFill>
        <p:spPr>
          <a:xfrm>
            <a:off x="5305320" y="1341360"/>
            <a:ext cx="3838680" cy="2941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1 конкурсное  испытание   «Анаграммы-профессионалы»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вач -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рка -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улон -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рля -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вдотка -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омат + голос -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редитор -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ра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к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лоу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ля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двок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оматоло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ирект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есси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это ограниченная область трудовой деятельности, сформированная на основе разделения труда, требующая обладания необходимыми теоретическими и практическими знаниями, которые приобретаются в результате специальной профессиональной подготов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24000" y="3213000"/>
            <a:ext cx="854064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ять типов професс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– челове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– природ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– техни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– художественный образ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– знаковая система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28c22911677b"/>
          <p:cNvPicPr/>
          <p:nvPr/>
        </p:nvPicPr>
        <p:blipFill>
          <a:blip r:embed="rId1"/>
          <a:stretch/>
        </p:blipFill>
        <p:spPr>
          <a:xfrm>
            <a:off x="5305320" y="2997360"/>
            <a:ext cx="38386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2 конкурсное испытание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 «Начни пословицу»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788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то не работае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Делу - врем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Умелые ру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акие труд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Труд человека корми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то любит труд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Хочешь есть калач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2920" y="1699920"/>
            <a:ext cx="51087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т не ес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техе – час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знают ску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кие плод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лень порти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го люди чтут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сиди на печ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2-sukhoi"/>
          <p:cNvPicPr/>
          <p:nvPr/>
        </p:nvPicPr>
        <p:blipFill>
          <a:blip r:embed="rId1"/>
          <a:stretch/>
        </p:blipFill>
        <p:spPr>
          <a:xfrm>
            <a:off x="-1585800" y="-652320"/>
            <a:ext cx="10729800" cy="7510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941c"/>
                </a:solidFill>
                <a:latin typeface="Arial"/>
              </a:rPr>
              <a:t>3 конкурсное испытание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179280" y="1530360"/>
            <a:ext cx="8964720" cy="53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рофессии - синонимы" 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755640" y="62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дагог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4356000" y="62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755640" y="1144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ач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4356000" y="11444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т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739800" y="17287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оматолог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356000" y="1728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убной вра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755640" y="23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тниха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4356000" y="2313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ве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755640" y="28954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орож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4356000" y="28353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хран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755640" y="3419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ётчик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4356000" y="3419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ил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739800" y="394344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офёр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4356000" y="39434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ди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739800" y="446580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лкипер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16"/>
          <p:cNvSpPr/>
          <p:nvPr/>
        </p:nvSpPr>
        <p:spPr>
          <a:xfrm>
            <a:off x="4356000" y="44658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атар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755640" y="49849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дат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18"/>
          <p:cNvSpPr/>
          <p:nvPr/>
        </p:nvSpPr>
        <p:spPr>
          <a:xfrm>
            <a:off x="4356000" y="49849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19"/>
          <p:cNvSpPr/>
          <p:nvPr/>
        </p:nvSpPr>
        <p:spPr>
          <a:xfrm>
            <a:off x="755640" y="5508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рговец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4356000" y="550872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аве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1"/>
          <p:cNvSpPr/>
          <p:nvPr/>
        </p:nvSpPr>
        <p:spPr>
          <a:xfrm>
            <a:off x="739800" y="609588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двокат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22"/>
          <p:cNvSpPr/>
          <p:nvPr/>
        </p:nvSpPr>
        <p:spPr>
          <a:xfrm>
            <a:off x="4356000" y="6093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щитни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Рисунок 23" descr=""/>
          <p:cNvPicPr/>
          <p:nvPr/>
        </p:nvPicPr>
        <p:blipFill>
          <a:blip r:embed="rId1"/>
          <a:stretch/>
        </p:blipFill>
        <p:spPr>
          <a:xfrm>
            <a:off x="6954840" y="146160"/>
            <a:ext cx="184464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9:25:08Z</dcterms:created>
  <dc:creator>Admin</dc:creator>
  <dc:description/>
  <dc:language>en-US</dc:language>
  <cp:lastModifiedBy>Пользователь</cp:lastModifiedBy>
  <dcterms:modified xsi:type="dcterms:W3CDTF">2017-01-29T16:57:14Z</dcterms:modified>
  <cp:revision>55</cp:revision>
  <dc:subject/>
  <dc:title>Приветствуем вас на борту самолета!</dc:title>
</cp:coreProperties>
</file>