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E14-C8AD-44A6-8FD0-972446DF8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DC36-C67F-4ADB-9EAF-F8DD588F8E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DB8-9D05-4F33-BEBE-6FA0FF6F0A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838-1230-4D0E-AD2C-6C5F6789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7A0-03F0-4BA4-9453-E489AF09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BE9-BAF1-483C-B495-2AAC1161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E15-456F-4F7B-BF3E-288BC128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69B-2374-4A46-8223-806DF581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754-37EF-4FD2-8EE2-77615ABD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680-CDCB-4E7F-AA56-62494267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25E-B29F-45F3-A5DD-A43F5749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910-DA7C-40FD-B972-F13B9DA9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EFF-C60C-4485-B063-01915502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8C8-7B9D-4235-A1E0-1697990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537-9A73-463E-9AF9-106D2309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1329-AD72-4FFE-AAF3-A97C1BE1F7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9" descr="post-3-13084143413170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Приветствуем вас на борту самолета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красивая мелодия - просто спокойная мелодия))))).mp3" descr=""/>
          <p:cNvPicPr/>
          <p:nvPr/>
        </p:nvPicPr>
        <p:blipFill>
          <a:blip r:embed="rId2"/>
          <a:stretch/>
        </p:blipFill>
        <p:spPr>
          <a:xfrm>
            <a:off x="304920" y="6235560"/>
            <a:ext cx="59508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0_643ad_a6f7ad3b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4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16000" y="1557360"/>
            <a:ext cx="70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Кто, в чем силен» 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0" y="2852640"/>
            <a:ext cx="5219640" cy="33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мственный тру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3348000" y="3679920"/>
            <a:ext cx="5545080" cy="31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ческий тру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5" descr=""/>
          <p:cNvPicPr/>
          <p:nvPr/>
        </p:nvPicPr>
        <p:blipFill>
          <a:blip r:embed="rId1"/>
          <a:stretch/>
        </p:blipFill>
        <p:spPr>
          <a:xfrm>
            <a:off x="109440" y="0"/>
            <a:ext cx="8858520" cy="706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0" y="836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исатель, бухгалтер, учитель, экскурсовод, актёр, библиотекарь, врач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2"/>
          <a:stretch/>
        </p:blipFill>
        <p:spPr>
          <a:xfrm>
            <a:off x="176040" y="2773440"/>
            <a:ext cx="8791920" cy="708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117360" y="340668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карь, строитель, фермер, водитель, портной, сапожник, спасате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2-sukhoi"/>
          <p:cNvPicPr/>
          <p:nvPr/>
        </p:nvPicPr>
        <p:blipFill>
          <a:blip r:embed="rId1"/>
          <a:stretch/>
        </p:blipFill>
        <p:spPr>
          <a:xfrm>
            <a:off x="-1585800" y="-652320"/>
            <a:ext cx="10729800" cy="751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5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684360" y="2637000"/>
            <a:ext cx="8135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н – Она»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8360" y="47628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-  балерина, он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643280" y="476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цов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58640" y="112536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-  медсестра, он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859280" y="1125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б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8360" y="1773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гимнаст - , она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211640" y="175752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68360" y="24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эт - , он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635280" y="2421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68360" y="3068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вар - , он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3924360" y="306864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68360" y="372276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портной - , он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427640" y="3726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ни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68360" y="43657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доктор - , он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4067280" y="4365720"/>
            <a:ext cx="19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2-sukhoi"/>
          <p:cNvPicPr/>
          <p:nvPr/>
        </p:nvPicPr>
        <p:blipFill>
          <a:blip r:embed="rId1"/>
          <a:stretch/>
        </p:blipFill>
        <p:spPr>
          <a:xfrm>
            <a:off x="-1585800" y="-652320"/>
            <a:ext cx="10729800" cy="7510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6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755640" y="2637000"/>
            <a:ext cx="7993080" cy="39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Покажи профессию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324000" y="40464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7 конкурсное испыта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2"/>
          <a:stretch/>
        </p:blipFill>
        <p:spPr>
          <a:xfrm>
            <a:off x="237960" y="3975120"/>
            <a:ext cx="80582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55640" y="54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ст «Ты и твоя професс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2" descr=""/>
          <p:cNvPicPr/>
          <p:nvPr/>
        </p:nvPicPr>
        <p:blipFill>
          <a:blip r:embed="rId1"/>
          <a:stretch/>
        </p:blipFill>
        <p:spPr>
          <a:xfrm>
            <a:off x="971640" y="1257480"/>
            <a:ext cx="72007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2286000" y="-20993040"/>
            <a:ext cx="4572000" cy="171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ТИП: 6-8 треугольников – тип руководителя, хорошие преподаватели. Ярко выражено стремление к лидерству, хорошо разбираются в людях, работают с информа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Й ТИП: 5 треугольников. Ответственный исполнитель, хорошие организаторские способности. Профессионал, до мелочей продумывающий сво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ТИЙ ТИП: 4 треугольника. Разнообразие интересов и талантов. Склонность к индивидуальной раб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ТВЕРТЫЙ ТИП 3 треугольника. Тип ученого. Рационален, объективен, легко переключается с одного вида деятельности на дру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ЯТЫЙ ТИП 2 треугольника. Интерес к искусству и человеку. Тонко чувствует все новое и необыч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СТОЙ ТИП 1 треугольник. Изобретатель, конструктор, художник. Обладает богатым воображ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11280" y="260280"/>
            <a:ext cx="835344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ТИП: 6-8 треугольников – тип руководителя, хорошие преподаватели. Ярко выражено стремление к лидерству, хорошо разбираются в людях, работают с информаци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ТИП: 5 треугольников. Ответственный исполнитель, хорошие организаторские способности. Профессионал, до мелочей продумывающий свою деятельно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ИЙ ТИП: 4 треугольника. Разнообразие интересов и талантов. Склонность к индивидуальной рабо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ЕРТЫЙ ТИП 3 треугольника. Тип ученого. Рационален, объективен, легко переключается с одного вида деятельности на друг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ЯТЫЙ ТИП 2 треугольника. Интерес к искусству и человеку. Тонко чувствует все новое и необычно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ОЙ ТИП 1 треугольник. Изобретатель, конструктор, художник. Обладает богатым воображ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5" descr=""/>
          <p:cNvPicPr/>
          <p:nvPr/>
        </p:nvPicPr>
        <p:blipFill>
          <a:blip r:embed="rId1"/>
          <a:stretch/>
        </p:blipFill>
        <p:spPr>
          <a:xfrm>
            <a:off x="7236000" y="3068640"/>
            <a:ext cx="9363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Идем на посадку!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1047930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194440"/>
          </a:xfrm>
          <a:prstGeom prst="rect">
            <a:avLst/>
          </a:prstGeom>
          <a:ln w="0">
            <a:noFill/>
          </a:ln>
        </p:spPr>
      </p:pic>
      <p:pic>
        <p:nvPicPr>
          <p:cNvPr id="134" name="Звук самолета – Посадка (www.petamusic.ru).mp3" descr=""/>
          <p:cNvPicPr/>
          <p:nvPr/>
        </p:nvPicPr>
        <p:blipFill>
          <a:blip r:embed="rId2"/>
          <a:stretch/>
        </p:blipFill>
        <p:spPr>
          <a:xfrm>
            <a:off x="900000" y="6093000"/>
            <a:ext cx="4604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304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0" y="54936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d45"/>
                </a:solidFill>
                <a:latin typeface="Arial"/>
              </a:rPr>
              <a:t>Зелёный- занятие прошло удачно. Я доволен собо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198900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ёлтый- мне было трудно, но я справлялся с заданиями. Я вполне доволен собой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0" y="3860640"/>
            <a:ext cx="85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расный- мне было очень трудно. Мне требовалась помощ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Взлетаем !!!!!!!!!!!!!!!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1047930"/>
          <p:cNvPicPr/>
          <p:nvPr/>
        </p:nvPicPr>
        <p:blipFill>
          <a:blip r:embed="rId1"/>
          <a:stretch/>
        </p:blipFill>
        <p:spPr>
          <a:xfrm>
            <a:off x="793800" y="1413000"/>
            <a:ext cx="7526160" cy="5271840"/>
          </a:xfrm>
          <a:prstGeom prst="rect">
            <a:avLst/>
          </a:prstGeom>
          <a:ln w="0">
            <a:noFill/>
          </a:ln>
        </p:spPr>
      </p:pic>
      <p:pic>
        <p:nvPicPr>
          <p:cNvPr id="53" name="Звук самолета – The New Life (www.petamusic.ru).mp3" descr=""/>
          <p:cNvPicPr/>
          <p:nvPr/>
        </p:nvPicPr>
        <p:blipFill>
          <a:blip r:embed="rId2"/>
          <a:stretch/>
        </p:blipFill>
        <p:spPr>
          <a:xfrm>
            <a:off x="971640" y="623736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7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16682302"/>
          <p:cNvPicPr/>
          <p:nvPr/>
        </p:nvPicPr>
        <p:blipFill>
          <a:blip r:embed="rId1"/>
          <a:stretch/>
        </p:blipFill>
        <p:spPr>
          <a:xfrm>
            <a:off x="179280" y="692280"/>
            <a:ext cx="876312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3360" y="4437000"/>
            <a:ext cx="854064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Выбор профессии – выбор будущего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_643ad_a6f7ad3b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Полет в мир профессий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1700280"/>
            <a:ext cx="101170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«Выбор профессии –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выбор будущего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2268360" y="442800"/>
            <a:ext cx="4751640" cy="536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324000" y="62355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8c22911677b"/>
          <p:cNvPicPr/>
          <p:nvPr/>
        </p:nvPicPr>
        <p:blipFill>
          <a:blip r:embed="rId1"/>
          <a:stretch/>
        </p:blipFill>
        <p:spPr>
          <a:xfrm>
            <a:off x="5305320" y="1341360"/>
            <a:ext cx="3838680" cy="2941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1 конкурсное  испытание   «Анаграммы-профессионалы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вач -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рка -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лон -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рля -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вдотка -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омат + голос -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едитор -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а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к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оу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ля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дво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оматоло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ре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граниченная область трудовой деятельности, сформированная на основе разделения труда, требующая обладания необходимыми теоретическими и практическими знаниями, которые приобретаются в результате специальной профессиональной подгото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24000" y="3213000"/>
            <a:ext cx="854064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ять типов професс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челов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приро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техни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художественный обра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– знаковая систем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28c22911677b"/>
          <p:cNvPicPr/>
          <p:nvPr/>
        </p:nvPicPr>
        <p:blipFill>
          <a:blip r:embed="rId1"/>
          <a:stretch/>
        </p:blipFill>
        <p:spPr>
          <a:xfrm>
            <a:off x="5305320" y="2997360"/>
            <a:ext cx="3838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2 конкурсное испытание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«Начни пословицу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788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не работае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елу - врем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Умелые ру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акие тру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руд человека корм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то любит тру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Хочешь есть кал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5108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т не ес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ехе – ча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знают ску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е пло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лень порти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го люди чтут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иди на печ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2-sukhoi"/>
          <p:cNvPicPr/>
          <p:nvPr/>
        </p:nvPicPr>
        <p:blipFill>
          <a:blip r:embed="rId1"/>
          <a:stretch/>
        </p:blipFill>
        <p:spPr>
          <a:xfrm>
            <a:off x="-1585800" y="-652320"/>
            <a:ext cx="10729800" cy="7510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941c"/>
                </a:solidFill>
                <a:latin typeface="Arial"/>
              </a:rPr>
              <a:t>3 конкурсное испытание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79280" y="1530360"/>
            <a:ext cx="8964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рофессии - синонимы"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755640" y="62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4356000" y="62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55640" y="1144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ч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356000" y="11444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т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39800" y="1728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матолог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356000" y="1728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убной вр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55640" y="23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тних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356000" y="231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в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55640" y="28954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рож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356000" y="2835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55640" y="3419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ётчик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356000" y="3419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739800" y="39434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офёр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356000" y="39434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739800" y="446580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кипер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4356000" y="44658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т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55640" y="4984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дат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4356000" y="4984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755640" y="5508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говец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4356000" y="5508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в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739800" y="609588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вокат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2"/>
          <p:cNvSpPr/>
          <p:nvPr/>
        </p:nvSpPr>
        <p:spPr>
          <a:xfrm>
            <a:off x="4356000" y="609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23" descr=""/>
          <p:cNvPicPr/>
          <p:nvPr/>
        </p:nvPicPr>
        <p:blipFill>
          <a:blip r:embed="rId1"/>
          <a:stretch/>
        </p:blipFill>
        <p:spPr>
          <a:xfrm>
            <a:off x="6954840" y="146160"/>
            <a:ext cx="18446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9:25:08Z</dcterms:created>
  <dc:creator>Admin</dc:creator>
  <dc:description/>
  <dc:language>en-US</dc:language>
  <cp:lastModifiedBy>Пользователь</cp:lastModifiedBy>
  <dcterms:modified xsi:type="dcterms:W3CDTF">2017-01-29T16:57:14Z</dcterms:modified>
  <cp:revision>55</cp:revision>
  <dc:subject/>
  <dc:title>Приветствуем вас на борту самолета!</dc:title>
</cp:coreProperties>
</file>