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8F3-EA82-41E9-AB20-F7E5BD64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E48-9EC0-4F00-83A4-8A819C04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F03-6EC7-4F56-8A15-A2AE3B55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BBB-0922-48BD-98EE-EE3048E9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0F5-0875-44F7-A2D3-97EDD60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47F-CE53-4DEE-834E-673667D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681-120A-4F78-A5EA-B6FE21F0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4F8-3155-4CB6-B0CB-80555F2D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65B-43B8-418F-936E-72AE35B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D7B-0D94-4316-8CAA-F7AA46B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63D-713D-488C-AD68-BC3F018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C514-8A15-4B09-B9EE-DBB9B51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35B-9EC3-44BF-9F35-B715F8165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езентация для родителей : «Задачи развития детей  группы раннего возраста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ируемые результат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воения програм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 развит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может совершать прыжки на месте на двух ногах и прыжки в длину с места, влезть на две перекладины гимнастической стенки с помощью взрослого, ходить с перешагиванием через предметы, бросать мяч в горизонтальную цель, расположенную на расстоянии 1 метр, сначала одной потом другой рукой, повторять вслед за взрослым простые дви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желанием участв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уемой взросл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иг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user\Desktop\IMG_4142.JPG"/>
          <p:cNvPicPr/>
          <p:nvPr/>
        </p:nvPicPr>
        <p:blipFill>
          <a:blip r:embed="rId1"/>
          <a:stretch/>
        </p:blipFill>
        <p:spPr>
          <a:xfrm>
            <a:off x="4214880" y="3929040"/>
            <a:ext cx="435780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Ребёнок уме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 мыть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тирать руки, пользова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алфеткой и носовы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латком , хотя не всег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может получа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ловко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ккурат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2" descr="C:\Users\user\Desktop\IMG_4156.JPG"/>
          <p:cNvPicPr/>
          <p:nvPr/>
        </p:nvPicPr>
        <p:blipFill>
          <a:blip r:embed="rId1"/>
          <a:stretch/>
        </p:blipFill>
        <p:spPr>
          <a:xfrm>
            <a:off x="5000760" y="357120"/>
            <a:ext cx="3767040" cy="450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Новая папка\IMG_4163.JPG"/>
          <p:cNvPicPr/>
          <p:nvPr/>
        </p:nvPicPr>
        <p:blipFill>
          <a:blip r:embed="rId2"/>
          <a:stretch/>
        </p:blipFill>
        <p:spPr>
          <a:xfrm>
            <a:off x="2143080" y="2513160"/>
            <a:ext cx="3402000" cy="434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ьно- 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ёнок принимает участие в коллективных играх, принимает условия игры, знает правила поведения и элементарные нормы, умеет адекватно реагировать на запрет, с радостью принимает похвал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ет симпатию к окружающи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ытывает потребность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сти, осознаё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ю гендерную принадлежност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IMG_4148.JPG"/>
          <p:cNvPicPr/>
          <p:nvPr/>
        </p:nvPicPr>
        <p:blipFill>
          <a:blip r:embed="rId1"/>
          <a:stretch/>
        </p:blipFill>
        <p:spPr>
          <a:xfrm rot="6540000">
            <a:off x="5487120" y="349164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user\Desktop\IMG_4147.JPG"/>
          <p:cNvPicPr/>
          <p:nvPr/>
        </p:nvPicPr>
        <p:blipFill>
          <a:blip r:embed="rId1"/>
          <a:stretch/>
        </p:blipFill>
        <p:spPr>
          <a:xfrm>
            <a:off x="214200" y="28584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user\Desktop\IMG_4138.JPG"/>
          <p:cNvPicPr/>
          <p:nvPr/>
        </p:nvPicPr>
        <p:blipFill>
          <a:blip r:embed="rId2"/>
          <a:stretch/>
        </p:blipFill>
        <p:spPr>
          <a:xfrm>
            <a:off x="3714840" y="500040"/>
            <a:ext cx="3659040" cy="357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IMG_4153.JPG"/>
          <p:cNvPicPr/>
          <p:nvPr/>
        </p:nvPicPr>
        <p:blipFill>
          <a:blip r:embed="rId3"/>
          <a:stretch/>
        </p:blipFill>
        <p:spPr>
          <a:xfrm>
            <a:off x="357120" y="3786120"/>
            <a:ext cx="3214800" cy="26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user\Desktop\IMG0176A.jpg"/>
          <p:cNvPicPr/>
          <p:nvPr/>
        </p:nvPicPr>
        <p:blipFill>
          <a:blip r:embed="rId4"/>
          <a:stretch/>
        </p:blipFill>
        <p:spPr>
          <a:xfrm>
            <a:off x="6357960" y="3611520"/>
            <a:ext cx="2523960" cy="324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ет навыками самообслуживания в соответствии с возрасто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4" descr="C:\Users\user\Desktop\Новая папка\IMG_4165.JPG"/>
          <p:cNvPicPr/>
          <p:nvPr/>
        </p:nvPicPr>
        <p:blipFill>
          <a:blip r:embed="rId1"/>
          <a:stretch/>
        </p:blipFill>
        <p:spPr>
          <a:xfrm>
            <a:off x="2286000" y="1928880"/>
            <a:ext cx="614376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вате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дуктивная (конструктивная)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азличает основные формы деталей строительного матери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взрослого сооружает разнообразные постройки, используя большинство форм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орачивает игру вок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ственной  постройк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user\Desktop\IMG_4154.JPG"/>
          <p:cNvPicPr/>
          <p:nvPr/>
        </p:nvPicPr>
        <p:blipFill>
          <a:blip r:embed="rId1"/>
          <a:stretch/>
        </p:blipFill>
        <p:spPr>
          <a:xfrm rot="6027000">
            <a:off x="3521520" y="2828160"/>
            <a:ext cx="4041720" cy="335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рмирование элементарных математических представл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Может образовать группу из однородных предметов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один и много предметов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большие и малень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меты, называет их размер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user\Desktop\IMG_4126.JPG"/>
          <p:cNvPicPr/>
          <p:nvPr/>
        </p:nvPicPr>
        <p:blipFill>
          <a:blip r:embed="rId1"/>
          <a:stretch/>
        </p:blipFill>
        <p:spPr>
          <a:xfrm rot="5658000">
            <a:off x="4995360" y="2423880"/>
            <a:ext cx="4356360" cy="331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user\Desktop\Новая папка\IMG_4161.JPG"/>
          <p:cNvPicPr/>
          <p:nvPr/>
        </p:nvPicPr>
        <p:blipFill>
          <a:blip r:embed="rId2"/>
          <a:stretch/>
        </p:blipFill>
        <p:spPr>
          <a:xfrm>
            <a:off x="1500120" y="2714760"/>
            <a:ext cx="3214800" cy="37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рмирование целостной картины ми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азличает и называет предметы ближайшего окружен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 имена членов своей семьи и воспитател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нает и называет некоторых домашних и диких животных, их детеныш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некоторые овощи, фрукт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ет некоторые деревья ближайшего окруж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элементарные представления о природных сезонных явлениях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Picture 2" descr="C:\Users\user\Desktop\IMG_4137.JPG"/>
          <p:cNvPicPr/>
          <p:nvPr/>
        </p:nvPicPr>
        <p:blipFill>
          <a:blip r:embed="rId1"/>
          <a:stretch/>
        </p:blipFill>
        <p:spPr>
          <a:xfrm rot="758400">
            <a:off x="4924080" y="3278160"/>
            <a:ext cx="3524400" cy="2960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esktop\IMG_4130.JPG"/>
          <p:cNvPicPr/>
          <p:nvPr/>
        </p:nvPicPr>
        <p:blipFill>
          <a:blip r:embed="rId2"/>
          <a:stretch/>
        </p:blipFill>
        <p:spPr>
          <a:xfrm rot="4285200">
            <a:off x="607320" y="3430440"/>
            <a:ext cx="3143160" cy="2940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14800" y="285480"/>
            <a:ext cx="56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Новая папка\IMG_4077.JPG"/>
          <p:cNvPicPr/>
          <p:nvPr/>
        </p:nvPicPr>
        <p:blipFill>
          <a:blip r:embed="rId1"/>
          <a:stretch/>
        </p:blipFill>
        <p:spPr>
          <a:xfrm>
            <a:off x="281160" y="208080"/>
            <a:ext cx="2852640" cy="308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user\Desktop\мамино\проект фото (2)\IMG_4068.JPG"/>
          <p:cNvPicPr/>
          <p:nvPr/>
        </p:nvPicPr>
        <p:blipFill>
          <a:blip r:embed="rId2"/>
          <a:stretch/>
        </p:blipFill>
        <p:spPr>
          <a:xfrm>
            <a:off x="993600" y="3492360"/>
            <a:ext cx="2724480" cy="265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user\Desktop\мамино\проект фото (2)\IMG_4062.JPG"/>
          <p:cNvPicPr/>
          <p:nvPr/>
        </p:nvPicPr>
        <p:blipFill>
          <a:blip r:embed="rId3"/>
          <a:stretch/>
        </p:blipFill>
        <p:spPr>
          <a:xfrm>
            <a:off x="4780080" y="3139920"/>
            <a:ext cx="3284280" cy="31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чев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6800" y="1714320"/>
            <a:ext cx="73580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поделиться информацией («Ворону видел»), пожаловаться на неудобство (замерз, устал) и действия сверстника (отнимает)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 названия  некоторых профессий и их действ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ровождает речью игров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товые действ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шает небольшие рассказ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з наглядного сопровождени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user\Desktop\Новая папка\IMG_4127.JPG"/>
          <p:cNvPicPr/>
          <p:nvPr/>
        </p:nvPicPr>
        <p:blipFill>
          <a:blip r:embed="rId1"/>
          <a:stretch/>
        </p:blipFill>
        <p:spPr>
          <a:xfrm>
            <a:off x="4643280" y="3000240"/>
            <a:ext cx="4071960" cy="364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МБДОУ детский сад «Журавушк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разработана в соответствии с федеральным  государственным образовательным стандартом  дошко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иказ Министерства образования и науки РФ от 17 октября 2013 г. №115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шает доступные по содержанию стихи, сказки, рассказы. При повторном чтении проговаривает слова, небольшие фраз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ет иллюстрации в знакомых книжках с помощью педаг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C:\Users\user\Desktop\Новая папка\IMG_4129.JPG"/>
          <p:cNvPicPr/>
          <p:nvPr/>
        </p:nvPicPr>
        <p:blipFill>
          <a:blip r:embed="rId1"/>
          <a:stretch/>
        </p:blipFill>
        <p:spPr>
          <a:xfrm>
            <a:off x="1071720" y="2786040"/>
            <a:ext cx="3429000" cy="385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user\Desktop\Новая папка\IMG_4162.JPG"/>
          <p:cNvPicPr/>
          <p:nvPr/>
        </p:nvPicPr>
        <p:blipFill>
          <a:blip r:embed="rId2"/>
          <a:stretch/>
        </p:blipFill>
        <p:spPr>
          <a:xfrm>
            <a:off x="5500800" y="2500200"/>
            <a:ext cx="3143160" cy="40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1010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ое развит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нает знакомые мелодии и различает высоту звуков (высокий - низкий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есте с воспитателем подпевает в песне музыкальные фраз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игается в соответствии с характером музыки, начинает движение с первыми звуками музык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ет выполнять движения: притопывать ног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лопать в ладоши, поворачивать кисти рук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ывает музыкальные инструменты: погремуш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убен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Умеет правильно держать карандаш и кисточ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самостоятельно проводить лини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овать  круж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деет приёмами лепки из пластилина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325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C:\Users\user\Desktop\IMG_4124.JPG"/>
          <p:cNvPicPr/>
          <p:nvPr/>
        </p:nvPicPr>
        <p:blipFill>
          <a:blip r:embed="rId1"/>
          <a:stretch/>
        </p:blipFill>
        <p:spPr>
          <a:xfrm rot="977400">
            <a:off x="5628960" y="3224160"/>
            <a:ext cx="3071880" cy="321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93560" y="-208080"/>
            <a:ext cx="8242560" cy="136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user\Desktop\IMG_4121.JPG"/>
          <p:cNvPicPr/>
          <p:nvPr/>
        </p:nvPicPr>
        <p:blipFill>
          <a:blip r:embed="rId2"/>
          <a:stretch/>
        </p:blipFill>
        <p:spPr>
          <a:xfrm>
            <a:off x="428760" y="1071720"/>
            <a:ext cx="8358120" cy="57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ю Программы является развитие физических, интеллектуальных, духовно-нравственных, эстетических и личностных качеств ребёнк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ворческих способностей, а также развитие предпосылок учебной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МБДОУ –детский сад «Журавушка» обеспечивает разностороннее развитие детей от 2 до 7 лет с учетом их  возрастных и индивидуальных особенностей по основным направлениям разви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ическ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о-коммуникативн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ом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чевом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удожественно-эстетическо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задач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зовательных област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циально – коммуникативное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гащать игровой опыт ребёнка новыми впечатлениями из окружающе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объединять игровые действия в сюж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ощрять в выборе предметов – замест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овать появлению игр рядом и игрового взаимо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овать развитию представлений 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елове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 сем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 детском са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чать относительно самостоятельно выполнять трудовые действие, понимать их полезность. Выполнять элементарные навыки самообслуж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ть ориентировку в сенсорных свойствах предметов (цвет, форма, велич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щать к миру природы развивать конкретные представления  о растениях животных природных явл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представления о предметах ближайшего окружения их качествах свойствах назначении способах действия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чев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ть понимание речи взрослых, умение выполнять его инструкции; слушать и воспринимать небольшие рассказы  без наглядного сопровож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е слушать и пересказывать сказки совместно со взрос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ть интерес к художественной литера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я рассказывать об изображённом на картинках, игрушках, событиях из личного опы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мулировать к вступлению в диалог друг с другом, со взрос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Художе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венно-эстет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умение воспринимать  музыку.  муз-сенсорный слух (высокое-низкое. тихое-громкое звуч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элементарные певческие ум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ие двигаться в соответствии с характером музыки, движения под музыку (хлопки, притопы т.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ить со свойствами худ материалов, правилами их исполь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вать интерес к результату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учать убирать материалы за собой, мыть р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з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физических кач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формирование опорно – двигательной системы организма, развитие равновесия, координации движений, крупной и мелкой мотор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выполнение основных дви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начальных представлений о некоторых видах 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подвижными играми с прави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ладение элементарными нормами и правилам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7-02-13T11:37:58Z</dcterms:modified>
  <cp:revision>42</cp:revision>
  <dc:subject/>
  <dc:title>Шаблон презентации</dc:title>
</cp:coreProperties>
</file>