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385-178D-4A89-8896-C8EEB77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0A6-A94C-4990-9830-9381BB99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4CD-EE99-4CD7-90ED-8183EA26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9AF-D93E-4A83-9DEB-2AF1B202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289-5117-4578-A1C2-1A89C564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217-ECF1-498F-95B9-081AB3A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4BF-2DD8-442A-A213-8A8C0794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57C-E2EF-47F0-AD4D-EB5C12D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BA2-1E1D-4275-89A5-6AE28BC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C61-D6A7-4AF3-9FE3-F5DDEFA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B5A-4988-458A-A204-F0F1EFF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C5D-56E7-47A4-BE05-79836C6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ff5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Itali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Itali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56E-67C4-4CD1-A7F1-3E5FBA862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Itali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17272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ItalicT"/>
              </a:rPr>
              <a:t>Русский язык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ItalicT"/>
              </a:rPr>
              <a:t>8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solidFill>
            <a:srgbClr val="f3c553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ItalicC"/>
              </a:rPr>
              <a:t>Типы </a:t>
            </a:r>
            <a:r>
              <a:rPr b="1" lang="ru-RU" sz="4800" spc="-1" strike="noStrike">
                <a:solidFill>
                  <a:srgbClr val="009900"/>
                </a:solidFill>
                <a:latin typeface="ItalicC"/>
              </a:rPr>
              <a:t>односоставных</a:t>
            </a:r>
            <a:r>
              <a:rPr b="1" lang="ru-RU" sz="4800" spc="-1" strike="noStrike">
                <a:solidFill>
                  <a:srgbClr val="cc0000"/>
                </a:solidFill>
                <a:latin typeface="ItalicC"/>
              </a:rPr>
              <a:t> предло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4" descr="a24"/>
          <p:cNvPicPr/>
          <p:nvPr/>
        </p:nvPicPr>
        <p:blipFill>
          <a:blip r:embed="rId1"/>
          <a:stretch/>
        </p:blipFill>
        <p:spPr>
          <a:xfrm>
            <a:off x="7524720" y="3573360"/>
            <a:ext cx="14922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talicC"/>
              </a:rPr>
              <a:t>Двусостав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632720" cy="456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2.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Потянулись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по селу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обозы 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с хле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4.А кругом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цар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5.Только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слышно шуршание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сухих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7.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Голоса 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по дороге про темную ноченьку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по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9.А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душа грустит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да тихонько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рад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2" descr="back11"/>
          <p:cNvPicPr/>
          <p:nvPr/>
        </p:nvPicPr>
        <p:blipFill>
          <a:blip r:embed="rId1"/>
          <a:stretch/>
        </p:blipFill>
        <p:spPr>
          <a:xfrm>
            <a:off x="8172360" y="573408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C"/>
              </a:rPr>
              <a:t>Определенно-л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024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ItalicT"/>
              </a:rPr>
              <a:t>8.</a:t>
            </a:r>
            <a:r>
              <a:rPr b="1" lang="ru-RU" sz="4400" spc="-1" strike="noStrike">
                <a:solidFill>
                  <a:srgbClr val="ff3300"/>
                </a:solidFill>
                <a:latin typeface="ItalicT"/>
              </a:rPr>
              <a:t>Люблю</a:t>
            </a:r>
            <a:r>
              <a:rPr b="1" lang="ru-RU" sz="4400" spc="-1" strike="noStrike">
                <a:solidFill>
                  <a:srgbClr val="000066"/>
                </a:solidFill>
                <a:latin typeface="ItalicT"/>
              </a:rPr>
              <a:t> такие осенние веч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T"/>
              </a:rPr>
              <a:t>Глагол-сказуемое употреблен в форме 1 лица, ед.числа , наст.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back11"/>
          <p:cNvPicPr/>
          <p:nvPr/>
        </p:nvPicPr>
        <p:blipFill>
          <a:blip r:embed="rId1"/>
          <a:stretch/>
        </p:blipFill>
        <p:spPr>
          <a:xfrm>
            <a:off x="8244000" y="573408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ItalicT"/>
              </a:rPr>
              <a:t>Назы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6.Веч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T"/>
              </a:rPr>
              <a:t>Главный член предложения – подлежащее – выражен именем существ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back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80536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ItalicT"/>
              </a:rPr>
              <a:t>Рассмотрим оставшиеся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Похолодало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3.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Хорошо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смотреть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на темное осеннее небо да 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олиться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за чью-нибудь непутевую ду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ItalicT"/>
              </a:rPr>
              <a:t>Возможно ли определение лица, которое производит действие в данных предложен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back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85080" y="55897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Безличные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Такие предложения ,в которых действующего лица нет и быть не может , а действие совершается само по себе, называют безлич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a25"/>
          <p:cNvPicPr/>
          <p:nvPr/>
        </p:nvPicPr>
        <p:blipFill>
          <a:blip r:embed="rId1"/>
          <a:stretch/>
        </p:blipFill>
        <p:spPr>
          <a:xfrm>
            <a:off x="6912000" y="4653000"/>
            <a:ext cx="22320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066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ItalicT"/>
              </a:rPr>
              <a:t>Сказуемое в безличном предложении выражается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991280" cy="46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1.Вечерами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работалось 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особенно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Пахнет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сеном над лу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3.Герасима уже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не было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на д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4.Вам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не видат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таких сра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5.Аленке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спать не хотелос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6.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Хорошо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бродит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по ле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7.В этот час совсем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тихо</a:t>
            </a:r>
            <a:r>
              <a:rPr b="1" lang="ru-RU" sz="2000" spc="-1" strike="noStrike">
                <a:solidFill>
                  <a:srgbClr val="ff0000"/>
                </a:solidFill>
                <a:latin typeface="Italic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Найти безлич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1.В воздухе запахло свежей зеленью и прохла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2.Сегодня рисуем пейз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3.Любишь кататься ,люби и саночки воз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4.Несмотря на поздний час ,в комнате было совершенно свет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5.У меня нет времени на пустые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6.Хорошо в жаркий день растянуться на зеленой травке у руч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111640" cy="720720"/>
          </a:xfrm>
          <a:prstGeom prst="rect">
            <a:avLst/>
          </a:prstGeom>
          <a:solidFill>
            <a:srgbClr val="f4f474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talicT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1.В воздухе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запах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свежей зеленью и прохла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4.Несмотря на поздний час ,в комнате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бы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совершенно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свет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5.У меня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нет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времени на пустые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7.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Хорош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в жаркий день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растянуться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на зеленой травке у руч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14"/>
          <p:cNvPicPr/>
          <p:nvPr/>
        </p:nvPicPr>
        <p:blipFill>
          <a:blip r:embed="rId1"/>
          <a:stretch/>
        </p:blipFill>
        <p:spPr>
          <a:xfrm>
            <a:off x="755640" y="566100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1939658"/>
          <p:cNvPicPr/>
          <p:nvPr/>
        </p:nvPicPr>
        <p:blipFill>
          <a:blip r:embed="rId1"/>
          <a:stretch/>
        </p:blipFill>
        <p:spPr>
          <a:xfrm>
            <a:off x="1763640" y="477720"/>
            <a:ext cx="5329440" cy="532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5400720" cy="540072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4032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omic Sans MS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4100400" cy="568944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1.Односостав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Необходимо платить за квартиру во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Пришлось пойти в магазин за хле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Кто-то постучал в окно</a:t>
            </a:r>
            <a:r>
              <a:rPr b="1" lang="ru-RU" sz="1800" spc="-1" strike="noStrike">
                <a:solidFill>
                  <a:srgbClr val="000066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2.Неопределенно-лич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Вас просят к телеф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Вам передали приглашение на веч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Из окна сильно</a:t>
            </a: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ду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691920"/>
            <a:ext cx="4032360" cy="561636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3.Безлич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У него ломит н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Мне хочется повидаться с 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Полезно купаться в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4.Главный член  является составным глагольным в предлож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Надо поехать на дачу полить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Нам было отказ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Мне необходимо написать статью к концу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Italic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48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Повторение правописания частиц НЕ и 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Словарно-орфографическ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Составление предложений с изученными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Анализ текста. Знакомство с безличными предлож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1" descr="b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443700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2" descr="b007"/>
          <p:cNvPicPr/>
          <p:nvPr/>
        </p:nvPicPr>
        <p:blipFill>
          <a:blip r:embed="rId3"/>
          <a:stretch/>
        </p:blipFill>
        <p:spPr>
          <a:xfrm>
            <a:off x="324000" y="342900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3" descr="b00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234936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4" descr="b007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24000" y="134136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5" descr="back1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048360" cy="77796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ItalicT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1.Повторить правописание производных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2.Повторить все типы односоставных предлож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3.Письменно выполнить упражнение _223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ack1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28000" y="580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glitt010"/>
          <p:cNvPicPr/>
          <p:nvPr/>
        </p:nvPicPr>
        <p:blipFill>
          <a:blip r:embed="rId2"/>
          <a:stretch/>
        </p:blipFill>
        <p:spPr>
          <a:xfrm>
            <a:off x="684360" y="0"/>
            <a:ext cx="18763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Italic"/>
              </a:rPr>
              <a:t>Вставить НЕ или НИ; расставить недостающи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47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talicC"/>
              </a:rPr>
              <a:t>(…)лай собаки (..)петухи (…)скрип ворот (…)могли вывести его из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talicC"/>
              </a:rPr>
              <a:t>Откуда (…)возьмись налетел ветер который (…)только мешал нашему продвижению вперед  но и нагнал на полнеба туч грозящих нам (…)то снегом (…)то дожд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ItalicC"/>
                <a:hlinkClick r:id="rId1" action="ppaction://hlinksldjump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ItalicC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25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 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лай собаки ,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петухи,</a:t>
            </a:r>
            <a:r>
              <a:rPr b="1" lang="en-US" sz="3200" spc="-1" strike="noStrike">
                <a:solidFill>
                  <a:srgbClr val="6600cc"/>
                </a:solidFill>
                <a:latin typeface="ItalicC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скрип ворот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могли вывести его из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Откуда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возьмись, налетел ветер , который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 только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мешал нашему продвижению вперед, но и нагнал на полнеба туч, грозящих нам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то снегом,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 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то дож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back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Словарно – орфограф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a9dcf5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арина</a:t>
            </a:r>
            <a:r>
              <a:rPr b="1" lang="ru-RU" sz="3200" spc="-1" strike="noStrike">
                <a:solidFill>
                  <a:srgbClr val="6600cc"/>
                </a:solidFill>
                <a:latin typeface="ItalicT"/>
              </a:rPr>
              <a:t> (маре – «море», из латыни) – «картина, изображающая морской ви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аринист</a:t>
            </a:r>
            <a:r>
              <a:rPr b="1" lang="ru-RU" sz="3200" spc="-1" strike="noStrike">
                <a:solidFill>
                  <a:srgbClr val="6600cc"/>
                </a:solidFill>
                <a:latin typeface="ItalicT"/>
              </a:rPr>
              <a:t> – «художник , рисующий морские ви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back12"/>
          <p:cNvPicPr/>
          <p:nvPr/>
        </p:nvPicPr>
        <p:blipFill>
          <a:blip r:embed="rId1"/>
          <a:stretch/>
        </p:blipFill>
        <p:spPr>
          <a:xfrm>
            <a:off x="8028000" y="5661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0" descr="pushkin-8"/>
          <p:cNvPicPr/>
          <p:nvPr/>
        </p:nvPicPr>
        <p:blipFill>
          <a:blip r:embed="rId1"/>
          <a:stretch/>
        </p:blipFill>
        <p:spPr>
          <a:xfrm>
            <a:off x="611280" y="620640"/>
            <a:ext cx="7829280" cy="49705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60" name="Text Box 21"/>
          <p:cNvSpPr/>
          <p:nvPr/>
        </p:nvSpPr>
        <p:spPr>
          <a:xfrm>
            <a:off x="735120" y="55897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Italic"/>
              </a:rPr>
              <a:t>Картины художника – мариниста И.К.Айвазовского</a:t>
            </a:r>
            <a:endParaRPr b="1" lang="en-US" sz="2400" spc="-1" strike="noStrike">
              <a:solidFill>
                <a:srgbClr val="000000"/>
              </a:solidFill>
              <a:latin typeface="Itali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" descr="pushkin-7"/>
          <p:cNvPicPr/>
          <p:nvPr/>
        </p:nvPicPr>
        <p:blipFill>
          <a:blip r:embed="rId1"/>
          <a:stretch/>
        </p:blipFill>
        <p:spPr>
          <a:xfrm>
            <a:off x="395280" y="333360"/>
            <a:ext cx="4137120" cy="6048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3280" y="476280"/>
            <a:ext cx="4043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C"/>
              </a:rPr>
              <a:t>Составить предложения , употребив слово </a:t>
            </a:r>
            <a:r>
              <a:rPr b="1" lang="ru-RU" sz="2800" spc="-1" strike="noStrike">
                <a:solidFill>
                  <a:srgbClr val="ff3300"/>
                </a:solidFill>
                <a:latin typeface="ItalicC"/>
              </a:rPr>
              <a:t>маринист </a:t>
            </a:r>
            <a:r>
              <a:rPr b="1" lang="ru-RU" sz="2800" spc="-1" strike="noStrike">
                <a:solidFill>
                  <a:srgbClr val="333399"/>
                </a:solidFill>
                <a:latin typeface="ItalicC"/>
              </a:rPr>
              <a:t>сначала в составе именного сказуемого, затем -приложения к имени собствен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back12"/>
          <p:cNvPicPr/>
          <p:nvPr/>
        </p:nvPicPr>
        <p:blipFill>
          <a:blip r:embed="rId2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И.К.Айвазовский – выдающийся </a:t>
            </a:r>
            <a:r>
              <a:rPr b="1" lang="ru-RU" sz="4000" spc="-1" strike="noStrike">
                <a:solidFill>
                  <a:srgbClr val="ff3300"/>
                </a:solidFill>
                <a:latin typeface="ItalicT"/>
              </a:rPr>
              <a:t>художник</a:t>
            </a: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-марини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И.К.Айвазовский, </a:t>
            </a:r>
            <a:r>
              <a:rPr b="1" lang="ru-RU" sz="4000" spc="-1" strike="noStrike">
                <a:solidFill>
                  <a:srgbClr val="ff3300"/>
                </a:solidFill>
                <a:latin typeface="ItalicT"/>
              </a:rPr>
              <a:t>выдающийся художник-маринист</a:t>
            </a: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, родился в Феодо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back11"/>
          <p:cNvPicPr/>
          <p:nvPr/>
        </p:nvPicPr>
        <p:blipFill>
          <a:blip r:embed="rId1"/>
          <a:stretch/>
        </p:blipFill>
        <p:spPr>
          <a:xfrm>
            <a:off x="8244000" y="580536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1.Похолодало. 2.Потянулись по селу обозы с хлебом. 3.Хорошо смотреть на темное небо да молиться за чью-нибудь непутевую душу. 4.А кругом царит тишина .5.Только слышно шуршание сухих листьев. 6.Вечер. 7.Голоса по дороге про темную ноченьку поют. 8.Люблю такие осенние вечера. 9.А </a:t>
            </a:r>
            <a:r>
              <a:rPr b="1" lang="ru-RU" sz="2800" spc="-1" strike="noStrike">
                <a:solidFill>
                  <a:srgbClr val="003300"/>
                </a:solidFill>
                <a:latin typeface="ItalicC"/>
              </a:rPr>
              <a:t>душа</a:t>
            </a: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 грустит да тихонько рад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C"/>
              </a:rPr>
              <a:t>Двусоста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ItalicC"/>
              </a:rPr>
              <a:t>Определенно-л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назы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8:05:55Z</dcterms:created>
  <dc:creator>gott</dc:creator>
  <dc:description/>
  <dc:language>en-US</dc:language>
  <cp:lastModifiedBy>Acer</cp:lastModifiedBy>
  <dcterms:modified xsi:type="dcterms:W3CDTF">2017-02-13T19:36:17Z</dcterms:modified>
  <cp:revision>11</cp:revision>
  <dc:subject/>
  <dc:title>Слайд 1</dc:title>
</cp:coreProperties>
</file>