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Столбец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Строка 1</c:v>
                </c:pt>
                <c:pt idx="1">
                  <c:v>Строка 2</c:v>
                </c:pt>
                <c:pt idx="2">
                  <c:v>Строка 3</c:v>
                </c:pt>
                <c:pt idx="3">
                  <c:v>Строка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Столбец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Строка 1</c:v>
                </c:pt>
                <c:pt idx="1">
                  <c:v>Строка 2</c:v>
                </c:pt>
                <c:pt idx="2">
                  <c:v>Строка 3</c:v>
                </c:pt>
                <c:pt idx="3">
                  <c:v>Строка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Столбец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Строка 1</c:v>
                </c:pt>
                <c:pt idx="1">
                  <c:v>Строка 2</c:v>
                </c:pt>
                <c:pt idx="2">
                  <c:v>Строка 3</c:v>
                </c:pt>
                <c:pt idx="3">
                  <c:v>Строка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4310611"/>
        <c:axId val="75579176"/>
      </c:barChart>
      <c:catAx>
        <c:axId val="34310611"/>
        <c:scaling>
          <c:orientation val="minMax"/>
        </c:scaling>
        <c:delete val="0"/>
        <c:axPos val="b"/>
        <c:numFmt formatCode="[$-419]dd/mm/yyyy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579176"/>
        <c:crosses val="autoZero"/>
        <c:auto val="1"/>
        <c:lblAlgn val="ctr"/>
        <c:lblOffset val="100"/>
        <c:noMultiLvlLbl val="0"/>
      </c:catAx>
      <c:valAx>
        <c:axId val="7557917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31061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FF93A-39A7-4623-B0E5-D4F8883B5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8CF7E-3652-4502-BD95-ADF7B95F1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25F3B-5D1A-4008-B5DA-D8D1D9CD3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9A2E9-B577-497D-BC99-173E90BD7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97BE1-F712-494C-9D0C-18BAD0C20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18933-DFAA-48C3-9F82-DD55BA9AA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40BBB-86AD-4321-BCD4-25F4356C2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B4AB1-62D2-4E42-AA57-455AD216E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D491F-66DD-403C-A355-753593C61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93DE2-9E32-4344-97C9-1F31B974A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7436E-5C70-4864-B6EB-607A3C32D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8CFB1-5872-4EE9-8EE7-91FF18E2B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35E62A-87B7-4A4E-BA4B-DD8F83C1EFE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10080720" cy="75596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332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Arial"/>
              </a:rPr>
              <a:t>«Мы за здоровый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Arial"/>
              </a:rPr>
              <a:t>образ жизни»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езентация социального педагога ГБОУ СОШ № 427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орькиной О.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1224000" y="301680"/>
            <a:ext cx="7343640" cy="4235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70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41400" y="503280"/>
            <a:ext cx="9982080" cy="35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i="1" lang="ru-RU" sz="3600" spc="-1" strike="noStrike">
                <a:solidFill>
                  <a:srgbClr val="000066"/>
                </a:solidFill>
                <a:latin typeface="Arial"/>
              </a:rPr>
              <a:t>Таким образом, здоровый образ жизни является важной составляющей полноценной жизни человека в быстро меняющемся мире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31640" y="2952720"/>
            <a:ext cx="9431640" cy="439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504720" y="2670120"/>
          <a:ext cx="7547040" cy="82224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792000" y="301680"/>
            <a:ext cx="9318960" cy="414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0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600" spc="-1" strike="noStrike">
                <a:solidFill>
                  <a:srgbClr val="cc00cc"/>
                </a:solidFill>
                <a:latin typeface="Arial"/>
              </a:rPr>
              <a:t>Здоровый образ жизни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– комплексное понятие, включающее в себя множество составляющих. Сюда входят все сферы человеческого существования – начиная с питания и заканчивая эмоциональным настроем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600" spc="-1" strike="noStrike">
                <a:solidFill>
                  <a:srgbClr val="cc0000"/>
                </a:solidFill>
                <a:latin typeface="Arial"/>
              </a:rPr>
              <a:t>Здоровый образ жизни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– это способ жизнедеятельности, направленный на полное изменение прежних привычек, касающихся еды, режима физической активности и отдых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360360" y="4295880"/>
            <a:ext cx="4992840" cy="3049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34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-7920" y="-19080"/>
            <a:ext cx="10078920" cy="755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2-13T07:08:27Z</dcterms:created>
  <dc:creator/>
  <dc:description/>
  <dc:language>en-US</dc:language>
  <cp:lastModifiedBy/>
  <dcterms:modified xsi:type="dcterms:W3CDTF">2017-02-13T09:08:47Z</dcterms:modified>
  <cp:revision>2</cp:revision>
  <dc:subject/>
  <dc:title/>
</cp:coreProperties>
</file>