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23263"/>
        <c:axId val="87138957"/>
      </c:barChart>
      <c:catAx>
        <c:axId val="93923263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8957"/>
        <c:crosses val="autoZero"/>
        <c:auto val="1"/>
        <c:lblAlgn val="ctr"/>
        <c:lblOffset val="100"/>
        <c:noMultiLvlLbl val="0"/>
      </c:catAx>
      <c:valAx>
        <c:axId val="87138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23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CF6-9810-4937-AA5C-0B4C1EE9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661-A683-4B0D-997F-1FF95CE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579-33C5-46B1-8C1C-4E9358A3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C35-B9DD-45D5-A6B4-63F4D420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309-8019-43B0-ACC3-5D952AF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02B-F9BA-45EF-B293-B41E709B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6E8-45A4-43DA-BB36-3523441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7B5-8BFB-4E98-A2ED-F494105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676-B584-4E7B-8E3B-94E02CB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9B5-D554-41AE-91F0-E166C69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70F-92C6-4BD0-A167-136D318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07D-9F73-4FF5-A094-EEDA974E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9CD13-A0ED-408B-BE05-E9A046A784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«Мы за здоровый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браз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социального педагога ГБОУ СОШ № 4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рькиной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24000" y="301680"/>
            <a:ext cx="7343640" cy="42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7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400" y="503280"/>
            <a:ext cx="998208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Таким образом, здоровый образ жизни является важной составляющей полноценной жизни человека в быстро меняющемся мир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1640" y="2952720"/>
            <a:ext cx="9431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4720" y="2670120"/>
          <a:ext cx="7547040" cy="822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2000" y="301680"/>
            <a:ext cx="931896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cc"/>
                </a:solidFill>
                <a:latin typeface="Arial"/>
              </a:rPr>
              <a:t>Здоровый образ жиз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мплексное понятие, включающее в себя множество составляющих. Сюда входят все сферы человеческого существования – начиная с питания и заканчивая эмоциональным настрое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Arial"/>
              </a:rPr>
              <a:t>Здоровый образ жизн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способ жизнедеятельности, направленный на полное изменение прежних привычек, касающихся еды, режима физической активности и отдых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0360" y="4295880"/>
            <a:ext cx="4992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920" y="-1908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3T07:08:27Z</dcterms:created>
  <dc:creator/>
  <dc:description/>
  <dc:language>en-US</dc:language>
  <cp:lastModifiedBy/>
  <dcterms:modified xsi:type="dcterms:W3CDTF">2017-02-13T09:08:47Z</dcterms:modified>
  <cp:revision>2</cp:revision>
  <dc:subject/>
  <dc:title/>
</cp:coreProperties>
</file>