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382C-F2FF-4713-B1CF-3E6821356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8772-E93C-4C54-AB24-EFCB706D6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4309-50A4-4D8F-9E08-8D8CA8581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9141-B414-4498-802B-B5D14FD16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E399-E76F-459B-8391-D522181038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F23E-BED1-471B-8617-C62F356829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FAAA-CC2E-4C9E-AFB5-276F5766D3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B01B-A0F2-4E80-B213-C2DF432657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B766-F14E-4766-AC89-BDE5B8AA42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4A0B-4210-40AF-982C-37246E84FB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BF21-5B51-4A11-8272-74E7325A3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1C27-32BD-4EF5-8A04-38C04DAFF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D67C-0BAD-4BBA-B4EF-508D37E5A1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C60D-0F99-4491-B418-1C86A595EB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DEAF-5785-4CC8-82A6-E7DCCC9C2A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8676-1A0A-4F2A-AFA7-DD8D181C34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2DF7-8C42-45D1-8D2F-9DDAE2C9DA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BE4E-096A-4D5E-B28C-65BD59C1C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2C79-1868-4CF4-85F0-D0003C8E5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B7DD-1243-41D5-996F-DF853C01A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12E9-0BD4-4417-988F-BC8C57896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0D35-0D11-4BA8-A349-066DA3CC0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4F53-4A16-401B-B6F3-0B428E520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4821-0EC8-4557-B21A-6C70AEF2F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6120" cy="39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73D807D-F47D-4FBF-945D-EC55686154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6120" cy="39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1253269-DBC5-46F8-A942-ACD0655BEF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0680" y="744120"/>
            <a:ext cx="8520120" cy="249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073763"/>
                </a:solidFill>
                <a:latin typeface="Arial"/>
                <a:ea typeface="Arial"/>
              </a:rPr>
              <a:t>Проверка знания административной карты России. 9 класс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37600" y="333972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ая часть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185" t="0" r="2179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703" t="0" r="1698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144360"/>
            <a:ext cx="1834920" cy="509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73763"/>
                </a:solidFill>
                <a:latin typeface="Arial"/>
                <a:ea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52560" y="581040"/>
          <a:ext cx="7238520" cy="4346280"/>
        </p:xfrm>
        <a:graphic>
          <a:graphicData uri="http://schemas.openxmlformats.org/drawingml/2006/table">
            <a:tbl>
              <a:tblPr/>
              <a:tblGrid>
                <a:gridCol w="1425600"/>
                <a:gridCol w="2943720"/>
                <a:gridCol w="2869200"/>
              </a:tblGrid>
              <a:tr h="415080"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г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хангель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ве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лго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р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т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росла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Башкорто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лог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рат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енбург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врополь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чен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стром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ронеж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1080" rIns="91080" tIns="103680" bIns="9108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ск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tIns="103680" bIns="910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а Даге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424" t="0" r="1412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198" t="0" r="1198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141" t="0" r="1141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426" t="0" r="1426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16" t="0" r="1416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526" t="0" r="1526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00" y="179280"/>
            <a:ext cx="112392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838" t="0" r="1826" b="0"/>
          <a:stretch/>
        </p:blipFill>
        <p:spPr>
          <a:xfrm>
            <a:off x="3699000" y="152280"/>
            <a:ext cx="5124240" cy="483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49200" y="1042920"/>
            <a:ext cx="217440" cy="22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9200" y="1368360"/>
            <a:ext cx="15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440" y="270180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49200" y="2398680"/>
            <a:ext cx="231840" cy="22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