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8D3C-B5D6-4BBD-BB7F-791516BE5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1A1C-AF83-405D-894D-852645553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5B6F-07EA-4C96-A429-081AF8B3E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2919-5D22-45C4-A34B-0EC94D3EF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0038-9D12-4F69-8961-A78A67CFC0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FFA7-471F-47F9-856D-BA882CFC19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A53E-7E48-4FF2-8AA5-715A31396C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D8DF-7B3D-408B-9FE2-B7C9097EC9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349B-4A12-4FDD-983B-7E79B5FDD0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CF2E-0776-499A-A15F-E1091FE4D6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8D7F-47D1-4D2E-A346-ACFFE575B5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4F6E-79F3-42FC-A4FA-E68E2615F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56D9-2313-4AF2-B5AD-5BC9FC0359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E080-B633-4F03-8B0F-57E1CDC7FD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96DE-7C98-4FDD-90F5-4B8CCB9269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2859-7D06-4896-8357-170C00B0C0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29621-3273-487B-A1D8-DC4DC534D5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888B-AC0B-4CD3-8356-09CE89958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12DC-33B6-47B7-A35D-4F9BC3082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1C34-E41B-49A0-A61E-9C7FDD5B7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3982-4B8F-480E-A727-876464996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20EC-5CB3-40FA-BF1B-130A4635E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81A5-6AA4-4046-AA88-ECDF7C46D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928E-E66E-4885-B6A0-B2A365BE1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6120" cy="39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3461FC2-B249-4430-A754-B4E8795628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6120" cy="39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50F5150-9FA0-4BB3-AE89-F260E5A6D3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0680" y="744120"/>
            <a:ext cx="8520120" cy="249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73763"/>
                </a:solidFill>
                <a:latin typeface="Arial"/>
                <a:ea typeface="Arial"/>
              </a:rPr>
              <a:t>Проверка знания административной карты России. 9 класс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37600" y="333972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Европейская часть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185" t="0" r="2179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703" t="0" r="1698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144360"/>
            <a:ext cx="1834920" cy="509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73763"/>
                </a:solidFill>
                <a:latin typeface="Arial"/>
                <a:ea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52560" y="581040"/>
          <a:ext cx="7238520" cy="4346280"/>
        </p:xfrm>
        <a:graphic>
          <a:graphicData uri="http://schemas.openxmlformats.org/drawingml/2006/table">
            <a:tbl>
              <a:tblPr/>
              <a:tblGrid>
                <a:gridCol w="1425600"/>
                <a:gridCol w="2943720"/>
                <a:gridCol w="2869200"/>
              </a:tblGrid>
              <a:tr h="415080"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рга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хангель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вер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лгогра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ир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росла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р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Ко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Башкорто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лог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рат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енбург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врополь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чен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стром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ронеж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же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ск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Даге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1424" t="0" r="1412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1198" t="0" r="1198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141" t="0" r="1141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426" t="0" r="1426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416" t="0" r="1416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526" t="0" r="1526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838" t="0" r="1826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