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52BF-1454-4189-B2A7-4BAB37CEF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6433-5117-4509-B8DD-F7AD04169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0EC6-6C84-482C-A2AE-797F7BC3D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428B-A156-4329-B52A-D9D77DF1D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C055-068D-4091-8B1B-9F4D8845F8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5CF4-BF68-499C-83EE-8FF1C54F7F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AFBB-E4ED-4007-AFB0-0E07A1097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C19E-5230-4235-A402-8DD5BCC50A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C5B9-BA99-42CA-96DD-3B13334CAD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93F6-12D2-4985-AE76-A2342F5D3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5F76-DAE3-44BB-AEB2-18B8D57FF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A19A-4A58-4804-8768-3FF5D40C1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6FAB-C0EA-4F0C-92F6-83E55E6C46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A342-2413-4E2F-BE42-5B67C16E54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1277-05B8-4469-A9DF-002DB7BD8D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456B-59B0-4B39-A8A3-74857E3F8A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0FC2-E979-4A64-83A8-4D2414D6C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5B34-C6CF-49C0-82F1-F93A8A959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910A-E1EB-4C43-B2D2-29BFDEFA7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5558-7AE0-4EAB-AB60-5845E7CEF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7DC4-288E-43C1-8BBD-FF768E8F2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1D08-91E4-4873-BE29-4DC291561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0892-BB5C-4683-8806-D3C3F2EE7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FB6C-AD10-4757-A766-5F61B5A4E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6120" cy="39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9A2D203-989D-4526-A1CC-6E043288FC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6120" cy="39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0D410E5-CCF9-415D-AFE4-8BB56FB16C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0680" y="744120"/>
            <a:ext cx="8520120" cy="249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73763"/>
                </a:solidFill>
                <a:latin typeface="Arial"/>
                <a:ea typeface="Arial"/>
              </a:rPr>
              <a:t>Проверка знания административной карты России. 9 класс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37600" y="333972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вропейская часть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601" t="0" r="1612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481" t="0" r="1481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144360"/>
            <a:ext cx="1834920" cy="509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73763"/>
                </a:solidFill>
                <a:latin typeface="Arial"/>
                <a:ea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52560" y="581040"/>
          <a:ext cx="7238520" cy="4346280"/>
        </p:xfrm>
        <a:graphic>
          <a:graphicData uri="http://schemas.openxmlformats.org/drawingml/2006/table">
            <a:tbl>
              <a:tblPr/>
              <a:tblGrid>
                <a:gridCol w="1425600"/>
                <a:gridCol w="2943720"/>
                <a:gridCol w="2869200"/>
              </a:tblGrid>
              <a:tr h="415080"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нецкий А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уж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яз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м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оле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Марий-Э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Удмур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рм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пец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рачаево-Черке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Калмы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лго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л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Татар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Кар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Адыг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льян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489" t="0" r="1483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601" t="0" r="1612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936" t="0" r="1930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62" t="0" r="2250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499" t="0" r="1499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984" t="0" r="995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384" t="0" r="1384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704" t="0" r="704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