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E12AF-EDC6-449F-BE6F-85BDD7CBB3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B8E8C-FB0A-4AD8-A593-F295F5DCDE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2449C-FC4D-4268-AAC6-A7854E62CC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28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136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28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136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5B376-E40B-4420-B447-DDDC265B98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7CD81-35AE-482D-A8A3-687E7276C4D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BBDCC-F737-4F4C-9C6C-4312EB74870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C8531-8E6F-4E75-A451-77E8E8B6C7B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D5413-F6D0-425A-9C2B-ED1665FC716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DC5AA-6DCB-44F2-ACB5-85991123514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2F1D5-D51B-4C7F-BAC3-10B69FF645D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68FBE-7AF6-43B0-9BCB-AC93090AF4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E24A0-C9B7-4B19-A63E-3CA24E41A7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A3D32-3E9D-46AB-BDB8-2914C51C902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BB0C3-24CF-4432-AF46-1AF82AA5292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C26CA-FE0E-419F-AFD4-E6B3B6A722E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C63E7-F76A-470D-BB6B-AA51040C6B8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28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136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28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136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0ED25-0714-43EB-926F-1C3F488629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02175-0933-4198-8410-1DF12A9124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AC77A-ED76-42C8-87A8-A2E33DFA4D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5A3A7-F0E4-4753-AB5C-2C60092F6D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7D94F-12CC-4875-A503-558A56F889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60C96-EA29-4A61-B3D7-374093231B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6DB94-DC55-4450-91D8-E7C13D3B13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0B019-49DD-4ADB-A03D-4AD7CC16B5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472240" y="4662360"/>
            <a:ext cx="546120" cy="392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F0E114EE-2FA0-4D39-B8BE-21CA783471F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Num" idx="2"/>
          </p:nvPr>
        </p:nvSpPr>
        <p:spPr>
          <a:xfrm>
            <a:off x="8472240" y="4662360"/>
            <a:ext cx="546120" cy="392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68F3D7AE-15B6-4C81-B6EE-2D7ABD32DD0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10680" y="744120"/>
            <a:ext cx="8520120" cy="2498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073763"/>
                </a:solidFill>
                <a:latin typeface="Arial"/>
                <a:ea typeface="Arial"/>
              </a:rPr>
              <a:t>Проверка знания административной карты России. 9 класс</a:t>
            </a:r>
            <a:r>
              <a:rPr b="0" lang="en-US" sz="5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237600" y="3339720"/>
            <a:ext cx="8520120" cy="792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Европейская часть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70000" y="179280"/>
            <a:ext cx="1123920" cy="463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1601" t="0" r="1612" b="0"/>
          <a:stretch/>
        </p:blipFill>
        <p:spPr>
          <a:xfrm>
            <a:off x="3699000" y="152280"/>
            <a:ext cx="5124240" cy="48387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49200" y="1042920"/>
            <a:ext cx="217440" cy="225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49200" y="1368360"/>
            <a:ext cx="15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06440" y="2701800"/>
            <a:ext cx="120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349200" y="2398680"/>
            <a:ext cx="231840" cy="22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000" y="179280"/>
            <a:ext cx="1123920" cy="463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1481" t="0" r="1481" b="0"/>
          <a:stretch/>
        </p:blipFill>
        <p:spPr>
          <a:xfrm>
            <a:off x="3699000" y="152280"/>
            <a:ext cx="5124240" cy="48387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49200" y="1042920"/>
            <a:ext cx="217440" cy="225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49200" y="1368360"/>
            <a:ext cx="15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06440" y="2701800"/>
            <a:ext cx="120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349200" y="2398680"/>
            <a:ext cx="231840" cy="22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144360"/>
            <a:ext cx="1834920" cy="509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73763"/>
                </a:solidFill>
                <a:latin typeface="Arial"/>
                <a:ea typeface="Arial"/>
              </a:rPr>
              <a:t>Отве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952560" y="581040"/>
          <a:ext cx="7238520" cy="4346280"/>
        </p:xfrm>
        <a:graphic>
          <a:graphicData uri="http://schemas.openxmlformats.org/drawingml/2006/table">
            <a:tbl>
              <a:tblPr/>
              <a:tblGrid>
                <a:gridCol w="1425600"/>
                <a:gridCol w="2943720"/>
                <a:gridCol w="2869200"/>
              </a:tblGrid>
              <a:tr h="415080">
                <a:tc>
                  <a:txBody>
                    <a:bodyPr lIns="91080" rIns="91080" tIns="103680" bIns="9108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tIns="103680" bIns="9108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вариа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tIns="103680" bIns="9108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вариа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</a:tr>
              <a:tr h="393120">
                <a:tc>
                  <a:txBody>
                    <a:bodyPr lIns="91080" rIns="91080" tIns="103680" bIns="9108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tIns="103680" bIns="9108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нецкий А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tIns="103680" bIns="9108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раснодарский кр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</a:tr>
              <a:tr h="393120">
                <a:tc>
                  <a:txBody>
                    <a:bodyPr lIns="91080" rIns="91080" tIns="103680" bIns="9108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tIns="103680" bIns="9108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луж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tIns="103680" bIns="9108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язан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</a:tr>
              <a:tr h="393120">
                <a:tc>
                  <a:txBody>
                    <a:bodyPr lIns="91080" rIns="91080" tIns="103680" bIns="9108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tIns="103680" bIns="9108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ермский кр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tIns="103680" bIns="9108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молен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</a:tr>
              <a:tr h="393120">
                <a:tc>
                  <a:txBody>
                    <a:bodyPr lIns="91080" rIns="91080" tIns="103680" bIns="9108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tIns="103680" bIns="9108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спублика Марий-Э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tIns="103680" bIns="9108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спублика Удмур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</a:tr>
              <a:tr h="393120">
                <a:tc>
                  <a:txBody>
                    <a:bodyPr lIns="91080" rIns="91080" tIns="103680" bIns="9108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tIns="103680" bIns="9108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урман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tIns="103680" bIns="9108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овгород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</a:tr>
              <a:tr h="393120">
                <a:tc>
                  <a:txBody>
                    <a:bodyPr lIns="91080" rIns="91080" tIns="103680" bIns="9108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tIns="103680" bIns="9108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елгород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tIns="103680" bIns="9108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ипец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</a:tr>
              <a:tr h="393120">
                <a:tc>
                  <a:txBody>
                    <a:bodyPr lIns="91080" rIns="91080" tIns="103680" bIns="9108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tIns="103680" bIns="9108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рачаево-Черкес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tIns="103680" bIns="9108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спублика Калмык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</a:tr>
              <a:tr h="393120">
                <a:tc>
                  <a:txBody>
                    <a:bodyPr lIns="91080" rIns="91080" tIns="103680" bIns="9108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tIns="103680" bIns="9108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олгоград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tIns="103680" bIns="9108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вердлов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</a:tr>
              <a:tr h="393120">
                <a:tc>
                  <a:txBody>
                    <a:bodyPr lIns="91080" rIns="91080" tIns="103680" bIns="9108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tIns="103680" bIns="9108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спублика Татарст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tIns="103680" bIns="9108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спублика Каре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</a:tr>
              <a:tr h="393120">
                <a:tc>
                  <a:txBody>
                    <a:bodyPr lIns="91080" rIns="91080" tIns="103680" bIns="9108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tIns="103680" bIns="9108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спублика Адыге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tIns="103680" bIns="9108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льянов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0000" y="179280"/>
            <a:ext cx="1123920" cy="463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rcRect l="1489" t="0" r="1483" b="0"/>
          <a:stretch/>
        </p:blipFill>
        <p:spPr>
          <a:xfrm>
            <a:off x="3699000" y="152280"/>
            <a:ext cx="5124240" cy="48387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49200" y="1042920"/>
            <a:ext cx="217440" cy="225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49200" y="1368360"/>
            <a:ext cx="15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440" y="2701800"/>
            <a:ext cx="120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49200" y="2398680"/>
            <a:ext cx="231840" cy="22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0000" y="179280"/>
            <a:ext cx="1123920" cy="463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1601" t="0" r="1612" b="0"/>
          <a:stretch/>
        </p:blipFill>
        <p:spPr>
          <a:xfrm>
            <a:off x="3699000" y="152280"/>
            <a:ext cx="5124240" cy="48387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49200" y="1042920"/>
            <a:ext cx="217440" cy="225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49200" y="1368360"/>
            <a:ext cx="15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06440" y="2701800"/>
            <a:ext cx="120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49200" y="2398680"/>
            <a:ext cx="231840" cy="22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000" y="179280"/>
            <a:ext cx="1123920" cy="463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1936" t="0" r="1930" b="0"/>
          <a:stretch/>
        </p:blipFill>
        <p:spPr>
          <a:xfrm>
            <a:off x="3699000" y="152280"/>
            <a:ext cx="5124240" cy="48387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49200" y="1042920"/>
            <a:ext cx="217440" cy="2253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9200" y="1368360"/>
            <a:ext cx="15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6440" y="2701800"/>
            <a:ext cx="120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49200" y="2398680"/>
            <a:ext cx="231840" cy="22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0000" y="179280"/>
            <a:ext cx="1123920" cy="463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2262" t="0" r="2250" b="0"/>
          <a:stretch/>
        </p:blipFill>
        <p:spPr>
          <a:xfrm>
            <a:off x="3699000" y="152280"/>
            <a:ext cx="5124240" cy="48387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49200" y="1042920"/>
            <a:ext cx="217440" cy="225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49200" y="1368360"/>
            <a:ext cx="15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06440" y="2701800"/>
            <a:ext cx="120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49200" y="2398680"/>
            <a:ext cx="231840" cy="22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0000" y="179280"/>
            <a:ext cx="1123920" cy="463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1499" t="0" r="1499" b="0"/>
          <a:stretch/>
        </p:blipFill>
        <p:spPr>
          <a:xfrm>
            <a:off x="3699000" y="152280"/>
            <a:ext cx="5124240" cy="48387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49200" y="1042920"/>
            <a:ext cx="217440" cy="225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49200" y="1368360"/>
            <a:ext cx="15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6440" y="2701800"/>
            <a:ext cx="120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349200" y="2398680"/>
            <a:ext cx="231840" cy="22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0000" y="179280"/>
            <a:ext cx="1123920" cy="463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984" t="0" r="995" b="0"/>
          <a:stretch/>
        </p:blipFill>
        <p:spPr>
          <a:xfrm>
            <a:off x="3699000" y="152280"/>
            <a:ext cx="5124240" cy="48387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49200" y="1042920"/>
            <a:ext cx="217440" cy="225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49200" y="1368360"/>
            <a:ext cx="15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6440" y="2701800"/>
            <a:ext cx="120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349200" y="2398680"/>
            <a:ext cx="231840" cy="22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0000" y="179280"/>
            <a:ext cx="1123920" cy="463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1384" t="0" r="1384" b="0"/>
          <a:stretch/>
        </p:blipFill>
        <p:spPr>
          <a:xfrm>
            <a:off x="3699000" y="152280"/>
            <a:ext cx="5124240" cy="48387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49200" y="1042920"/>
            <a:ext cx="217440" cy="225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49200" y="1368360"/>
            <a:ext cx="15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6440" y="2701800"/>
            <a:ext cx="120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49200" y="2398680"/>
            <a:ext cx="231840" cy="22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70000" y="179280"/>
            <a:ext cx="1123920" cy="463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704" t="0" r="704" b="0"/>
          <a:stretch/>
        </p:blipFill>
        <p:spPr>
          <a:xfrm>
            <a:off x="3699000" y="152280"/>
            <a:ext cx="5124240" cy="4838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49200" y="1042920"/>
            <a:ext cx="217440" cy="225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49200" y="1368360"/>
            <a:ext cx="15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6440" y="2701800"/>
            <a:ext cx="120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49200" y="2398680"/>
            <a:ext cx="231840" cy="225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