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393-F330-4383-878A-FA39F9A1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939-5272-4FA4-B9C5-98576F75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A64-3CE5-4B97-8586-5257B6D6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29A-127C-4240-9B29-E05A1A99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B71-21B2-4746-9E8C-5820843E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E95-DE04-4313-A6ED-272714A9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B7F-911B-4B23-B48E-95C4938D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24A-6B0B-4983-B8BA-68BF1A9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065-7EBC-40E6-A4ED-8E15496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D25-5AF3-4906-953D-3277E441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DF8-E5CE-427A-BC6A-6D05D2B0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663-1611-4010-9236-0A5D1F3C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1AFB-088B-4DD2-BC2E-50E177A89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азис в тунис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763640" y="179280"/>
            <a:ext cx="5040360" cy="65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оазис в тунис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086680" cy="5495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s://ds02.infourok.ru/uploads/ex/10c2/00067961-b96d8666/hello_html_126f5461.png"/>
          <p:cNvPicPr/>
          <p:nvPr/>
        </p:nvPicPr>
        <p:blipFill>
          <a:blip r:embed="rId3"/>
          <a:stretch/>
        </p:blipFill>
        <p:spPr>
          <a:xfrm>
            <a:off x="4716360" y="3429000"/>
            <a:ext cx="1656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оазис в тунис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f2.mylove.ru/5fUoP1OecF.jpg"/>
          <p:cNvPicPr/>
          <p:nvPr/>
        </p:nvPicPr>
        <p:blipFill>
          <a:blip r:embed="rId2"/>
          <a:stretch/>
        </p:blipFill>
        <p:spPr>
          <a:xfrm>
            <a:off x="324000" y="476280"/>
            <a:ext cx="8496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оазис в тунис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f1.mylove.ru/4pIA24PhBt.jpg"/>
          <p:cNvPicPr/>
          <p:nvPr/>
        </p:nvPicPr>
        <p:blipFill>
          <a:blip r:embed="rId2"/>
          <a:stretch/>
        </p:blipFill>
        <p:spPr>
          <a:xfrm>
            <a:off x="395280" y="404640"/>
            <a:ext cx="838188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1:09:17Z</dcterms:created>
  <dc:creator>Admin</dc:creator>
  <dc:description/>
  <dc:language>en-US</dc:language>
  <cp:lastModifiedBy>User User</cp:lastModifiedBy>
  <dcterms:modified xsi:type="dcterms:W3CDTF">2017-02-14T20:30:15Z</dcterms:modified>
  <cp:revision>89</cp:revision>
  <dc:subject/>
  <dc:title>Слайд 1</dc:title>
</cp:coreProperties>
</file>