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4FC-E361-4717-AB41-B56C2750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355-8CDD-434F-BB53-B728707C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A8A-FC3C-4337-8A18-84A5990E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5AC-EC7B-428A-A3FD-789C2A6C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00A-8ED8-463A-933B-C0974E0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F0B-4D5C-4292-8492-4BBFC4BC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9BE-9D8C-4D18-9E6E-BD74272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91D-6D75-4FD4-9821-CDB68A92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2E1-1551-46BA-88EE-4B43D1D4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DC6-AA0E-441A-8A10-D020F85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92A-8385-4757-BCCE-30BCBE7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1A1-17E9-4815-B4D0-B9E9F84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348C-382A-4FC7-9118-F5253AE2E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179280"/>
            <a:ext cx="5040360" cy="65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086680" cy="549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s://ds02.infourok.ru/uploads/ex/10c2/00067961-b96d8666/hello_html_126f5461.png"/>
          <p:cNvPicPr/>
          <p:nvPr/>
        </p:nvPicPr>
        <p:blipFill>
          <a:blip r:embed="rId3"/>
          <a:stretch/>
        </p:blipFill>
        <p:spPr>
          <a:xfrm>
            <a:off x="4716360" y="3429000"/>
            <a:ext cx="1656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f2.mylove.ru/5fUoP1OecF.jpg"/>
          <p:cNvPicPr/>
          <p:nvPr/>
        </p:nvPicPr>
        <p:blipFill>
          <a:blip r:embed="rId2"/>
          <a:stretch/>
        </p:blipFill>
        <p:spPr>
          <a:xfrm>
            <a:off x="324000" y="476280"/>
            <a:ext cx="8496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f1.mylove.ru/4pIA24PhBt.jpg"/>
          <p:cNvPicPr/>
          <p:nvPr/>
        </p:nvPicPr>
        <p:blipFill>
          <a:blip r:embed="rId2"/>
          <a:stretch/>
        </p:blipFill>
        <p:spPr>
          <a:xfrm>
            <a:off x="395280" y="404640"/>
            <a:ext cx="838188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1:09:17Z</dcterms:created>
  <dc:creator>Admin</dc:creator>
  <dc:description/>
  <dc:language>en-US</dc:language>
  <cp:lastModifiedBy>User User</cp:lastModifiedBy>
  <dcterms:modified xsi:type="dcterms:W3CDTF">2017-02-14T20:30:15Z</dcterms:modified>
  <cp:revision>89</cp:revision>
  <dc:subject/>
  <dc:title>Слайд 1</dc:title>
</cp:coreProperties>
</file>