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3AD-070A-4090-ADD6-8337D289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1B2-B846-4ABD-81D2-6A249D6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D39-004F-4D1A-AEC3-A09F3301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217-4B80-4EB5-81D3-A423B88C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46CF-217A-4469-B7DA-039F03AF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801B-EBA7-4547-9C71-83526835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B8C8-4745-4D54-A739-35F55148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098-1202-46DB-AB30-E9138C21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AECA-0C87-422B-9D6B-9F66A8E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2CAE-5FF5-43A0-9E92-CA42D43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757E-E214-4020-96D9-2225BE6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CE1-B286-4795-9BD4-61A25560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4221-5E0D-4800-AB9A-7A79EC8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1C33-CD75-4F6E-A6FB-680585A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E324-2960-4D6B-9948-F0C08BA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18EE-BD95-4323-B072-CD5C795A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29B-65E2-410C-A435-0DBBD455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2CA-6543-447C-87EE-8CC3817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D6A-1F7F-4850-BB1F-A32323B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F5D-F291-4983-B7B5-DDD306C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0D7-37B4-4DEE-9A53-794460D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781-9717-4178-A3FD-B2853ED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9E7-F247-4E15-98AF-6F9C0C3D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81F-8E29-4560-89FB-CC1A65D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05F-EA63-4766-9AF5-E6B190B2C7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7D3-E5F8-4B6D-BE9A-6C918B947B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09480" y="152280"/>
            <a:ext cx="8153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бно-исследовательская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2889360"/>
            <a:ext cx="8305920" cy="30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stral"/>
              </a:rPr>
              <a:t>Алгоритм разработ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stral"/>
              </a:rPr>
              <a:t>и оформления исследо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stral"/>
              <a:ea typeface="Mistr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2860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 исследования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762120"/>
            <a:ext cx="8001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Это совокупность способов, приёмов исследования, с помощью которых можно получить результ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Наблюдение (осмот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Сопоставление статистических да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Опросы, анкетир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Опыт (исследования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3657600"/>
            <a:ext cx="8381880" cy="290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ри осмотре деревьев устанавливали число видов лишайников, обитающих на них, внешний вид и состояние столонов. Лишайниковый покров изучается с четырёх сторон дерева на высоте 1,3 м. от земли. Исследовались старые деревья хвойных пород и берё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жидаемые результа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762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Связаны с целями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828800"/>
            <a:ext cx="8381880" cy="327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сновываясь на данных, полученных в ходе исследования, можно констатировать, что произвольное внимание изменяется в течение учебного дня. В первой половине дня уровень внимания ниже, чем в период с 11.30 до 13.30. Поэтому первые 3 урока менее продуктивны, чем последующ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905120" y="22860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а рабо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219320"/>
            <a:ext cx="8381880" cy="5266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Титульный л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одерж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ве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сновная часть: - методика проведения исследования; - организация исследования;        -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ы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писок литера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905120" y="22860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тульный лист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066680"/>
            <a:ext cx="8534520" cy="546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«………..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ношение к телерекла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: Иван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вавн Иванович, 10 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учный руководитель: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доров Иван Петр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2860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ержание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914400"/>
            <a:ext cx="8382240" cy="5556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ведение                                                             Основная част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                                                                                     1.1                                                                                    1.3                                                                              1.4                                                                                    1.4.1                                                                               1.4.2                                                                                  1.4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Заключ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Список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рил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438280" y="22860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ведение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990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Задача: привлечь внимание к проблеме, теме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2362320"/>
            <a:ext cx="8381880" cy="308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Даётся краткая характеристика проблемы или её история, обосновывается актуальность выбранной темы исследования, её научное и практическое значение,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формулируются цели и задачи, конкретизируются объект и предмет исслед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Объем – 1 страница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часть рабо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91440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Раскрывается 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ообщаются основные с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Пути решения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3048120"/>
            <a:ext cx="8381880" cy="301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Заглавие основной части выражает основное содержание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Рисунки, таблицы, ссылки на источники информ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Краткий вывод об исследовании пробл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Как происходило изуч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Методы исследования (описываются кратко)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 (выводы)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2133720"/>
            <a:ext cx="8382240" cy="3103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Подводится итог исследования: достигнуты ли цели, решены ли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Формируются выводы (должны чётко отражать позицию автор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Указываются пути реализации выв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Намечаются новые задачи и проблемы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2438280"/>
            <a:ext cx="8381880" cy="249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алфавитном порядке все источ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рэм А.Я. Жизнь животных М: Мир, 1992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атьи из сбор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атьи из журналов, Семаго Л.К. Каменная куница         Наука и жизнь – 1993 г. - №3 – с. 130-13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438280" y="457200"/>
            <a:ext cx="5334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пробл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це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актуализ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объект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предмет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гипоте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методы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ожидаемые результат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исследования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762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Исследование неизвестного, что предстоит открыть, доказать, изучить с новых пози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1981080"/>
            <a:ext cx="8381880" cy="273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На карте Кольского полуострова немало названий, в основе которых – цветовые ощущения людей. Нас это заинтересовало, и мы решили изучить причины появления цветовых топоним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228600"/>
            <a:ext cx="17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838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Отражает проблему. Удачная тема уточняет проблему, конкретизирует замысел, очерчивает рамки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971800"/>
            <a:ext cx="8382240" cy="2189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Изучение привычек питания у старшеклассник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Влияние загрязнения на растительность в селе …..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209680" y="228600"/>
            <a:ext cx="5181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ьность тем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066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Обосновывает необходимость проведения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200400"/>
            <a:ext cx="8381880" cy="217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Статистические данные указывают на актуальность изучения состояния природной среды Севера и возможных последствий его химического загрязнения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2590920"/>
            <a:ext cx="8382240" cy="309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бъектом исследования является действующее расписание уроков в школ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Грипп по прежнему остаётся неконтролируемой инфекцией, поэтому особенность его распространения мы выбирали в качестве объекта изучения»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352680" y="2286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ъект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Это область, в рамках которой ведётся исслед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 исследован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2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Изучается в рамках какого-то объекта. Устанавливает границы научного поиска в рамках какого-то объек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895480"/>
            <a:ext cx="8381880" cy="217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бъектом исследования является почва для выращивания комнатных растений. Предметом исследований – микрофлора почвы, её влияние на морфофизиологические признаки растений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657600" y="228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762120"/>
            <a:ext cx="89154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Выражает то основное, что намеревается сделать исследов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установить, выявить, выяснить, обосновать, провести, сформ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Задачи отражают пошаговость достижения цели, последовательность действий. Обозначают комплекс проблем которые необходимо решить в ходе эксперимент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2895480"/>
            <a:ext cx="8381880" cy="3594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Цель работы: изготовить образцы изделий прикладного творчества на основании изучения основных видов деятельности  народа в Смолен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Задачи: -познакомиться с основными занятиями и промыслами на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освоить технику работы с кожей, шерстью, л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изготовить предметы декоративно-прикладного творчества по образц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8120" y="2286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за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762120"/>
            <a:ext cx="8686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Это предположение в результате которого, ожидается достижение или не достижение цели исслед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Может быть несколько, формируется «Если …, то …»; «Чем …, тем …» 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2819520"/>
            <a:ext cx="8382240" cy="309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Если изменить кислотность почвы известкованием, то произойдёт усиление роста листов фиал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Если мы определим какое количество кофеина содержат различные сорта чая и кофе, то сможем рассчитать безвредную для человека ежедневную дозу»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01T18:43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