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A3D-66BF-4C8E-8B5F-F13DF46C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DFE-BAC7-4527-8894-5FD55F8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511-5FD4-4E64-A1A4-E6616564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C03-EE4E-43B3-94C3-F5CEDD23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C8C8-6EC3-47B1-80EE-DB30F159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6DD5-7F31-44A6-AC00-4F4FAEA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9BF-FADA-45D0-B865-1B49FD9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507E-DBB4-49E0-AE31-D98E390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8EE8-EBBE-47C0-B973-BD7CA19C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869-9A99-417D-BDE1-8B1B1B3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9BA4-8228-44DE-8823-87B4293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CE2-03AB-478F-BEE1-A8977B7F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B934-37DB-4F14-AA17-A9E5797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0F12-78B9-4CBF-AA1B-F1F4179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0364-1C37-4F60-8F1F-D307EB8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627-5C84-41D8-AE9A-18BF761A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8750-BDAF-41A4-A260-F4ABC16B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C3E-B6E7-4394-A90E-952CBAA0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1E6-FA59-4B58-9AC5-B927663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6BD-7B52-4440-9DF6-4B9A607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552-3212-4A9B-B5AD-19510F3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335-0076-4637-8CA5-B2FA5BF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CA9-D00A-46D9-80E6-63BF959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7BA-6EAE-46B6-8750-03D40C7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567-C1B4-4212-A703-21C13DF652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16B-E262-4429-B892-8E96FDFD8D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09480" y="152280"/>
            <a:ext cx="8153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бно-исследовательская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2889360"/>
            <a:ext cx="8305920" cy="30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stral"/>
              </a:rPr>
              <a:t>Алгоритм разработ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stral"/>
              </a:rPr>
              <a:t>и оформления исследо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stral"/>
              <a:ea typeface="Mistr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2860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 исследования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762120"/>
            <a:ext cx="8001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Это совокупность способов, приёмов исследования, с помощью которых можно получить результ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Наблюдение (осмот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Сопоставление статистических да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Опросы, анкетир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Опыт (исследования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3657600"/>
            <a:ext cx="8381880" cy="290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ри осмотре деревьев устанавливали число видов лишайников, обитающих на них, внешний вид и состояние столонов. Лишайниковый покров изучается с четырёх сторон дерева на высоте 1,3 м. от земли. Исследовались старые деревья хвойных пород и берё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жидаемые результа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762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Связаны с целями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828800"/>
            <a:ext cx="8381880" cy="327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сновываясь на данных, полученных в ходе исследования, можно констатировать, что произвольное внимание изменяется в течение учебного дня. В первой половине дня уровень внимания ниже, чем в период с 11.30 до 13.30. Поэтому первые 3 урока менее продуктивны, чем последующ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905120" y="22860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а рабо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219320"/>
            <a:ext cx="8381880" cy="5266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Титульный л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одерж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ве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сновная часть: - методика проведения исследования; - организация исследования;        -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ы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Список литера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ло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905120" y="22860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тульный лист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066680"/>
            <a:ext cx="8534520" cy="546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У «………..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ношение к телерекла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: Иван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вавн Иванович, 10 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учный руководитель: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доров Иван Петр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10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286000" y="228600"/>
            <a:ext cx="480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ержание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914400"/>
            <a:ext cx="8382240" cy="5556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Введение                                                             Основная част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                                                                                     1.1                                                                                    1.3                                                                              1.4                                                                                    1.4.1                                                                               1.4.2                                                                                  1.4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Заключ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Список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Прил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438280" y="22860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ведение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990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Задача: привлечь внимание к проблеме, теме рабо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2362320"/>
            <a:ext cx="8381880" cy="308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Даётся краткая характеристика проблемы или её история, обосновывается актуальность выбранной темы исследования, её научное и практическое значение,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формулируются цели и задачи, конкретизируются объект и предмет исслед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Объем – 1 страница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часть работ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914400"/>
            <a:ext cx="5334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Раскрывается 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ообщаются основные с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Пути решения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920" y="3048120"/>
            <a:ext cx="8381880" cy="301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Заглавие основной части выражает основное содержание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Рисунки, таблицы, ссылки на источники информ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Краткий вывод об исследовании пробл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Как происходило изуч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Методы исследования (описываются кратко)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лючение (выводы)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2133720"/>
            <a:ext cx="8382240" cy="3103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Подводится итог исследования: достигнуты ли цели, решены ли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Формируются выводы (должны чётко отражать позицию автор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Указываются пути реализации выв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Намечаются новые задачи и проблемы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2438280"/>
            <a:ext cx="8381880" cy="249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алфавитном порядке все источ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рэм А.Я. Жизнь животных М: Мир, 1992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атьи из сбор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атьи из журналов, Семаго Л.К. Каменная куница         Наука и жизнь – 1993 г. - №3 – с. 130-13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371600" y="228600"/>
            <a:ext cx="6553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438280" y="457200"/>
            <a:ext cx="5334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пробл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це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актуализ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объект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предмет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гипоте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методы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ожидаемые результат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исследования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762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Исследование неизвестного, что предстоит открыть, доказать, изучить с новых пози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1981080"/>
            <a:ext cx="8381880" cy="273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На карте Кольского полуострова немало названий, в основе которых – цветовые ощущения людей. Нас это заинтересовало, и мы решили изучить причины появления цветовых топоним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228600"/>
            <a:ext cx="17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8380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Отражает проблему. Удачная тема уточняет проблему, конкретизирует замысел, очерчивает рамки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971800"/>
            <a:ext cx="8382240" cy="2189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Изучение привычек питания у старшеклассников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Влияние загрязнения на растительность в селе …..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209680" y="228600"/>
            <a:ext cx="5181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уальность темы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066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Обосновывает необходимость проведения исслед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200400"/>
            <a:ext cx="8381880" cy="217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Статистические данные указывают на актуальность изучения состояния природной среды Севера и возможных последствий его химического загрязнения»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2590920"/>
            <a:ext cx="8382240" cy="309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бъектом исследования является действующее расписание уроков в школе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Грипп по прежнему остаётся неконтролируемой инфекцией, поэтому особенность его распространения мы выбирали в качестве объекта изучения»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352680" y="2286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ъект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Это область, в рамках которой ведётся исслед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05120" y="228600"/>
            <a:ext cx="54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 исследован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2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Изучается в рамках какого-то объекта. Устанавливает границы научного поиска в рамках какого-то объект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895480"/>
            <a:ext cx="8381880" cy="2174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Объектом исследования является почва для выращивания комнатных растений. Предметом исследований – микрофлора почвы, её влияние на морфофизиологические признаки растений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657600" y="228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762120"/>
            <a:ext cx="89154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Выражает то основное, что намеревается сделать исследов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установить, выявить, выяснить, обосновать, провести, сформ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Задачи отражают пошаговость достижения цели, последовательность действий. Обозначают комплекс проблем которые необходимо решить в ходе эксперимент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2895480"/>
            <a:ext cx="8381880" cy="3594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Цель работы: изготовить образцы изделий прикладного творчества на основании изучения основных видов деятельности  народа в Смолен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Задачи: -познакомиться с основными занятиями и промыслами на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освоить технику работы с кожей, шерстью, л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изготовить предметы декоративно-прикладного творчества по образц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8120" y="22860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за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762120"/>
            <a:ext cx="8686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Это предположение в результате которого, ожидается достижение или не достижение цели исслед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Может быть несколько, формируется «Если …, то …»; «Чем …, тем …» 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2819520"/>
            <a:ext cx="8382240" cy="309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Если изменить кислотность почвы известкованием, то произойдёт усиление роста листов фиал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«Если мы определим какое количество кофеина содержат различные сорта чая и кофе, то сможем рассчитать безвредную для человека ежедневную дозу»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01T18:43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