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6E6-FB88-406B-8F4B-53475214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B0A-AE9C-4239-90DD-919B3A9C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FF13-D58F-4D31-8169-BC4231CB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B6C2-4999-4FF9-BA25-5594B93A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25A6-C09B-4D08-929C-6E0410B8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E64C-83AC-48DF-976F-DFBC95C9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E8F1-A369-4577-947D-D5A4F3DC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9AE5-C394-4D1B-975E-EEB91454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F6E8-59E4-4929-9047-934BFFB0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4FE3-EC72-4D18-A99D-2399D4D6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8DA-2BB7-4027-BFDD-EC08E5BC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BFDD-8D3A-404F-98FC-B47E9F61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360C-184C-43DE-8802-BA6984FCC5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/>
          <p:cNvSpPr/>
          <p:nvPr/>
        </p:nvSpPr>
        <p:spPr>
          <a:xfrm>
            <a:off x="380880" y="228600"/>
            <a:ext cx="8458200" cy="6172200"/>
          </a:xfrm>
          <a:prstGeom prst="foldedCorner">
            <a:avLst>
              <a:gd name="adj" fmla="val 2306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1371600" y="457200"/>
            <a:ext cx="6404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a3602"/>
                </a:solidFill>
                <a:latin typeface="Bookman Old Style"/>
              </a:rPr>
              <a:t>МКОУ «Медвежьегорская СОШ №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1600200" y="2133720"/>
            <a:ext cx="754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e0000"/>
                </a:solidFill>
                <a:latin typeface="Bookman Old Style"/>
              </a:rPr>
              <a:t>«О чём могут рассказ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e0000"/>
                </a:solidFill>
                <a:latin typeface="Bookman Old Style"/>
              </a:rPr>
              <a:t>банкноты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2362320" y="4343400"/>
            <a:ext cx="5256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aa3602"/>
                </a:solidFill>
                <a:uFillTx/>
                <a:latin typeface="Bookman Old Style"/>
              </a:rPr>
              <a:t>Презентацию подготовили</a:t>
            </a:r>
            <a:r>
              <a:rPr b="1" i="1" lang="ru-RU" sz="1800" spc="-1" strike="noStrike">
                <a:solidFill>
                  <a:srgbClr val="aa3602"/>
                </a:solidFill>
                <a:latin typeface="Bookman Old Style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a3602"/>
                </a:solidFill>
                <a:latin typeface="Bookman Old Style"/>
              </a:rPr>
              <a:t>ученик 4б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a3602"/>
                </a:solidFill>
                <a:latin typeface="Bookman Old Style"/>
              </a:rPr>
              <a:t>Бабкин Кирилл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a3602"/>
                </a:solidFill>
                <a:latin typeface="Bookman Old Style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a3602"/>
                </a:solidFill>
                <a:latin typeface="Bookman Old Style"/>
              </a:rPr>
              <a:t>Пакуть Екатери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5" descr="C:\Users\user\Desktop\1000R_97_av.jpg"/>
          <p:cNvPicPr/>
          <p:nvPr/>
        </p:nvPicPr>
        <p:blipFill>
          <a:blip r:embed="rId1"/>
          <a:stretch/>
        </p:blipFill>
        <p:spPr>
          <a:xfrm>
            <a:off x="530280" y="4950000"/>
            <a:ext cx="1622520" cy="1395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C:\Users\user\Desktop\rf_1997_50_f.jpg"/>
          <p:cNvPicPr/>
          <p:nvPr/>
        </p:nvPicPr>
        <p:blipFill>
          <a:blip r:embed="rId2"/>
          <a:stretch/>
        </p:blipFill>
        <p:spPr>
          <a:xfrm>
            <a:off x="530280" y="1901880"/>
            <a:ext cx="1609560" cy="1658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7" descr="C:\Users\user\Desktop\500_front.jpg"/>
          <p:cNvPicPr/>
          <p:nvPr/>
        </p:nvPicPr>
        <p:blipFill>
          <a:blip r:embed="rId3"/>
          <a:stretch/>
        </p:blipFill>
        <p:spPr>
          <a:xfrm>
            <a:off x="530280" y="3498840"/>
            <a:ext cx="1603440" cy="1494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8" descr="C:\Users\user\Desktop\rossiya15.jpg"/>
          <p:cNvPicPr/>
          <p:nvPr/>
        </p:nvPicPr>
        <p:blipFill>
          <a:blip r:embed="rId4"/>
          <a:stretch/>
        </p:blipFill>
        <p:spPr>
          <a:xfrm>
            <a:off x="7004160" y="378000"/>
            <a:ext cx="1596960" cy="1792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9" descr="C:\Users\user\Desktop\100R_97_rv.jpg"/>
          <p:cNvPicPr/>
          <p:nvPr/>
        </p:nvPicPr>
        <p:blipFill>
          <a:blip r:embed="rId5"/>
          <a:stretch/>
        </p:blipFill>
        <p:spPr>
          <a:xfrm>
            <a:off x="530280" y="298440"/>
            <a:ext cx="1689120" cy="1652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user\Desktop\elitefon.ru-39566.jpg"/>
          <p:cNvPicPr/>
          <p:nvPr/>
        </p:nvPicPr>
        <p:blipFill>
          <a:blip r:embed="rId6"/>
          <a:stretch/>
        </p:blipFill>
        <p:spPr>
          <a:xfrm>
            <a:off x="2279520" y="1517760"/>
            <a:ext cx="6205680" cy="3547800"/>
          </a:xfrm>
          <a:prstGeom prst="rect">
            <a:avLst/>
          </a:prstGeom>
          <a:ln w="0">
            <a:noFill/>
          </a:ln>
        </p:spPr>
      </p:pic>
      <p:sp>
        <p:nvSpPr>
          <p:cNvPr id="51" name="Заголовок 1"/>
          <p:cNvSpPr/>
          <p:nvPr/>
        </p:nvSpPr>
        <p:spPr>
          <a:xfrm>
            <a:off x="2209680" y="914400"/>
            <a:ext cx="67820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7e0000"/>
                </a:solidFill>
                <a:uFillTx/>
                <a:latin typeface="Bookman Old Style"/>
              </a:rPr>
              <a:t>Цель работы</a:t>
            </a: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: исследование изображений на современных банкнотах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7e0000"/>
                </a:solidFill>
                <a:uFillTx/>
                <a:latin typeface="Bookman Old Style"/>
              </a:rPr>
              <a:t>Задачи</a:t>
            </a: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e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Узнать, когда появились бумажные деньг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e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Составить список банкнот, которые используются в настоящее время в РФ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e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Собрать информацию о городах и достопримечательностях, изображённых на банкнотах Российской Федерации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e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Провести опрос среди сверстников и взросл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e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Сделать выво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7e0000"/>
                </a:solidFill>
                <a:uFillTx/>
                <a:latin typeface="Bookman Old Style"/>
              </a:rPr>
              <a:t>Гипотеза</a:t>
            </a: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: Я думаю, что на современных банкнотах изображены значимые символы России, которые  могут что-то рассказать о нашей Великой стр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5:51:16Z</dcterms:created>
  <dc:creator>user</dc:creator>
  <dc:description/>
  <dc:language>en-US</dc:language>
  <cp:lastModifiedBy>user</cp:lastModifiedBy>
  <dcterms:modified xsi:type="dcterms:W3CDTF">2017-02-14T13:21:55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