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883-908F-4024-801F-1988858E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173-4AFA-4194-A2B4-C932882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C5C-0835-4FE3-B370-1E821A70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4EA-43C0-4570-9C4D-7D9B5CFB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C2A-002A-4CAE-9610-04E9A6F8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1B5-4B4D-4A4A-8468-43650C9F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07B-5296-46A6-A21D-4B0277C7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F1B-EFA9-4BB9-A114-A51E498B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523-DAB4-4C61-8F4A-AC816B8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9F3-04C3-4C9E-9FC5-8F11920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F03-68BF-4249-A8CD-3A3DABF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719-D125-4FAB-BB44-D30F2A9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9EC-F07F-429A-A2DD-20DBB06DB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609480" y="914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e0000"/>
                </a:solidFill>
                <a:latin typeface="Bookman Old Style"/>
              </a:rPr>
              <a:t>«Банкно́та (от англ. bank — банк и англ. note — расписка) — денежный знак, изготовленный на основе бумаги из хлопка, реже льн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kitajskije-dengi.jpg"/>
          <p:cNvPicPr/>
          <p:nvPr/>
        </p:nvPicPr>
        <p:blipFill>
          <a:blip r:embed="rId1"/>
          <a:stretch/>
        </p:blipFill>
        <p:spPr>
          <a:xfrm>
            <a:off x="4456080" y="2359080"/>
            <a:ext cx="398160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article559.jpg"/>
          <p:cNvPicPr/>
          <p:nvPr/>
        </p:nvPicPr>
        <p:blipFill>
          <a:blip r:embed="rId2"/>
          <a:stretch/>
        </p:blipFill>
        <p:spPr>
          <a:xfrm>
            <a:off x="530280" y="3651120"/>
            <a:ext cx="3462120" cy="274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user\Desktop\2713152372831358508014.jpg"/>
          <p:cNvPicPr/>
          <p:nvPr/>
        </p:nvPicPr>
        <p:blipFill>
          <a:blip r:embed="rId3"/>
          <a:stretch/>
        </p:blipFill>
        <p:spPr>
          <a:xfrm>
            <a:off x="2664000" y="1749600"/>
            <a:ext cx="2365200" cy="29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2-14T13:23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