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2A6-5409-4188-AEE4-AF6481B6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60E-A9F6-469E-B771-841EA32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172-32C3-4798-B676-7507CC2B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5BF-88A1-4DA7-8C74-49CCE764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401-5E58-4AB4-9391-E9A7E91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461-483C-4175-9468-4E6ACCF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503-4AC6-49BE-9596-2DF8C73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835-5256-4E7A-89CF-364A7978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D77-0697-4536-BD3B-8501A8B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987-1BEE-47F5-8A6B-9C962E2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771-077F-4488-9DDF-2A9A479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6A7-B25B-40CA-BFAC-F2B6A3F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C5A9-3CED-45CC-864E-CA38DF64F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609480" y="914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«Банкно́та (от англ. bank — банк и англ. note — расписка) — денежный знак, изготовленный на основе бумаги из хлопка, реже льн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kitajskije-dengi.jpg"/>
          <p:cNvPicPr/>
          <p:nvPr/>
        </p:nvPicPr>
        <p:blipFill>
          <a:blip r:embed="rId1"/>
          <a:stretch/>
        </p:blipFill>
        <p:spPr>
          <a:xfrm>
            <a:off x="4456080" y="2359080"/>
            <a:ext cx="398160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article559.jpg"/>
          <p:cNvPicPr/>
          <p:nvPr/>
        </p:nvPicPr>
        <p:blipFill>
          <a:blip r:embed="rId2"/>
          <a:stretch/>
        </p:blipFill>
        <p:spPr>
          <a:xfrm>
            <a:off x="530280" y="3651120"/>
            <a:ext cx="346212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user\Desktop\2713152372831358508014.jpg"/>
          <p:cNvPicPr/>
          <p:nvPr/>
        </p:nvPicPr>
        <p:blipFill>
          <a:blip r:embed="rId3"/>
          <a:stretch/>
        </p:blipFill>
        <p:spPr>
          <a:xfrm>
            <a:off x="2664000" y="1749600"/>
            <a:ext cx="2365200" cy="29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3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