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7E4-90F1-42D4-819A-51AE3A95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C7B-E31C-4E4A-9B65-FB9771C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001-3DF9-4915-933A-762F693B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2E9-CDA5-4D7F-AFB8-1B1F09F8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96A-27BD-4267-A7F9-88486481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247-769D-4BFC-8D0A-4DD2904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BA1-052A-43F9-8E64-3C81E64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FB4-C225-4C38-9036-7165B4E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F43-4606-4E5A-A759-6069476C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7F8-57BF-42AE-B15E-ED89247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AC9-AAF3-428B-AC1C-44152BA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75A-336E-4393-A95A-E4A756A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A822-CD6A-466D-A6BA-1014F21D5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user\Desktop\сша.jpg"/>
          <p:cNvPicPr/>
          <p:nvPr/>
        </p:nvPicPr>
        <p:blipFill>
          <a:blip r:embed="rId1"/>
          <a:stretch/>
        </p:blipFill>
        <p:spPr>
          <a:xfrm>
            <a:off x="3578400" y="1139760"/>
            <a:ext cx="521172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user\Desktop\израиль.jpg"/>
          <p:cNvPicPr/>
          <p:nvPr/>
        </p:nvPicPr>
        <p:blipFill>
          <a:blip r:embed="rId2"/>
          <a:stretch/>
        </p:blipFill>
        <p:spPr>
          <a:xfrm>
            <a:off x="3498840" y="3651120"/>
            <a:ext cx="5187960" cy="25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user\Desktop\сев ирландия.jpg"/>
          <p:cNvPicPr/>
          <p:nvPr/>
        </p:nvPicPr>
        <p:blipFill>
          <a:blip r:embed="rId3"/>
          <a:stretch/>
        </p:blipFill>
        <p:spPr>
          <a:xfrm>
            <a:off x="603360" y="3121200"/>
            <a:ext cx="4597200" cy="22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user\Desktop\британ.jpg"/>
          <p:cNvPicPr/>
          <p:nvPr/>
        </p:nvPicPr>
        <p:blipFill>
          <a:blip r:embed="rId4"/>
          <a:stretch/>
        </p:blipFill>
        <p:spPr>
          <a:xfrm>
            <a:off x="603360" y="298440"/>
            <a:ext cx="4279680" cy="20797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533520" y="228600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724280" y="320040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457200" y="53341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еверная 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3733920" y="60199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Изра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3:4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