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A06-FBFF-4505-830B-AF9B3B69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F3A-57F9-43A7-A5CC-FB36A6FE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48D-4A7D-4499-BEE1-C97AD9E5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536-46D1-4B81-91CD-B6DD0380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1CE6-F7DA-422F-90CD-E77817C6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E36E-D603-4B09-9E57-A8502569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BF9F-F5A7-4DCB-ADF0-643DE199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1AAA-402C-4A3F-9291-BC519F10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600C-EF07-44EC-9233-99166E1C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615-F28B-4F1C-AD2F-32AE5DDE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3FE8-4DB3-47E5-990B-6C76776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E4D-B425-44EC-8109-34EC5FE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87CB-877B-4CC1-AD91-2A1F0C8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BC14-3C68-4863-A6F1-34C6DE41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74DE-BEFB-4097-A8DA-27B00C69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2476-E5BD-4D1C-9AA3-1FE57316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5B42-9BFB-40F0-AD39-70FAE37D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FA0-1E0C-4A71-AA8B-D8B9A3E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2E9-9988-4A6F-86AA-8C4156D4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1B7-0340-4034-8C4D-CB8613F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55F-5589-4BCE-BF61-B01F00C6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06F-90C7-446A-B096-88032AF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C2B-8FD2-45E2-856A-37BE450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433-C474-4577-A86F-4198D33A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34AC-3341-446D-A71A-690794C00C2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D72C-5193-41B4-801E-7C07793E7B7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Экология Капустной белянки и методы борьбы с ней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92720" y="2923920"/>
            <a:ext cx="339408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ница 9 «Б»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БОУ «Гавриловская со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апошникова Ал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й консультан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биологии Миронова Е.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12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0" descr="1900760"/>
          <p:cNvPicPr/>
          <p:nvPr/>
        </p:nvPicPr>
        <p:blipFill>
          <a:blip r:embed="rId1"/>
          <a:stretch/>
        </p:blipFill>
        <p:spPr>
          <a:xfrm>
            <a:off x="457200" y="1700280"/>
            <a:ext cx="4762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</a:t>
            </a: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Результат наблюдени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ли отобраны 2 учетных участка капу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ок №1 размещался на открытом солнце, №2 – при значительной затененности между яблон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бнаружении и подсчете кладок яиц и гусениц на растениях 1 и 2 участка обратил на себя внимание тот факт, что в тени гусеницы капустницы чувствуют себя комфортнее ( их больше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3941640"/>
          <a:ext cx="8229600" cy="2281320"/>
        </p:xfrm>
        <a:graphic>
          <a:graphicData uri="http://schemas.openxmlformats.org/drawingml/2006/table">
            <a:tbl>
              <a:tblPr/>
              <a:tblGrid>
                <a:gridCol w="1090440"/>
                <a:gridCol w="3024360"/>
                <a:gridCol w="2057400"/>
                <a:gridCol w="2057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зафиксированных Белянок над участ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обнаруженных кладок я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яиц в обнаруженных клад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Применяемые технологии борьб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участке №1 использовала механический метод: сбор в ручную и последующее уничтожение кладок яиц и гусени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участке №2 использовались настои и отвары из экологически чистого сырья – растений, ядовитых для насекомых, но не для человека ( жгучий перец, луковая шелуха, горчица, крапива, лопух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раллельно я проводила подсчет особей вредителя на учетных участках. Результа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941640"/>
          <a:ext cx="8229600" cy="2773440"/>
        </p:xfrm>
        <a:graphic>
          <a:graphicData uri="http://schemas.openxmlformats.org/drawingml/2006/table">
            <a:tbl>
              <a:tblPr/>
              <a:tblGrid>
                <a:gridCol w="946080"/>
                <a:gridCol w="2346480"/>
                <a:gridCol w="1644480"/>
                <a:gridCol w="1646280"/>
                <a:gridCol w="1646280"/>
              </a:tblGrid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етного учас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 борь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аружение бабо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аружение кл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аружение гусе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жедневный сбор гусе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жедне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жедне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ез 2-3 д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работка растительными отварами с интервалом 5-10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жедне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ез 3-6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ез 4-8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Подводим итоги : урожаю быть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9" name="Picture 7" descr="Kleiner_Kohlweissling_Pieris_rapae_2"/>
          <p:cNvPicPr/>
          <p:nvPr/>
        </p:nvPicPr>
        <p:blipFill>
          <a:blip r:embed="rId1"/>
          <a:stretch/>
        </p:blipFill>
        <p:spPr>
          <a:xfrm>
            <a:off x="900000" y="1628640"/>
            <a:ext cx="2194200" cy="2189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итогам наблюдений видно, что и механическим и химическим способом борьбы можно успешно пользоваться и регулировать численность вредителя весьма успешно, при этом не обрабатывая растения ядовитыми инсектицидами. Если на практике удалось доказать, что без участия ядовитых веществ можно успешно выращивать растения капусты и при этом получать высокий урожай и, что самое главное, экологически чистый продукт, то стоит ли рисковать своим здоровьем? Думаю, что ответ очевиден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16" descr="15"/>
          <p:cNvPicPr/>
          <p:nvPr/>
        </p:nvPicPr>
        <p:blipFill>
          <a:blip r:embed="rId2"/>
          <a:stretch/>
        </p:blipFill>
        <p:spPr>
          <a:xfrm>
            <a:off x="5796000" y="162864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20"/>
          <p:cNvPicPr/>
          <p:nvPr/>
        </p:nvPicPr>
        <p:blipFill>
          <a:blip r:embed="rId3"/>
          <a:stretch/>
        </p:blipFill>
        <p:spPr>
          <a:xfrm>
            <a:off x="3348000" y="1628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2"/>
          <p:cNvPicPr/>
          <p:nvPr/>
        </p:nvPicPr>
        <p:blipFill>
          <a:blip r:embed="rId1"/>
          <a:stretch/>
        </p:blipFill>
        <p:spPr>
          <a:xfrm>
            <a:off x="1403280" y="1773360"/>
            <a:ext cx="6265800" cy="4535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Перенимайте опыт и спасибо за                 внимание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    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Самый распространенный                               вредитель капусты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пустная Белянка – насекомое с которым человек ведет борьбу и не всегда в этой борьбе человек выходит победителем, так как темпы размножения бабочки высокие, устойчивость к ядохимикатам благодаря мутациям высокая и использование инсектицидов скорее вредит человеку, а не регулирует численность насеком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ль данной работы- изучить экологию вредителя и  опытным путем подобрать оптимальные , безопасные и эффективные способы борьбы с ни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14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       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Систематическое</a:t>
            </a:r>
            <a:br>
              <a:rPr sz="4400"/>
            </a:b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        положение      ви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арство Живот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Членистног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ласс Насеком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класс Крылат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яд Чешуекрыл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йство Белян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 Огородные Белян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Капустн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8" descr="2461198"/>
          <p:cNvPicPr/>
          <p:nvPr/>
        </p:nvPicPr>
        <p:blipFill>
          <a:blip r:embed="rId1"/>
          <a:stretch/>
        </p:blipFill>
        <p:spPr>
          <a:xfrm>
            <a:off x="457200" y="2192400"/>
            <a:ext cx="403848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17"/>
          <p:cNvPicPr/>
          <p:nvPr/>
        </p:nvPicPr>
        <p:blipFill>
          <a:blip r:embed="rId1"/>
          <a:stretch/>
        </p:blipFill>
        <p:spPr>
          <a:xfrm>
            <a:off x="324000" y="1484280"/>
            <a:ext cx="2447640" cy="2290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Морфофизиологические </a:t>
            </a:r>
            <a:br>
              <a:rPr sz="4400"/>
            </a:b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               особенности вид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абочка окрашена в зеленовато-желтый цвет, темные пятна, булавовидные усики, большие фасеточные глаза, длинный спирально завитый хоботок для сосания некта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ладка  имеет вид кучки ярко-желтых продолговатых яичек до 30 шт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усеницы серовато-зеленые с черными точками и светло-желтой полосой на спине. Имеют 8 пар коротких ножек.Все тело покрыто волоск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 желтовато-зеленая с черными точками и хорошо различимыми будущими крыльями, усиками, хоботком и конечност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8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2376720" cy="21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14"/>
          <p:cNvPicPr/>
          <p:nvPr/>
        </p:nvPicPr>
        <p:blipFill>
          <a:blip r:embed="rId3"/>
          <a:stretch/>
        </p:blipFill>
        <p:spPr>
          <a:xfrm>
            <a:off x="1619280" y="3284640"/>
            <a:ext cx="2519280" cy="201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12"/>
          <p:cNvPicPr/>
          <p:nvPr/>
        </p:nvPicPr>
        <p:blipFill>
          <a:blip r:embed="rId4"/>
          <a:stretch/>
        </p:blipFill>
        <p:spPr>
          <a:xfrm>
            <a:off x="2268360" y="4508640"/>
            <a:ext cx="23036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</a:t>
            </a: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Бабочка капустная белянка в</a:t>
            </a:r>
            <a:br>
              <a:rPr sz="4000"/>
            </a:b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             системе агроценоз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06" name="Diagram 23"/>
          <p:cNvGrpSpPr/>
          <p:nvPr/>
        </p:nvGrpSpPr>
        <p:grpSpPr>
          <a:xfrm>
            <a:off x="2095560" y="1924200"/>
            <a:ext cx="4772160" cy="4104720"/>
            <a:chOff x="2095560" y="1924200"/>
            <a:chExt cx="4772160" cy="4104720"/>
          </a:xfrm>
        </p:grpSpPr>
        <p:sp>
          <p:nvSpPr>
            <p:cNvPr id="107" name="_s1028"/>
            <p:cNvSpPr/>
            <p:nvPr/>
          </p:nvSpPr>
          <p:spPr>
            <a:xfrm>
              <a:off x="3019320" y="1924200"/>
              <a:ext cx="2923920" cy="2884320"/>
            </a:xfrm>
            <a:custGeom>
              <a:avLst/>
              <a:gdLst>
                <a:gd name="textAreaLeft" fmla="*/ 0 w 2923920"/>
                <a:gd name="textAreaRight" fmla="*/ 2924280 w 29239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29"/>
            <p:cNvSpPr/>
            <p:nvPr/>
          </p:nvSpPr>
          <p:spPr>
            <a:xfrm rot="7200000">
              <a:off x="3438360" y="2586600"/>
              <a:ext cx="2884320" cy="29239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923920"/>
                <a:gd name="textAreaBottom" fmla="*/ 2924280 h 29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0"/>
            <p:cNvSpPr/>
            <p:nvPr/>
          </p:nvSpPr>
          <p:spPr>
            <a:xfrm rot="14400000">
              <a:off x="2640240" y="2586600"/>
              <a:ext cx="2884320" cy="29235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923560"/>
                <a:gd name="textAreaBottom" fmla="*/ 2923920 h 29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5282640" y="2451240"/>
              <a:ext cx="117216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Бабоч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Белян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питаетс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нектаром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растений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3897720" y="4824360"/>
              <a:ext cx="11725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Гусениц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питаетс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вегетативным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органам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зеленых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растен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2506320" y="2452680"/>
              <a:ext cx="11725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Кукол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использует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запасные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питатель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веществ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3" name="Picture 30" descr="3775"/>
          <p:cNvPicPr/>
          <p:nvPr/>
        </p:nvPicPr>
        <p:blipFill>
          <a:blip r:embed="rId1"/>
          <a:stretch/>
        </p:blipFill>
        <p:spPr>
          <a:xfrm>
            <a:off x="3564000" y="2781360"/>
            <a:ext cx="1800000" cy="194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1" descr="22"/>
          <p:cNvPicPr/>
          <p:nvPr/>
        </p:nvPicPr>
        <p:blipFill>
          <a:blip r:embed="rId2"/>
          <a:stretch/>
        </p:blipFill>
        <p:spPr>
          <a:xfrm>
            <a:off x="250920" y="42210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2" descr="f9419899be52e9567bc5216e7335ec1ee3524dcf"/>
          <p:cNvPicPr/>
          <p:nvPr/>
        </p:nvPicPr>
        <p:blipFill>
          <a:blip r:embed="rId3"/>
          <a:stretch/>
        </p:blipFill>
        <p:spPr>
          <a:xfrm>
            <a:off x="626436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8"/>
          <p:cNvPicPr/>
          <p:nvPr/>
        </p:nvPicPr>
        <p:blipFill>
          <a:blip r:embed="rId4"/>
          <a:stretch/>
        </p:blipFill>
        <p:spPr>
          <a:xfrm>
            <a:off x="6443640" y="4221000"/>
            <a:ext cx="2160720" cy="222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4" descr="12"/>
          <p:cNvPicPr/>
          <p:nvPr/>
        </p:nvPicPr>
        <p:blipFill>
          <a:blip r:embed="rId5"/>
          <a:stretch/>
        </p:blipFill>
        <p:spPr>
          <a:xfrm>
            <a:off x="395280" y="1484280"/>
            <a:ext cx="1933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1" i="1" lang="ru-RU" sz="3200" spc="-1" strike="noStrike">
                <a:solidFill>
                  <a:srgbClr val="999900"/>
                </a:solidFill>
                <a:latin typeface="Garamond"/>
              </a:rPr>
              <a:t>Методы борьбы с вредителем сельского                хозяйства – Капустной Белянко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ественные враг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ездники – паразиты Капустн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ка наездника прокалывает своим яйцекладом кожу гусеницы, откладывает яйца, из которых развиваются личинки, питающиеся внутренними органами гусеницы. Вырастая, личинки пробуравливают кожу гусеницы и выходят нару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наездник7"/>
          <p:cNvPicPr/>
          <p:nvPr/>
        </p:nvPicPr>
        <p:blipFill>
          <a:blip r:embed="rId1"/>
          <a:stretch/>
        </p:blipFill>
        <p:spPr>
          <a:xfrm>
            <a:off x="4846680" y="1600200"/>
            <a:ext cx="3639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</a:t>
            </a: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Привлекайте</a:t>
            </a:r>
            <a:br>
              <a:rPr sz="4000"/>
            </a:b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            в сад насекомоядных птиц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зрослые насекомоядные птицы наполняют свой желудок 5-6 раз в сутки, причем количество съедаемой пищи у некоторых видов примерно равно их собственному вес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пищей птиц являются насекомые, которые причиняют очень большой вред человеку. Розовый скворец, например, в сутки съедает 200 грамм саранчи, а весит птица при этом 60-80 грам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ще интенсивнее идет питание птенцов. Установлено, что ласточки, скворцы, синицы и другие мелкие птицы во время выкармливания птенцов подлетают к гнезду с пищей в клюве сотни раз в сутки. В частности, большая синица приносит пищу птенцам 350-390 раз в сутки 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24"/>
          <p:cNvPicPr/>
          <p:nvPr/>
        </p:nvPicPr>
        <p:blipFill>
          <a:blip r:embed="rId1"/>
          <a:stretch/>
        </p:blipFill>
        <p:spPr>
          <a:xfrm>
            <a:off x="5003640" y="1844640"/>
            <a:ext cx="36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Химические способы борьб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только мы взялись за пестициды, мы вступили в бесконечную борьбу, в которой наши мелкие временные победы, в конечном итоге оборачиваются крупными поражен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6" descr="2"/>
          <p:cNvPicPr/>
          <p:nvPr/>
        </p:nvPicPr>
        <p:blipFill>
          <a:blip r:embed="rId1"/>
          <a:stretch/>
        </p:blipFill>
        <p:spPr>
          <a:xfrm>
            <a:off x="4500720" y="1557360"/>
            <a:ext cx="4248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       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Эксперимент на грядк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имент проводился в течении весенне-летнего периода 2011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го суть – борьба с вредителем всеми известными способами и поиск оптимального решения проблемы: получить хороший урожай и экологически чистую продукц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что из этого получилос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15"/>
          <p:cNvPicPr/>
          <p:nvPr/>
        </p:nvPicPr>
        <p:blipFill>
          <a:blip r:embed="rId1"/>
          <a:stretch/>
        </p:blipFill>
        <p:spPr>
          <a:xfrm>
            <a:off x="4716360" y="1413000"/>
            <a:ext cx="3889440" cy="25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17"/>
          <p:cNvPicPr/>
          <p:nvPr/>
        </p:nvPicPr>
        <p:blipFill>
          <a:blip r:embed="rId2"/>
          <a:stretch/>
        </p:blipFill>
        <p:spPr>
          <a:xfrm>
            <a:off x="6195960" y="400536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14"/>
          <p:cNvPicPr/>
          <p:nvPr/>
        </p:nvPicPr>
        <p:blipFill>
          <a:blip r:embed="rId3"/>
          <a:stretch/>
        </p:blipFill>
        <p:spPr>
          <a:xfrm>
            <a:off x="4067280" y="4005360"/>
            <a:ext cx="2089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02:19Z</dcterms:created>
  <dc:creator>Admin</dc:creator>
  <dc:description/>
  <dc:language>en-US</dc:language>
  <cp:lastModifiedBy>-</cp:lastModifiedBy>
  <dcterms:modified xsi:type="dcterms:W3CDTF">2012-03-20T11:03:25Z</dcterms:modified>
  <cp:revision>7</cp:revision>
  <dc:subject/>
  <dc:title>Экология Капустной белянк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