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A91-FAFD-4973-8E37-1AA2AA24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1DC-4E76-439E-A0D1-7B3EE54F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AD3D-E6AF-4C50-90DD-74CDF802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4BB-629B-46BD-A73C-DAE1E1C9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E089-5503-423A-940E-A7FC2E6E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7524-9E6B-4C88-996B-759957FB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50D0-758F-41E3-A17B-62964078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12D8-18BA-46D5-921F-DAB0B990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EE13-E102-4BDA-A479-023D7B51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6429-72FC-449B-804E-20F6A822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31BB-DCB6-4B83-937E-83EEDDD4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342-44B7-4027-AD48-BE6A3CDA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0EAB-B2DF-4847-9973-1CB3BDE8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CE75-F99F-481E-873B-ECA3BF96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0A0C-447E-4FD7-A2AF-D2FBF229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BC4E-6430-4BF4-8A7E-95536EDB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A344-EC3F-49C2-ABC5-CEC51766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500-1CEA-4505-AC79-02C53198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F72-642F-49A0-8821-FB960A71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274B-3D71-4639-A0C3-05A3F82C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5EA-81DE-406A-8FFF-777A0B75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BEC-96B8-4503-949B-CB152817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B39-5FE3-4739-B2D4-0FD27B96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46BC-21D0-4257-86C2-2C980247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F921-10DA-4E31-A2E4-9DB5F89C6BD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6329-68EB-4709-A4E5-13999B37258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9900"/>
                </a:solidFill>
                <a:latin typeface="Garamond"/>
              </a:rPr>
              <a:t>Экология Капустной белянки и методы борьбы с ней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92720" y="2923920"/>
            <a:ext cx="3394080" cy="32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у выполни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ница 9 «Б» клас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БОУ «Гавриловская сош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апошникова Али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учный консультан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итель биологии Миронова Е.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012 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10" descr="1900760"/>
          <p:cNvPicPr/>
          <p:nvPr/>
        </p:nvPicPr>
        <p:blipFill>
          <a:blip r:embed="rId1"/>
          <a:stretch/>
        </p:blipFill>
        <p:spPr>
          <a:xfrm>
            <a:off x="457200" y="1700280"/>
            <a:ext cx="4762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        </a:t>
            </a:r>
            <a:r>
              <a:rPr b="1" i="1" lang="ru-RU" sz="4000" spc="-1" strike="noStrike">
                <a:solidFill>
                  <a:srgbClr val="999900"/>
                </a:solidFill>
                <a:latin typeface="Garamond"/>
              </a:rPr>
              <a:t>Результат наблюдений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ли отобраны 2 учетных участка капу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асток №1 размещался на открытом солнце, №2 – при значительной затененности между яблон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обнаружении и подсчете кладок яиц и гусениц на растениях 1 и 2 участка обратил на себя внимание тот факт, что в тени гусеницы капустницы чувствуют себя комфортнее ( их больше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3941640"/>
          <a:ext cx="8229600" cy="2281320"/>
        </p:xfrm>
        <a:graphic>
          <a:graphicData uri="http://schemas.openxmlformats.org/drawingml/2006/table">
            <a:tbl>
              <a:tblPr/>
              <a:tblGrid>
                <a:gridCol w="1090440"/>
                <a:gridCol w="3024360"/>
                <a:gridCol w="2057400"/>
                <a:gridCol w="2057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ас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ичество зафиксированных Белянок над участ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ичество обнаруженных кладок я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ичество яиц в обнаруженных кладк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9900"/>
                </a:solidFill>
                <a:latin typeface="Garamond"/>
              </a:rPr>
              <a:t>Применяемые технологии борьб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участке №1 использовала механический метод: сбор в ручную и последующее уничтожение кладок яиц и гусениц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участке №2 использовались настои и отвары из экологически чистого сырья – растений, ядовитых для насекомых, но не для человека ( жгучий перец, луковая шелуха, горчица, крапива, лопух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раллельно я проводила подсчет особей вредителя на учетных участках. Результа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3941640"/>
          <a:ext cx="8229600" cy="2773440"/>
        </p:xfrm>
        <a:graphic>
          <a:graphicData uri="http://schemas.openxmlformats.org/drawingml/2006/table">
            <a:tbl>
              <a:tblPr/>
              <a:tblGrid>
                <a:gridCol w="946080"/>
                <a:gridCol w="2346480"/>
                <a:gridCol w="1644480"/>
                <a:gridCol w="1646280"/>
                <a:gridCol w="1646280"/>
              </a:tblGrid>
              <a:tr h="100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етного учас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д борь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наружение бабоч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наружение клад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наружение гусен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жедневный сбор гусен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жеднев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жеднев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рез 2-3 д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работка растительными отварами с интервалом 5-10 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жеднев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рез 3-6 д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рез 4-8 д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i="1" lang="ru-RU" sz="4000" spc="-1" strike="noStrike">
                <a:solidFill>
                  <a:srgbClr val="999900"/>
                </a:solidFill>
                <a:latin typeface="Garamond"/>
              </a:rPr>
              <a:t>Подводим итоги : урожаю быть!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9" name="Picture 7" descr="Kleiner_Kohlweissling_Pieris_rapae_2"/>
          <p:cNvPicPr/>
          <p:nvPr/>
        </p:nvPicPr>
        <p:blipFill>
          <a:blip r:embed="rId1"/>
          <a:stretch/>
        </p:blipFill>
        <p:spPr>
          <a:xfrm>
            <a:off x="900000" y="1628640"/>
            <a:ext cx="2194200" cy="21891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итогам наблюдений видно, что и механическим и химическим способом борьбы можно успешно пользоваться и регулировать численность вредителя весьма успешно, при этом не обрабатывая растения ядовитыми инсектицидами. Если на практике удалось доказать, что без участия ядовитых веществ можно успешно выращивать растения капусты и при этом получать высокий урожай и, что самое главное, экологически чистый продукт, то стоит ли рисковать своим здоровьем? Думаю, что ответ очевиден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16" descr="15"/>
          <p:cNvPicPr/>
          <p:nvPr/>
        </p:nvPicPr>
        <p:blipFill>
          <a:blip r:embed="rId2"/>
          <a:stretch/>
        </p:blipFill>
        <p:spPr>
          <a:xfrm>
            <a:off x="5796000" y="162864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20"/>
          <p:cNvPicPr/>
          <p:nvPr/>
        </p:nvPicPr>
        <p:blipFill>
          <a:blip r:embed="rId3"/>
          <a:stretch/>
        </p:blipFill>
        <p:spPr>
          <a:xfrm>
            <a:off x="3348000" y="162864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22"/>
          <p:cNvPicPr/>
          <p:nvPr/>
        </p:nvPicPr>
        <p:blipFill>
          <a:blip r:embed="rId1"/>
          <a:stretch/>
        </p:blipFill>
        <p:spPr>
          <a:xfrm>
            <a:off x="1403280" y="1773360"/>
            <a:ext cx="6265800" cy="45352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9900"/>
                </a:solidFill>
                <a:latin typeface="Garamond"/>
              </a:rPr>
              <a:t>Перенимайте опыт и спасибо за                 внимание!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       </a:t>
            </a:r>
            <a:r>
              <a:rPr b="1" i="1" lang="ru-RU" sz="4400" spc="-1" strike="noStrike">
                <a:solidFill>
                  <a:srgbClr val="999900"/>
                </a:solidFill>
                <a:latin typeface="Garamond"/>
              </a:rPr>
              <a:t>Самый распространенный                               вредитель капусты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пустная Белянка – насекомое с которым человек ведет борьбу и не всегда в этой борьбе человек выходит победителем, так как темпы размножения бабочки высокие, устойчивость к ядохимикатам благодаря мутациям высокая и использование инсектицидов скорее вредит человеку, а не регулирует численность насекомы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ель данной работы- изучить экологию вредителя и  опытным путем подобрать оптимальные , безопасные и эффективные способы борьбы с ни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2" descr="14"/>
          <p:cNvPicPr/>
          <p:nvPr/>
        </p:nvPicPr>
        <p:blipFill>
          <a:blip r:embed="rId1"/>
          <a:stretch/>
        </p:blipFill>
        <p:spPr>
          <a:xfrm>
            <a:off x="457200" y="2344680"/>
            <a:ext cx="40384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           </a:t>
            </a:r>
            <a:r>
              <a:rPr b="1" i="1" lang="ru-RU" sz="4400" spc="-1" strike="noStrike">
                <a:solidFill>
                  <a:srgbClr val="999900"/>
                </a:solidFill>
                <a:latin typeface="Garamond"/>
              </a:rPr>
              <a:t>Систематическое</a:t>
            </a:r>
            <a:br>
              <a:rPr sz="4400"/>
            </a:br>
            <a:r>
              <a:rPr b="1" i="1" lang="ru-RU" sz="4400" spc="-1" strike="noStrike">
                <a:solidFill>
                  <a:srgbClr val="999900"/>
                </a:solidFill>
                <a:latin typeface="Garamond"/>
              </a:rPr>
              <a:t>        положение      вид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арство Живот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Членистног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ласс Насеком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класс Крылат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яд Чешуекрыл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мейство Белян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д Огородные Белян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Капустниц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8" descr="2461198"/>
          <p:cNvPicPr/>
          <p:nvPr/>
        </p:nvPicPr>
        <p:blipFill>
          <a:blip r:embed="rId1"/>
          <a:stretch/>
        </p:blipFill>
        <p:spPr>
          <a:xfrm>
            <a:off x="457200" y="2192400"/>
            <a:ext cx="403848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17"/>
          <p:cNvPicPr/>
          <p:nvPr/>
        </p:nvPicPr>
        <p:blipFill>
          <a:blip r:embed="rId1"/>
          <a:stretch/>
        </p:blipFill>
        <p:spPr>
          <a:xfrm>
            <a:off x="324000" y="1484280"/>
            <a:ext cx="2447640" cy="2290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    </a:t>
            </a:r>
            <a:r>
              <a:rPr b="1" i="1" lang="ru-RU" sz="4400" spc="-1" strike="noStrike">
                <a:solidFill>
                  <a:srgbClr val="999900"/>
                </a:solidFill>
                <a:latin typeface="Garamond"/>
              </a:rPr>
              <a:t>Морфофизиологические </a:t>
            </a:r>
            <a:br>
              <a:rPr sz="4400"/>
            </a:br>
            <a:r>
              <a:rPr b="1" i="1" lang="ru-RU" sz="4400" spc="-1" strike="noStrike">
                <a:solidFill>
                  <a:srgbClr val="999900"/>
                </a:solidFill>
                <a:latin typeface="Garamond"/>
              </a:rPr>
              <a:t>               особенности вида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абочка окрашена в зеленовато-желтый цвет, темные пятна, булавовидные усики, большие фасеточные глаза, длинный спирально завитый хоботок для сосания нектар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ладка  имеет вид кучки ярко-желтых продолговатых яичек до 30 шту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усеницы серовато-зеленые с черными точками и светло-желтой полосой на спине. Имеют 8 пар коротких ножек.Все тело покрыто волоск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 желтовато-зеленая с черными точками и хорошо различимыми будущими крыльями, усиками, хоботком и конечностя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8" descr="4"/>
          <p:cNvPicPr/>
          <p:nvPr/>
        </p:nvPicPr>
        <p:blipFill>
          <a:blip r:embed="rId2"/>
          <a:stretch/>
        </p:blipFill>
        <p:spPr>
          <a:xfrm>
            <a:off x="900000" y="2276640"/>
            <a:ext cx="2376720" cy="216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14"/>
          <p:cNvPicPr/>
          <p:nvPr/>
        </p:nvPicPr>
        <p:blipFill>
          <a:blip r:embed="rId3"/>
          <a:stretch/>
        </p:blipFill>
        <p:spPr>
          <a:xfrm>
            <a:off x="1619280" y="3284640"/>
            <a:ext cx="2519280" cy="2017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12"/>
          <p:cNvPicPr/>
          <p:nvPr/>
        </p:nvPicPr>
        <p:blipFill>
          <a:blip r:embed="rId4"/>
          <a:stretch/>
        </p:blipFill>
        <p:spPr>
          <a:xfrm>
            <a:off x="2268360" y="4508640"/>
            <a:ext cx="230364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   </a:t>
            </a:r>
            <a:r>
              <a:rPr b="1" i="1" lang="ru-RU" sz="4000" spc="-1" strike="noStrike">
                <a:solidFill>
                  <a:srgbClr val="999900"/>
                </a:solidFill>
                <a:latin typeface="Garamond"/>
              </a:rPr>
              <a:t>Бабочка капустная белянка в</a:t>
            </a:r>
            <a:br>
              <a:rPr sz="4000"/>
            </a:br>
            <a:r>
              <a:rPr b="1" i="1" lang="ru-RU" sz="4000" spc="-1" strike="noStrike">
                <a:solidFill>
                  <a:srgbClr val="999900"/>
                </a:solidFill>
                <a:latin typeface="Garamond"/>
              </a:rPr>
              <a:t>             системе агроценоза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06" name="Diagram 23"/>
          <p:cNvGrpSpPr/>
          <p:nvPr/>
        </p:nvGrpSpPr>
        <p:grpSpPr>
          <a:xfrm>
            <a:off x="2095560" y="1924200"/>
            <a:ext cx="4772160" cy="4104720"/>
            <a:chOff x="2095560" y="1924200"/>
            <a:chExt cx="4772160" cy="4104720"/>
          </a:xfrm>
        </p:grpSpPr>
        <p:sp>
          <p:nvSpPr>
            <p:cNvPr id="107" name="_s1028"/>
            <p:cNvSpPr/>
            <p:nvPr/>
          </p:nvSpPr>
          <p:spPr>
            <a:xfrm>
              <a:off x="3019320" y="1924200"/>
              <a:ext cx="2923920" cy="2884320"/>
            </a:xfrm>
            <a:custGeom>
              <a:avLst/>
              <a:gdLst>
                <a:gd name="textAreaLeft" fmla="*/ 0 w 2923920"/>
                <a:gd name="textAreaRight" fmla="*/ 2924280 w 292392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_s1029"/>
            <p:cNvSpPr/>
            <p:nvPr/>
          </p:nvSpPr>
          <p:spPr>
            <a:xfrm rot="7200000">
              <a:off x="3438360" y="2586600"/>
              <a:ext cx="2884320" cy="292392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923920"/>
                <a:gd name="textAreaBottom" fmla="*/ 2924280 h 29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1030"/>
            <p:cNvSpPr/>
            <p:nvPr/>
          </p:nvSpPr>
          <p:spPr>
            <a:xfrm rot="14400000">
              <a:off x="2640240" y="2586600"/>
              <a:ext cx="2884320" cy="292356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923560"/>
                <a:gd name="textAreaBottom" fmla="*/ 2923920 h 292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_s1031"/>
            <p:cNvSpPr/>
            <p:nvPr/>
          </p:nvSpPr>
          <p:spPr>
            <a:xfrm>
              <a:off x="5282640" y="2451240"/>
              <a:ext cx="117216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Бабоч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Белянка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питается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нектаром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растений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_s1032"/>
            <p:cNvSpPr/>
            <p:nvPr/>
          </p:nvSpPr>
          <p:spPr>
            <a:xfrm>
              <a:off x="3897720" y="4824360"/>
              <a:ext cx="117252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Гусениц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питается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вегетативными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органами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зеленых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растений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2506320" y="2452680"/>
              <a:ext cx="117252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Кукол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использует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запасные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питательные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веществ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13" name="Picture 30" descr="3775"/>
          <p:cNvPicPr/>
          <p:nvPr/>
        </p:nvPicPr>
        <p:blipFill>
          <a:blip r:embed="rId1"/>
          <a:stretch/>
        </p:blipFill>
        <p:spPr>
          <a:xfrm>
            <a:off x="3564000" y="2781360"/>
            <a:ext cx="1800000" cy="194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1" descr="22"/>
          <p:cNvPicPr/>
          <p:nvPr/>
        </p:nvPicPr>
        <p:blipFill>
          <a:blip r:embed="rId2"/>
          <a:stretch/>
        </p:blipFill>
        <p:spPr>
          <a:xfrm>
            <a:off x="250920" y="42210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2" descr="f9419899be52e9567bc5216e7335ec1ee3524dcf"/>
          <p:cNvPicPr/>
          <p:nvPr/>
        </p:nvPicPr>
        <p:blipFill>
          <a:blip r:embed="rId3"/>
          <a:stretch/>
        </p:blipFill>
        <p:spPr>
          <a:xfrm>
            <a:off x="626436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3" descr="8"/>
          <p:cNvPicPr/>
          <p:nvPr/>
        </p:nvPicPr>
        <p:blipFill>
          <a:blip r:embed="rId4"/>
          <a:stretch/>
        </p:blipFill>
        <p:spPr>
          <a:xfrm>
            <a:off x="6443640" y="4221000"/>
            <a:ext cx="2160720" cy="222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4" descr="12"/>
          <p:cNvPicPr/>
          <p:nvPr/>
        </p:nvPicPr>
        <p:blipFill>
          <a:blip r:embed="rId5"/>
          <a:stretch/>
        </p:blipFill>
        <p:spPr>
          <a:xfrm>
            <a:off x="395280" y="1484280"/>
            <a:ext cx="1933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Garamond"/>
              </a:rPr>
              <a:t>  </a:t>
            </a:r>
            <a:r>
              <a:rPr b="1" i="1" lang="ru-RU" sz="3200" spc="-1" strike="noStrike">
                <a:solidFill>
                  <a:srgbClr val="999900"/>
                </a:solidFill>
                <a:latin typeface="Garamond"/>
              </a:rPr>
              <a:t>Методы борьбы с вредителем сельского                хозяйства – Капустной Белянкой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ественные враг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ездники – паразиты Капустниц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мка наездника прокалывает своим яйцекладом кожу гусеницы, откладывает яйца, из которых развиваются личинки, питающиеся внутренними органами гусеницы. Вырастая, личинки пробуравливают кожу гусеницы и выходят наруж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6" descr="наездник7"/>
          <p:cNvPicPr/>
          <p:nvPr/>
        </p:nvPicPr>
        <p:blipFill>
          <a:blip r:embed="rId1"/>
          <a:stretch/>
        </p:blipFill>
        <p:spPr>
          <a:xfrm>
            <a:off x="4846680" y="1600200"/>
            <a:ext cx="36399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                 </a:t>
            </a:r>
            <a:r>
              <a:rPr b="1" i="1" lang="ru-RU" sz="4000" spc="-1" strike="noStrike">
                <a:solidFill>
                  <a:srgbClr val="999900"/>
                </a:solidFill>
                <a:latin typeface="Garamond"/>
              </a:rPr>
              <a:t>Привлекайте</a:t>
            </a:r>
            <a:br>
              <a:rPr sz="4000"/>
            </a:br>
            <a:r>
              <a:rPr b="1" i="1" lang="ru-RU" sz="4000" spc="-1" strike="noStrike">
                <a:solidFill>
                  <a:srgbClr val="999900"/>
                </a:solidFill>
                <a:latin typeface="Garamond"/>
              </a:rPr>
              <a:t>            в сад насекомоядных птиц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зрослые насекомоядные птицы наполняют свой желудок 5-6 раз в сутки, причем количество съедаемой пищи у некоторых видов примерно равно их собственному вес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новной пищей птиц являются насекомые, которые причиняют очень большой вред человеку. Розовый скворец, например, в сутки съедает 200 грамм саранчи, а весит птица при этом 60-80 грам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ще интенсивнее идет питание птенцов. Установлено, что ласточки, скворцы, синицы и другие мелкие птицы во время выкармливания птенцов подлетают к гнезду с пищей в клюве сотни раз в сутки. В частности, большая синица приносит пищу птенцам 350-390 раз в сутки 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6" descr="24"/>
          <p:cNvPicPr/>
          <p:nvPr/>
        </p:nvPicPr>
        <p:blipFill>
          <a:blip r:embed="rId1"/>
          <a:stretch/>
        </p:blipFill>
        <p:spPr>
          <a:xfrm>
            <a:off x="5003640" y="1844640"/>
            <a:ext cx="3600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  </a:t>
            </a:r>
            <a:r>
              <a:rPr b="1" i="1" lang="ru-RU" sz="4400" spc="-1" strike="noStrike">
                <a:solidFill>
                  <a:srgbClr val="999900"/>
                </a:solidFill>
                <a:latin typeface="Garamond"/>
              </a:rPr>
              <a:t>Химические способы борьб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только мы взялись за пестициды, мы вступили в бесконечную борьбу, в которой наши мелкие временные победы, в конечном итоге оборачиваются крупными поражения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6" descr="2"/>
          <p:cNvPicPr/>
          <p:nvPr/>
        </p:nvPicPr>
        <p:blipFill>
          <a:blip r:embed="rId1"/>
          <a:stretch/>
        </p:blipFill>
        <p:spPr>
          <a:xfrm>
            <a:off x="4500720" y="1557360"/>
            <a:ext cx="4248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          </a:t>
            </a:r>
            <a:r>
              <a:rPr b="1" i="1" lang="ru-RU" sz="4400" spc="-1" strike="noStrike">
                <a:solidFill>
                  <a:srgbClr val="999900"/>
                </a:solidFill>
                <a:latin typeface="Garamond"/>
              </a:rPr>
              <a:t>Эксперимент на грядк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еримент проводился в течении весенне-летнего периода 2011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го суть – борьба с вредителем всеми известными способами и поиск оптимального решения проблемы: получить хороший урожай и экологически чистую продукц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т что из этого получилось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15"/>
          <p:cNvPicPr/>
          <p:nvPr/>
        </p:nvPicPr>
        <p:blipFill>
          <a:blip r:embed="rId1"/>
          <a:stretch/>
        </p:blipFill>
        <p:spPr>
          <a:xfrm>
            <a:off x="4716360" y="1413000"/>
            <a:ext cx="3889440" cy="252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17"/>
          <p:cNvPicPr/>
          <p:nvPr/>
        </p:nvPicPr>
        <p:blipFill>
          <a:blip r:embed="rId2"/>
          <a:stretch/>
        </p:blipFill>
        <p:spPr>
          <a:xfrm>
            <a:off x="6195960" y="4005360"/>
            <a:ext cx="2336760" cy="2519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14"/>
          <p:cNvPicPr/>
          <p:nvPr/>
        </p:nvPicPr>
        <p:blipFill>
          <a:blip r:embed="rId3"/>
          <a:stretch/>
        </p:blipFill>
        <p:spPr>
          <a:xfrm>
            <a:off x="4067280" y="4005360"/>
            <a:ext cx="2089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2:02:19Z</dcterms:created>
  <dc:creator>Admin</dc:creator>
  <dc:description/>
  <dc:language>en-US</dc:language>
  <cp:lastModifiedBy>-</cp:lastModifiedBy>
  <dcterms:modified xsi:type="dcterms:W3CDTF">2012-03-20T11:03:25Z</dcterms:modified>
  <cp:revision>7</cp:revision>
  <dc:subject/>
  <dc:title>Экология Капустной белянк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