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866-6475-4546-B912-800ED8A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D5E-0E09-4601-8D56-41B8DCB4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396-5E66-4385-8051-33B23A0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7E6-01B4-4062-82BA-4A8E0263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92DF-42B5-4B75-A049-C0C7DB3D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6403-7BFE-4BE9-ADCD-5114961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A49D-3C95-4303-8368-AAF6D66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6331-C22E-4353-9227-81E6C35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3EA2-A749-454F-BC83-5603DE3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2E9E-1FB6-46C1-949C-E17C325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93ED-3DA7-4B6D-9E7D-1483107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9C1-F8B1-4160-9D5E-83EF5966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A4C8-8CBE-4D3E-A959-9EBE741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80B-FAC1-4631-96B5-C64196C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8011-A0FB-4C0A-9B9B-2401791F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995-A021-4F82-BBCD-D0F992F0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820A-E78B-4DAC-A224-ADD59E67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5AB-978B-48E2-9835-E7ACED6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542-C879-4D66-887F-5E651C7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953-D530-4590-AA23-FCE2D5C0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E4D-D088-4482-99AB-7E0ED5D1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27D-ABBF-4513-836B-E2E16E1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3DE-8182-43C2-8B40-8ACE2BD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20B-47D0-4248-B3A1-1E645BD5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624-6DED-4BEC-8F89-898B76CA96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4B1E-5803-4CB1-86EB-E8586FB4A9A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Verdana"/>
            </a:endParaRPr>
          </a:p>
        </p:txBody>
      </p:sp>
      <p:pic>
        <p:nvPicPr>
          <p:cNvPr id="116" name="Picture 5" descr="http://img.photo.tut.ua/wowanez/5202/22926/2275474.jpg"/>
          <p:cNvPicPr/>
          <p:nvPr/>
        </p:nvPicPr>
        <p:blipFill>
          <a:blip r:embed="rId1"/>
          <a:stretch/>
        </p:blipFill>
        <p:spPr>
          <a:xfrm>
            <a:off x="-181080" y="-243000"/>
            <a:ext cx="8899560" cy="6674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2d2d2"/>
                </a:solidFill>
                <a:latin typeface="Arial"/>
              </a:rPr>
              <a:t>The Houses of Parliament is the seat of British Parliament. It consists of the House of Lords and the House of Commons.</a:t>
            </a:r>
            <a:br>
              <a:rPr sz="1600"/>
            </a:br>
            <a:endParaRPr b="0" lang="en-US" sz="16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ffff"/>
              </a:solidFill>
              <a:latin typeface="Verdana"/>
            </a:endParaRPr>
          </a:p>
        </p:txBody>
      </p:sp>
      <p:pic>
        <p:nvPicPr>
          <p:cNvPr id="119" name="Picture 5" descr="http://blog.fratria.ru/downontour/uk/london/sights/london_sight_1.jpg"/>
          <p:cNvPicPr/>
          <p:nvPr/>
        </p:nvPicPr>
        <p:blipFill>
          <a:blip r:embed="rId1"/>
          <a:stretch/>
        </p:blipFill>
        <p:spPr>
          <a:xfrm>
            <a:off x="34920" y="1197000"/>
            <a:ext cx="9109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34:32Z</dcterms:created>
  <dc:creator>Стерх</dc:creator>
  <dc:description/>
  <dc:language>en-US</dc:language>
  <cp:lastModifiedBy>Home</cp:lastModifiedBy>
  <dcterms:modified xsi:type="dcterms:W3CDTF">2016-02-22T18:43:01Z</dcterms:modified>
  <cp:revision>27</cp:revision>
  <dc:subject/>
  <dc:title>10 класс</dc:title>
</cp:coreProperties>
</file>