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D32-C505-4D18-B625-872770E1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01B-0B56-409D-9D30-72E4D4A8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88D-10AA-4CFA-8B29-FEBE2F2A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A086-DDDE-4294-AC29-33906D7B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6D48-F8FE-4092-8DCA-23AF79E7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F33C-EFB6-49F3-B1EF-479D5D8F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C5C7-7126-46B6-A049-9B1BC627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7282-6B4A-4CCB-A325-169E9856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E3D1-FD14-4B1A-88CC-FBD183E0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211C-F9AC-4928-A56C-E7AA3486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137D-FC1C-40E0-9657-44BBDDCB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C19-BBE2-441F-964C-C29DB7F7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4F46-CFC1-4D57-8AC6-6FB4780F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47B5-FE95-47EB-B68C-53B697BE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BC4E-F519-4A06-9FF0-C5C43D45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6CA4-701B-49A2-9563-518B37FE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CD88-7A37-4C18-84D3-0371327E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0C1-34F7-4B96-91E0-24F3F4CF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C42-78DC-49A2-B7B7-E8469DFD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680-1A82-4E6A-9DBD-B8C7A0ED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E33-C211-4774-9DFB-7E6EAD9C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3E6C-45C3-44D1-86C7-BC3A3E06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B10F-558B-4219-AABA-A4698F35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28F-F297-48E2-A1C0-2007FD31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9e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55E2-0D42-4634-BA84-15F0C8ED408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bf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2d2d2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79c2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9e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bf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2d2d2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79c2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DCF6-9ED9-4B63-A375-78840E9E9F72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ff"/>
              </a:solidFill>
              <a:latin typeface="Verdana"/>
            </a:endParaRPr>
          </a:p>
        </p:txBody>
      </p:sp>
      <p:pic>
        <p:nvPicPr>
          <p:cNvPr id="116" name="Picture 5" descr="http://img.photo.tut.ua/wowanez/5202/22926/2275474.jpg"/>
          <p:cNvPicPr/>
          <p:nvPr/>
        </p:nvPicPr>
        <p:blipFill>
          <a:blip r:embed="rId1"/>
          <a:stretch/>
        </p:blipFill>
        <p:spPr>
          <a:xfrm>
            <a:off x="-181080" y="-243000"/>
            <a:ext cx="8899560" cy="6674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2d2d2"/>
                </a:solidFill>
                <a:latin typeface="Arial"/>
              </a:rPr>
              <a:t>The Houses of Parliament is the seat of British Parliament. It consists of the House of Lords and the House of Commons.</a:t>
            </a:r>
            <a:br>
              <a:rPr sz="1600"/>
            </a:br>
            <a:endParaRPr b="0" lang="en-US" sz="16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ff"/>
              </a:solidFill>
              <a:latin typeface="Verdana"/>
            </a:endParaRPr>
          </a:p>
        </p:txBody>
      </p:sp>
      <p:pic>
        <p:nvPicPr>
          <p:cNvPr id="119" name="Picture 5" descr="http://blog.fratria.ru/downontour/uk/london/sights/london_sight_1.jpg"/>
          <p:cNvPicPr/>
          <p:nvPr/>
        </p:nvPicPr>
        <p:blipFill>
          <a:blip r:embed="rId1"/>
          <a:stretch/>
        </p:blipFill>
        <p:spPr>
          <a:xfrm>
            <a:off x="34920" y="1197000"/>
            <a:ext cx="9109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6:34:32Z</dcterms:created>
  <dc:creator>Стерх</dc:creator>
  <dc:description/>
  <dc:language>en-US</dc:language>
  <cp:lastModifiedBy>Home</cp:lastModifiedBy>
  <dcterms:modified xsi:type="dcterms:W3CDTF">2016-02-22T18:43:01Z</dcterms:modified>
  <cp:revision>27</cp:revision>
  <dc:subject/>
  <dc:title>10 класс</dc:title>
</cp:coreProperties>
</file>