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7B6-B271-4270-A0F6-BB4CE389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E5C-4116-4DB4-8874-102F0BF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330-6343-457E-9075-78EAC51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BD4-D350-48C5-AA45-28FEB99B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423-2DE7-48BF-8A4B-DEECF0A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6F6-1B37-45CD-BA93-B7F0CA7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9C2-7424-4A97-8B90-69AE7A69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322-A70E-44D6-BF6D-9557D85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6DE-D853-42C6-9EF0-ED280ADB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030-4692-4D2C-BCE4-BEC2BE7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AED-AAEA-4B8E-ACB3-28C022C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4FC-98F7-43DC-90AC-C912CD0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88F-9F9A-4829-A662-962C8CCB1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1a3ff"/>
              </a:gs>
              <a:gs pos="50000">
                <a:srgbClr val="b7e7cf"/>
              </a:gs>
              <a:gs pos="100000">
                <a:srgbClr val="d1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609480" y="457200"/>
            <a:ext cx="7925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зготовление игруше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редметов заместител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южетно - ролевых игр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15" descr="G0181818"/>
          <p:cNvPicPr/>
          <p:nvPr/>
        </p:nvPicPr>
        <p:blipFill>
          <a:blip r:embed="rId1"/>
          <a:stretch/>
        </p:blipFill>
        <p:spPr>
          <a:xfrm>
            <a:off x="2438280" y="2590920"/>
            <a:ext cx="4038840" cy="40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bbe0e3"/>
              </a:gs>
              <a:gs pos="100000">
                <a:srgbClr val="cc99ff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Человек, который прививает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своим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детям навыки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трудолюб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обеспечивает их лучш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чем если бы он оставил им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сле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i="1" lang="ru-RU" sz="4000" spc="-1" strike="noStrike">
                <a:solidFill>
                  <a:srgbClr val="000066"/>
                </a:solidFill>
                <a:latin typeface="Arial"/>
              </a:rPr>
              <a:t>Уэйт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фото2 047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фото2 048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фото2 049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фото2 060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фото2 067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ото2 076"/>
          <p:cNvPicPr/>
          <p:nvPr/>
        </p:nvPicPr>
        <p:blipFill>
          <a:blip r:embed="rId1"/>
          <a:stretch/>
        </p:blipFill>
        <p:spPr>
          <a:xfrm>
            <a:off x="-179280" y="-135000"/>
            <a:ext cx="950436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ышка</cp:lastModifiedBy>
  <dcterms:modified xsi:type="dcterms:W3CDTF">2017-02-14T19:51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