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906-90C3-41D1-93F4-DC3E1CCF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23B-6527-4456-A397-62B5DAA5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79D-7085-4CF1-A361-6A44F125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093-007C-40EB-8034-50565852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D6CE-CB52-4E90-8477-19D37CFF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D38-57DA-49DA-BAE3-F26EA2E7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C10-7BA1-465A-B51E-60012B21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05B0-06B7-4C95-8C47-41B64404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F6D3-7B3C-4228-A34D-A2235299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3F8E-655C-40E3-AB5D-970EAE53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4CF-2485-4BFC-BE20-9AC383DF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3B5F-5DF1-4A0E-BC52-CE13430A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DCD4-D8DF-4DAD-AFCB-B18A12BA3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1a3ff"/>
              </a:gs>
              <a:gs pos="50000">
                <a:srgbClr val="b7e7cf"/>
              </a:gs>
              <a:gs pos="100000">
                <a:srgbClr val="d1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4"/>
          <p:cNvSpPr txBox="1"/>
          <p:nvPr/>
        </p:nvSpPr>
        <p:spPr>
          <a:xfrm>
            <a:off x="609480" y="457200"/>
            <a:ext cx="79250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Изготовление игруше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предметов заместителе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сюжетно - ролевых игр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15" descr="G0181818"/>
          <p:cNvPicPr/>
          <p:nvPr/>
        </p:nvPicPr>
        <p:blipFill>
          <a:blip r:embed="rId1"/>
          <a:stretch/>
        </p:blipFill>
        <p:spPr>
          <a:xfrm>
            <a:off x="2438280" y="2590920"/>
            <a:ext cx="4038840" cy="4038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bbe0e3"/>
              </a:gs>
              <a:gs pos="100000">
                <a:srgbClr val="cc99ff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Человек, который прививает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своим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детям навыки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трудолюб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обеспечивает их лучш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чем если бы он оставил им 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наслед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i="1" lang="ru-RU" sz="4000" spc="-1" strike="noStrike">
                <a:solidFill>
                  <a:srgbClr val="000066"/>
                </a:solidFill>
                <a:latin typeface="Arial"/>
              </a:rPr>
              <a:t>Уэйт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фото2 047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фото2 048"/>
          <p:cNvPicPr/>
          <p:nvPr/>
        </p:nvPicPr>
        <p:blipFill>
          <a:blip r:embed="rId1"/>
          <a:stretch/>
        </p:blipFill>
        <p:spPr>
          <a:xfrm>
            <a:off x="-179280" y="-135000"/>
            <a:ext cx="9504360" cy="71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фото2 049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фото2 060"/>
          <p:cNvPicPr/>
          <p:nvPr/>
        </p:nvPicPr>
        <p:blipFill>
          <a:blip r:embed="rId1"/>
          <a:stretch/>
        </p:blipFill>
        <p:spPr>
          <a:xfrm>
            <a:off x="-179280" y="-135000"/>
            <a:ext cx="9504360" cy="71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фото2 067"/>
          <p:cNvPicPr/>
          <p:nvPr/>
        </p:nvPicPr>
        <p:blipFill>
          <a:blip r:embed="rId1"/>
          <a:stretch/>
        </p:blipFill>
        <p:spPr>
          <a:xfrm>
            <a:off x="-179280" y="-135000"/>
            <a:ext cx="9504360" cy="71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фото2 076"/>
          <p:cNvPicPr/>
          <p:nvPr/>
        </p:nvPicPr>
        <p:blipFill>
          <a:blip r:embed="rId1"/>
          <a:stretch/>
        </p:blipFill>
        <p:spPr>
          <a:xfrm>
            <a:off x="-179280" y="-135000"/>
            <a:ext cx="9504360" cy="71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лышка</cp:lastModifiedBy>
  <dcterms:modified xsi:type="dcterms:W3CDTF">2017-02-14T19:51:2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