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2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2C0C-E73E-4256-81B8-CA7D987366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1213-2E10-438A-B0F9-F2E7A87E87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4EC5-974D-4451-B45D-F15F475B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981-0E56-47F7-9E73-EB799254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C39-4611-477B-BAA3-83378FC6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BD5-6398-4FE7-AC4D-F1A158D1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180B-3EA3-4BA0-B6D4-86223406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A2B-5E56-4E47-9085-E2C9742A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EE6-3E54-4E9D-A3C1-09BB9C56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90C-5FDD-4D7B-9422-4264654F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FEA-0E67-4175-AC7D-09ED53C3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0C0-AD09-472F-B3A7-AE77B134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0E9C-0957-4172-9B2D-9D0F48E1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3C1-1DFA-4E51-9D6B-DB14F87B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7892-4A19-4608-881E-421923B52E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forum.navitel.su/uploads/monthly_02_2010/post-21713-1266759165,05_thumb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Рисунок 3" descr="http://www.tvoyrebenok.ru/images/presentation/school/b/017.jpg"/>
          <p:cNvPicPr/>
          <p:nvPr/>
        </p:nvPicPr>
        <p:blipFill>
          <a:blip r:embed="rId1"/>
          <a:srcRect l="0" t="0" r="390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 flipV="1">
            <a:off x="1357200" y="438588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5" descr=""/>
          <p:cNvPicPr/>
          <p:nvPr/>
        </p:nvPicPr>
        <p:blipFill>
          <a:blip r:embed="rId2"/>
          <a:stretch/>
        </p:blipFill>
        <p:spPr>
          <a:xfrm>
            <a:off x="133200" y="2066760"/>
            <a:ext cx="9004320" cy="4260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%D0%92%D1%81%D1%91-%D0%BE%D1%82-%D0%BB%D1%8E%D0%B1%D0%B2%D0%B8"/>
          <p:cNvPicPr/>
          <p:nvPr/>
        </p:nvPicPr>
        <p:blipFill>
          <a:blip r:embed="rId3"/>
          <a:stretch/>
        </p:blipFill>
        <p:spPr>
          <a:xfrm>
            <a:off x="1357200" y="857160"/>
            <a:ext cx="392904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237960" y="480960"/>
            <a:ext cx="8766360" cy="208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64296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ю обучающимися разными видами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ю адаптироваться к окружающей среде, поддерживать и укреплять свое здоровье и физическую культур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ю правильного отношения к окружающему миру, этических и нравственных норм,  желания участвовать в разнообразной творческой деятельн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ю знаний, умений и способов деятельности, определяющих степень готовности обучающихся к дальнейшему обучению, развитие элементарных навыков самообразования, контроля и самооцен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747280" cy="2640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.Общекультур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.Общеинтеллектуа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.Социа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.Духовно-нравствен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.Спортивно-оздоровите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:\Комп №2\Мама\рисунки\картинка для презентаций\500149910.jpg"/>
          <p:cNvPicPr/>
          <p:nvPr/>
        </p:nvPicPr>
        <p:blipFill>
          <a:blip r:embed="rId2"/>
          <a:stretch/>
        </p:blipFill>
        <p:spPr>
          <a:xfrm>
            <a:off x="5500800" y="2571840"/>
            <a:ext cx="2928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53640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 игрова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 познавательна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 проблемно-ценностное общение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досугово-развлекательная (досуговое общение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 художественное творчество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  социальное творчество (социально преобразующая добровольческая деятельность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 трудовая (производственная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спортивно-оздоровительная 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туристско-краеведческа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242560" cy="1920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71680" y="1356840"/>
            <a:ext cx="82152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Цели  и задач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Мотивац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Ожидаемые результа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Основные принципы, воспитательные технолог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Направления развития лич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Цели, задач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иды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Формы рабо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Методический конструктор (с включением 3 уровней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Мониторинг, оценка результативности рабо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Нормативные документы (перечень используемых документов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Приложения (перечень традиционных мероприятий с ожидаемыми результатами, сборник социально-диагностических диагностик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bistroe_reshenie_zadach_uspeh"/>
          <p:cNvPicPr/>
          <p:nvPr/>
        </p:nvPicPr>
        <p:blipFill>
          <a:blip r:embed="rId2"/>
          <a:srcRect l="17720" t="0" r="0" b="0"/>
          <a:stretch/>
        </p:blipFill>
        <p:spPr>
          <a:xfrm>
            <a:off x="5929200" y="1285920"/>
            <a:ext cx="27147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-60480"/>
            <a:ext cx="8242560" cy="993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2"/>
          <a:srcRect l="1444" t="22669" r="4399" b="0"/>
          <a:stretch/>
        </p:blipFill>
        <p:spPr>
          <a:xfrm rot="120000">
            <a:off x="610920" y="920520"/>
            <a:ext cx="7791480" cy="2427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 rot="21540000">
            <a:off x="652320" y="3357720"/>
            <a:ext cx="77155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609480"/>
            <a:ext cx="8242560" cy="1322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42960" y="1428840"/>
            <a:ext cx="78580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Духовно-нравственное направление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оспитание гражданственности, патриотизма, уважения к правам, свободам и обязанностям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«Я - гражданин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85880" y="2857680"/>
          <a:ext cx="7358040" cy="3003480"/>
        </p:xfrm>
        <a:graphic>
          <a:graphicData uri="http://schemas.openxmlformats.org/drawingml/2006/table">
            <a:tbl>
              <a:tblPr/>
              <a:tblGrid>
                <a:gridCol w="3678120"/>
                <a:gridCol w="3679920"/>
              </a:tblGrid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ые результ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77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час «СимволикаРоссии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ние символики государства –Флага, Герб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Гимна Росс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час и конкурс рисунков «Пра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 ребёнком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у учащихся общего представление об ООН и принятых ею документах. Знакомство учащихся с Конвенцией ООН о правах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лицейских традицио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ах «День лицея» (Посвящение 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ятиклассник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чувства «Мы», формирование нравственного уклада школьной жиз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311040" y="781200"/>
            <a:ext cx="8448840" cy="1011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6426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ЗУЧЕНИЕ СОЦИАЛИЗИРОВАННОСТИ  ЛИЧНОСТИ УЧАЩЕГО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методика М. И. Рожков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выявить уровень социальной адаптированности, активности, автономности и нравственной воспитанности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 опро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щимся предлагается прочитать (прослушать) 20 суждений и оценить степень своего согласия с их содержанием по следующей шкал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– всег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– почти всег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иног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очень редк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– никог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Стараюсь слушаться во всем своих педагогов и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Считаю, что всегда надо чем-то отличаться от друг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За что бы я ни взялся – добиваюсь успех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Я умею прощать люд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853920"/>
            <a:ext cx="8242560" cy="17240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2" descr=""/>
          <p:cNvPicPr/>
          <p:nvPr/>
        </p:nvPicPr>
        <p:blipFill>
          <a:blip r:embed="rId2"/>
          <a:stretch/>
        </p:blipFill>
        <p:spPr>
          <a:xfrm>
            <a:off x="347760" y="1974960"/>
            <a:ext cx="8607240" cy="1676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ANd9GcRFI7pcJdIWBlRNSxkcSA2SMtRuTOtnna1IpFum2tJ1lAUu4Rgw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2000160" y="3357720"/>
            <a:ext cx="5572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делируем внеурочную деятельность обучающихся. Методические рекомендации  : пособие для учителей общеобразоват. организаций / авторы-составители: Ю. Ю. Баранова, А. В. Кисляков, М. И. Солодкова и др. – М. : Просвещение, 2013. – 96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урочная деятельность школьников. Методический  конструктор  : пособие для учителя / Д. В. Григорьев, П. В. Степанов.  –М.: Просвещение, 2010. – 223 с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етодические рекомендации по организации внеурочной деятельн. в образовательных учреждениях, реализующих общеобразовательные программы начального общего образования. Письмо Министерства образования и науки Российской Федерации от 12.05.2011 г. № 03-2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963720"/>
            <a:ext cx="8242560" cy="168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gifart.by.ru/animation/school/002.gif"/>
          <p:cNvPicPr/>
          <p:nvPr/>
        </p:nvPicPr>
        <p:blipFill>
          <a:blip r:embed="rId2"/>
          <a:stretch/>
        </p:blipFill>
        <p:spPr>
          <a:xfrm>
            <a:off x="2500200" y="2500200"/>
            <a:ext cx="42865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356760"/>
            <a:ext cx="8100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чи,  решаемые внеурочной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деятельностью: </a:t>
            </a:r>
            <a:br>
              <a:rPr sz="3600"/>
            </a:br>
            <a:r>
              <a:rPr b="1" lang="ru-RU" sz="4400" spc="-1" strike="noStrike">
                <a:solidFill>
                  <a:srgbClr val="a50021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чи,  решаемые внеурочной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деятельность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785600"/>
            <a:ext cx="828648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35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0052"/>
                </a:solidFill>
                <a:latin typeface="Times New Roman"/>
                <a:ea typeface="ＭＳ Ｐゴシック"/>
              </a:rPr>
              <a:t>Обеспечить достижение личностных, метапредметных,           </a:t>
            </a:r>
            <a:r>
              <a:rPr b="1" lang="ru-RU" sz="2000" spc="-1" strike="noStrike">
                <a:solidFill>
                  <a:srgbClr val="520052"/>
                </a:solidFill>
                <a:latin typeface="Times New Roman"/>
                <a:ea typeface="ＭＳ Ｐゴシック"/>
              </a:rPr>
              <a:t>	</a:t>
            </a:r>
            <a:r>
              <a:rPr b="1" lang="ru-RU" sz="2000" spc="-1" strike="noStrike">
                <a:solidFill>
                  <a:srgbClr val="520052"/>
                </a:solidFill>
                <a:latin typeface="Times New Roman"/>
                <a:ea typeface="ＭＳ Ｐゴシック"/>
              </a:rPr>
              <a:t>предметных результатов через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35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0052"/>
                </a:solidFill>
                <a:latin typeface="Times New Roman"/>
                <a:ea typeface="ＭＳ Ｐゴシック"/>
              </a:rPr>
              <a:t>Снижение учебной нагрузки обучаю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35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0052"/>
                </a:solidFill>
                <a:latin typeface="Times New Roman"/>
                <a:ea typeface="ＭＳ Ｐゴシック"/>
              </a:rPr>
              <a:t>Улучшение условий для развития ребё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35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0052"/>
                </a:solidFill>
                <a:latin typeface="Times New Roman"/>
                <a:ea typeface="ＭＳ Ｐゴシック"/>
              </a:rPr>
              <a:t>Организацию деятельности на основе  возрас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35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0052"/>
                </a:solidFill>
                <a:latin typeface="Times New Roman"/>
                <a:ea typeface="ＭＳ Ｐゴシック"/>
              </a:rPr>
              <a:t>и индивидуальных особенностей     обучаю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35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C:\Documents and Settings\gavrish\Мои документы\Мои рисунки\671249820.jpg"/>
          <p:cNvPicPr/>
          <p:nvPr/>
        </p:nvPicPr>
        <p:blipFill>
          <a:blip r:embed="rId1"/>
          <a:stretch/>
        </p:blipFill>
        <p:spPr>
          <a:xfrm>
            <a:off x="5143680" y="4143240"/>
            <a:ext cx="1928520" cy="185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C:\Documents and Settings\gavrish\Мои документы\Мои рисунки\168068.jpg"/>
          <p:cNvPicPr/>
          <p:nvPr/>
        </p:nvPicPr>
        <p:blipFill>
          <a:blip r:embed="rId2"/>
          <a:stretch/>
        </p:blipFill>
        <p:spPr>
          <a:xfrm>
            <a:off x="1071720" y="4143240"/>
            <a:ext cx="2286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50720" y="890640"/>
            <a:ext cx="8242560" cy="1687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онентами организации внеурочной деятельности могут быть определены: условия, цели, мотивация, содержание, технологии, средства и результ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ю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ования в соответствии с новыми подходами станови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ли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Картинка 3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57920" y="857160"/>
            <a:ext cx="2521080" cy="1800360"/>
          </a:xfrm>
          <a:prstGeom prst="rect">
            <a:avLst/>
          </a:prstGeom>
          <a:ln w="648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50720" y="566640"/>
            <a:ext cx="8242560" cy="1365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риентируется в происходящих событ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меет оценить окружающую действительно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сформулировать и отстаивать собственную позицию на основе знаний и убежд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шать важные вопросы, планировать и осуществлять действ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Модель социализации ребенка определяет условия для социального, культурного и профессионального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самоо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еделения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, творческой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само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реализации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личности ребёнка, для его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амо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развития,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амо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разования,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амо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сто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5"/>
          <p:cNvSpPr/>
          <p:nvPr/>
        </p:nvSpPr>
        <p:spPr>
          <a:xfrm rot="16200000">
            <a:off x="2278080" y="2769840"/>
            <a:ext cx="444600" cy="609480"/>
          </a:xfrm>
          <a:prstGeom prst="pie">
            <a:avLst/>
          </a:prstGeom>
          <a:solidFill>
            <a:srgbClr val="4f81bd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57280" y="2060640"/>
            <a:ext cx="2525760" cy="501480"/>
          </a:xfrm>
          <a:prstGeom prst="roundRect">
            <a:avLst>
              <a:gd name="adj" fmla="val 16667"/>
            </a:avLst>
          </a:prstGeom>
          <a:solidFill>
            <a:srgbClr val="e28700"/>
          </a:solidFill>
          <a:ln w="9360">
            <a:solidFill>
              <a:srgbClr val="ccecff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Трети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3059280" y="3213000"/>
            <a:ext cx="2519280" cy="501840"/>
          </a:xfrm>
          <a:prstGeom prst="roundRect">
            <a:avLst>
              <a:gd name="adj" fmla="val 16667"/>
            </a:avLst>
          </a:prstGeom>
          <a:solidFill>
            <a:srgbClr val="e28700"/>
          </a:solidFill>
          <a:ln w="9360">
            <a:solidFill>
              <a:srgbClr val="ccecff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торо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68360" y="5589720"/>
            <a:ext cx="8424720" cy="775080"/>
          </a:xfrm>
          <a:prstGeom prst="rect">
            <a:avLst/>
          </a:prstGeom>
          <a:solidFill>
            <a:srgbClr val="ffc46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дому уровню результатов внеурочной деятельности соответствует своя образовательная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5786280" y="4143240"/>
            <a:ext cx="2519640" cy="501840"/>
          </a:xfrm>
          <a:prstGeom prst="roundRect">
            <a:avLst>
              <a:gd name="adj" fmla="val 16667"/>
            </a:avLst>
          </a:prstGeom>
          <a:solidFill>
            <a:srgbClr val="e28700"/>
          </a:solidFill>
          <a:ln w="9360">
            <a:solidFill>
              <a:srgbClr val="ccecff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ервый урове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5940360" y="4724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бретение социаль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2700360" y="3789360"/>
            <a:ext cx="223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обретение опыта переживания и позитивного отношения к базовым ценност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179280" y="285264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бретение опыта самостоятельного общественного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864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лассификация результатов внеурочной дея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5"/>
          <p:cNvSpPr/>
          <p:nvPr/>
        </p:nvSpPr>
        <p:spPr>
          <a:xfrm rot="16200000">
            <a:off x="5083200" y="3917880"/>
            <a:ext cx="444240" cy="609480"/>
          </a:xfrm>
          <a:prstGeom prst="pie">
            <a:avLst/>
          </a:prstGeom>
          <a:solidFill>
            <a:srgbClr val="4f81bd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982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школьником социальных знаний (об общественных нормах, об устройстве общества, о социально одобряемых и неодобряемых формах поведения в обществе и т.п.), понимания социальной реальности и повседневной жизн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- классные часы, беседа, олимпиады, занятия в кружках, просмотр презентаций, фильмов, посещение театра, экскурсии, социальная проба, занятия в спортивных секциях и т.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450720" y="-103320"/>
            <a:ext cx="824256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зитивного отношения школьника к базовым ценностям общества (человек, семья, Отечество, природа, мир, знания, труд, культура), ценностного отношения к социальной реальности в целом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– дебаты, тематические диспуты, деловые игры, концерты, инсценировки, КТД, трудовые десанты, сюжетно-ролевые игры, школьные спортивные турниры, акции, турпоход и т.д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792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 школьником опыта самостоятельного социального действ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–детские исследовательские проекты, проблемно-ценностная дискуссия с участием внешних экспертов, интеллектуальные марафоны, акции в социуме (благотворительные концерты, гастроли школьной самодеятельности), социально-образовательные проекты, совместное образовательное производство детей и взрослых, спортивные и оздоровительные акции в социуме, экспедиции  и т.д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2T08:26:06Z</dcterms:created>
  <dc:creator>Lenovo</dc:creator>
  <dc:description/>
  <dc:language>en-US</dc:language>
  <cp:lastModifiedBy>Lenovo</cp:lastModifiedBy>
  <dcterms:modified xsi:type="dcterms:W3CDTF">2015-03-25T05:31:51Z</dcterms:modified>
  <cp:revision>51</cp:revision>
  <dc:subject/>
  <dc:title>Слайд 1</dc:title>
</cp:coreProperties>
</file>