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F9A-3F3E-466B-9B8E-E3A86BDD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1BB-811E-4AFC-83A8-4D1FBF0E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EDE-7E71-4AD0-A5D0-21755A8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B9C-F2A6-47CE-9FDF-38B81CA4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0FF2-92A7-4DB4-8B3A-302D64AE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E7A-D43B-4C6C-B898-BF1544B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D69-EDA0-4981-BFFD-4D2DCA8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695B-B90B-4BF7-A978-81EE9A79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764A-802E-4F06-866C-DAE8A4CC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EC9-517A-4584-9729-913CC92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8BDA-22B7-4C8D-A785-63E97CA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ACE-58E4-47DA-B1E3-7F03DCD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D6C8-A59E-48B7-8309-CBA9B54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6C06-ADEF-4240-B101-2DCDC817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F17B-FD64-4AC8-83BC-55E52FA8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B93-33BE-4837-8083-7C961FAC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D62-89AA-4AC0-B6E9-29820511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FB9-67A2-4DF0-8AAE-D5DA071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ECA-7823-4405-8259-77E25A90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FB2-1CFA-496A-A231-258D16A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36-E4BE-4F9A-9D28-DAA018E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B64-E584-481B-B432-B5D5A81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704-6DF7-42F7-958A-B0ECD82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51F-76E8-4C95-9FFA-542EBC1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7753-2879-4178-8249-3124F4DD40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54B6-637D-48E5-824B-D2BEFB6A25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дульное обучение как способ активизации познавательной деятельности ученик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3860640"/>
            <a:ext cx="5689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ель средней общеобразовательной школ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. Гавриловка Ковернинского района Нижегородской обл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иронова Елена Юрье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57261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мер используемого модуля-путеводи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ма: Анализато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ма урока: Зрительный анализатор. Строение и фун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ь: Выявить особенности строения глаза и его фун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47640" y="3789360"/>
          <a:ext cx="6096240" cy="2708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держание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мечания для ученика 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. №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накомиться со строением и функциями гл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е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всем новые понятия, знакомые, трудно, не понял как выполнять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Система действий учителя по подготовке к переходу на модульное обучение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Разработка модульной программы, которая имеет комплексную дидактическую цель и совокупность модулей, обеспечивающих достижение этой це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ждый модуль имеет свою интегрирующую дидактическую цел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ждая интегрирующая дидактическая цель делится на частные дидактические цели на основе которых выделяются учебные элемент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ля каждого учебного элемента разрабатывается система заданий по получению и контролю знан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137440" cy="5618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79640" y="4581360"/>
            <a:ext cx="51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емы и способ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еника, система заданий и контроля, создание учебных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3068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астная дидактическая цель и построение учеб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700280"/>
            <a:ext cx="35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грирующая дидактическая цель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3333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620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ипы моду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53760" y="1851120"/>
            <a:ext cx="494676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навательные (используются для изучения основ наук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перационные (формирование и развитие способов деятельнос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ешанные (сочетают первый и второй типы и используются в школе чаще всег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260280"/>
            <a:ext cx="2305080" cy="2520720"/>
            <a:chOff x="395280" y="260280"/>
            <a:chExt cx="2305080" cy="2520720"/>
          </a:xfrm>
        </p:grpSpPr>
        <p:sp>
          <p:nvSpPr>
            <p:cNvPr id="199" name="Puzzle3"/>
            <p:cNvSpPr/>
            <p:nvPr/>
          </p:nvSpPr>
          <p:spPr>
            <a:xfrm>
              <a:off x="1517760" y="260280"/>
              <a:ext cx="905760" cy="13395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Puzzle2"/>
            <p:cNvSpPr/>
            <p:nvPr/>
          </p:nvSpPr>
          <p:spPr>
            <a:xfrm>
              <a:off x="1254240" y="1236240"/>
              <a:ext cx="1446120" cy="12200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uzzle4"/>
            <p:cNvSpPr/>
            <p:nvPr/>
          </p:nvSpPr>
          <p:spPr>
            <a:xfrm>
              <a:off x="694440" y="1221120"/>
              <a:ext cx="871920" cy="15598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uzzle1"/>
            <p:cNvSpPr/>
            <p:nvPr/>
          </p:nvSpPr>
          <p:spPr>
            <a:xfrm>
              <a:off x="395280" y="665280"/>
              <a:ext cx="1464120" cy="9298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-703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0"/>
            <a:ext cx="7990920" cy="6522480"/>
            <a:chOff x="324000" y="0"/>
            <a:chExt cx="7990920" cy="6522480"/>
          </a:xfrm>
        </p:grpSpPr>
        <p:cxnSp>
          <p:nvCxnSpPr>
            <p:cNvPr id="205" name="_s115726"/>
            <p:cNvCxnSpPr>
              <a:stCxn id="206" idx="0"/>
              <a:endCxn id="207" idx="2"/>
            </p:cNvCxnSpPr>
            <p:nvPr/>
          </p:nvCxnSpPr>
          <p:spPr>
            <a:xfrm flipV="1" rot="16200000">
              <a:off x="5064840" y="1861920"/>
              <a:ext cx="1305000" cy="2797560"/>
            </a:xfrm>
            <a:prstGeom prst="bentConnector3">
              <a:avLst>
                <a:gd name="adj1" fmla="val 158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115725"/>
            <p:cNvCxnSpPr>
              <a:stCxn id="209" idx="0"/>
              <a:endCxn id="207" idx="2"/>
            </p:cNvCxnSpPr>
            <p:nvPr/>
          </p:nvCxnSpPr>
          <p:spPr>
            <a:xfrm flipV="1">
              <a:off x="4319280" y="2608200"/>
              <a:ext cx="3600" cy="13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_s115724"/>
            <p:cNvCxnSpPr>
              <a:stCxn id="211" idx="0"/>
              <a:endCxn id="207" idx="2"/>
            </p:cNvCxnSpPr>
            <p:nvPr/>
          </p:nvCxnSpPr>
          <p:spPr>
            <a:xfrm flipH="1" flipV="1" rot="5400000">
              <a:off x="2268360" y="1861920"/>
              <a:ext cx="1305000" cy="2797560"/>
            </a:xfrm>
            <a:prstGeom prst="bentConnector3">
              <a:avLst>
                <a:gd name="adj1" fmla="val 158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7" name="_s115720"/>
            <p:cNvSpPr/>
            <p:nvPr/>
          </p:nvSpPr>
          <p:spPr>
            <a:xfrm>
              <a:off x="3120840" y="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Рекоменд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использова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несколько правил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5721"/>
            <p:cNvSpPr/>
            <p:nvPr/>
          </p:nvSpPr>
          <p:spPr>
            <a:xfrm>
              <a:off x="32400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еред кажд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моду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ровод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вход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знаний и ум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5722"/>
            <p:cNvSpPr/>
            <p:nvPr/>
          </p:nvSpPr>
          <p:spPr>
            <a:xfrm>
              <a:off x="312084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Четкий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грамотный отб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учеб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материал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Нижний предел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уровень обязатель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одготовк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5723"/>
            <p:cNvSpPr/>
            <p:nvPr/>
          </p:nvSpPr>
          <p:spPr>
            <a:xfrm>
              <a:off x="591768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Включение 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образовате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роцесс все 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звеньев учеб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деятель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иболее распространенные приемы, обеспечивающие преемственность знаний в модульном обучен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0" y="2014200"/>
            <a:ext cx="733284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ключение в повторяемый материал новых фактов, раскрывающих новые взаимосвязи или яв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новка перед учеником новых учебно-познавательных задач для решения которых они должны использовать сведения, полученные ране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ысловая группировка материала по принципу: известное - неизвес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четание слова и нагляд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иагностика результативности внедрения модульной технолог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проводится путем сопоставления с предыдущими результатами с целью выявления величины продвижения в развитии уче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должна быть личностно ориентирована на конкретного уче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выявляет не столько особенности личности, сколько определяет перспективы, доступные учени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гностика комфортности ученика при использовании модульной технолог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тодика апробирована в 8-а классе. О результативности судить рано, так как посредством  модуля изучались отдельные тем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ос уч-ся показал, что из 20 опрошенных для 5 чел (25%) эта форма обучения сложна и не всегда понятна, им трудно организовать себя и свое время на уроке так, чтобы все успеть и получить оцен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ля 15 чел (75%) такая форма работы приемлема, позволяет работать самостоятельно, в индивидуальном темпе, в основном все ясно и понят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чел. (5%) усваивает материал с урока, не нуждается в дополнительном или повторном разборе материала дом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 чел (60%) усваивают материал на уроке в большом объеме, но дома уточняют детал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моду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тавляющие компоненты моду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ль модуля в усвоении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мять, возраст и работа с модулем на уро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емы использова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дуля на уро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ультативность модульного обуч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10200" y="4389480"/>
            <a:ext cx="28828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чем использовать модуль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03280" y="1700280"/>
            <a:ext cx="66740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и современного школь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вышение качества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нтенсификация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357720"/>
            <a:ext cx="824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кольный курс современной биологии позволяет исполь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вторские программы;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о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лективные курсы; современные У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971960"/>
            <a:ext cx="17565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 перечисленные новинки объединяет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аимосвязанных понятий, законов, закономерн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раженных в системе освоить которую поможет модул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ысль об организации модульной работы и е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обучении не нова, но не теряет своей актуаль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4560" y="174240"/>
            <a:ext cx="565164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ктуальность использования модуля заключается в том, что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ализуется системный подход к планированию и изучению материал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ложение материала на высоком теоретическом уровне и при этом предоставление каждому ученику возможности для выбора уровня обуч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зможность повтора одной и той же информации в разной форм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ннее предъявление требований к конечному результату обуч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оставление ученику возможности работать в индивидуальном темп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величение доли самостоятельной работы по добыванию и осмыслению учебной информации на разных этапах урок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ование индивидуальной, парной и групповой работ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ие перспективы открывает перед учеником  использование модул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ширяет и качественно обновляет самостоятельную работу учен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ирует прочные, осмысленные знания основ изучаемых нау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чит логично излагать свою точку зрения и обосновывать ее с высокой степенью научнос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6840" y="171000"/>
            <a:ext cx="6011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33360"/>
            <a:ext cx="79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оставляющие компоненты     модул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1989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левой план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760" y="131616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средства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1640" y="20448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ланк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708280"/>
            <a:ext cx="13085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ическое руководство по достиж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идактически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573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Как упорядоченная струк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332000" y="436572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0  - Интегрирующая ц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29264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Э – 1 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готовк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4724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- 2 -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157720"/>
            <a:ext cx="77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3 – Отработка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16640"/>
            <a:ext cx="9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4 – Эксперименталь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602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5 – 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ь и работа с модул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сс обучения опирается на памя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овка памяти – основное условие активизации мысли и умственного разви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та с понятием в модуле – это рефлекторно возникшая временная связь, поддержание которой основано на повтор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нообразие форм работы с понятием в модуле – условие успешного овладения 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зраст и работа с модул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ководствуясь возрастными особенностями учащихся психологи выделяю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1-4 кл. – свойственно накопление знаний, но не их глубокое осмысл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5-8 кл. – свойственно наполнение понятий определенным содержа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9-11 кл. – осуществляется переход от житейских представлений к научному мышл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Школа модуль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3772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 основу взяты теоретические работ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.И. Шамовой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И. Третьяк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этих методик показал, что они очень громоздки. Предложу свои наработки в этой методи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16360" y="2016000"/>
          <a:ext cx="4537080" cy="3468960"/>
        </p:xfrm>
        <a:graphic>
          <a:graphicData uri="http://schemas.openxmlformats.org/drawingml/2006/table">
            <a:tbl>
              <a:tblPr/>
              <a:tblGrid>
                <a:gridCol w="906480"/>
                <a:gridCol w="907920"/>
                <a:gridCol w="908280"/>
                <a:gridCol w="907920"/>
                <a:gridCol w="906480"/>
              </a:tblGrid>
              <a:tr h="25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. Материал с зада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уководство по усвоению учеб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7:54:37Z</dcterms:created>
  <dc:creator>1</dc:creator>
  <dc:description/>
  <dc:language>en-US</dc:language>
  <cp:lastModifiedBy>12</cp:lastModifiedBy>
  <dcterms:modified xsi:type="dcterms:W3CDTF">2008-12-11T14:51:41Z</dcterms:modified>
  <cp:revision>11</cp:revision>
  <dc:subject/>
  <dc:title>Работа с терминами на уроке биологии.</dc:title>
</cp:coreProperties>
</file>