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8F5-8FA7-46B3-8119-4D926B18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890-C491-4A01-8AA5-21CD54C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5A7-78B2-486E-B97A-346A1ECF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70F-E24E-4416-A541-84850940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1E05-3809-4B98-AC43-71B12470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C75B-1A61-4C81-9B71-8911FB7C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D1BE-30F8-47F8-88AD-96771813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8CEF-D5E3-44B5-AE11-D8A6ED58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6C9D-78C8-4032-B342-8C303B50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7F7F-3527-4435-AA9D-0C45340F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E4FB-604E-4D87-948A-40C857BC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876-44EA-4C65-81E5-851CC625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1852-9870-444A-9356-9A76FFB9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8465-A290-4EB8-A99B-08A14661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BD2C-92A0-4696-9726-05B25A18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45C4-9D39-418E-96AA-436181B4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F7E4-22D8-40FD-89E5-C083E1BE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A30-8228-477F-83F3-46648DB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31C-5442-43FA-A02F-A0E6169F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DF3-DF7B-4F96-8DAD-0DAD8EB6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18A-E358-40E6-9322-75BD0F5D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ADE-562D-4258-8389-1DACA74D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B3B-6495-45E2-9E96-CC64DFA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8B1-CE6D-4B07-A7FE-1AE95AE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994F-FAD6-45C7-A8CD-1448701A1F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3771-6A4A-4561-B2A7-23481CA17D2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одульное обучение как способ активизации познавательной деятельности ученика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3860640"/>
            <a:ext cx="5689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ель средней общеобразовательной школ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. Гавриловка Ковернинского района Нижегородской обл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иронова Елена Юрье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57261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имер используемого модуля-путеводи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ма: Анализато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ма урока: Зрительный анализатор. Строение и фун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ель: Выявить особенности строения глаза и его фун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47640" y="3789360"/>
          <a:ext cx="6096240" cy="2708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ли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держание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мечания для ученика 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.Э. №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знакомиться со строением и функциями глаз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ние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всем новые понятия, знакомые, трудно, не понял как выполнять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</a:rPr>
              <a:t>Система действий учителя по подготовке к переходу на модульное обучение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Разработка модульной программы, которая имеет комплексную дидактическую цель и совокупность модулей, обеспечивающих достижение этой це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ждый модуль имеет свою интегрирующую дидактическую цел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ждая интегрирующая дидактическая цель делится на частные дидактические цели на основе которых выделяются учебные элемент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Для каждого учебного элемента разрабатывается система заданий по получению и контролю знан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137440" cy="5618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979640" y="4581360"/>
            <a:ext cx="51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иемы и способы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ченика, система заданий и контроля, создание учебных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3068640"/>
            <a:ext cx="41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астная дидактическая цель и построение учеб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1700280"/>
            <a:ext cx="35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нтегрирующая дидактическая цель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33336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мпл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26208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ипы моду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53760" y="1851120"/>
            <a:ext cx="494676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знавательные (используются для изучения основ наук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перационные (формирование и развитие способов деятельност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мешанные (сочетают первый и второй типы и используются в школе чаще всег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5280" y="260280"/>
            <a:ext cx="2305080" cy="2520720"/>
            <a:chOff x="395280" y="260280"/>
            <a:chExt cx="2305080" cy="2520720"/>
          </a:xfrm>
        </p:grpSpPr>
        <p:sp>
          <p:nvSpPr>
            <p:cNvPr id="199" name="Puzzle3"/>
            <p:cNvSpPr/>
            <p:nvPr/>
          </p:nvSpPr>
          <p:spPr>
            <a:xfrm>
              <a:off x="1517760" y="260280"/>
              <a:ext cx="905760" cy="13395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Puzzle2"/>
            <p:cNvSpPr/>
            <p:nvPr/>
          </p:nvSpPr>
          <p:spPr>
            <a:xfrm>
              <a:off x="1254240" y="1236240"/>
              <a:ext cx="1446120" cy="12200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uzzle4"/>
            <p:cNvSpPr/>
            <p:nvPr/>
          </p:nvSpPr>
          <p:spPr>
            <a:xfrm>
              <a:off x="694440" y="1221120"/>
              <a:ext cx="871920" cy="15598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Puzzle1"/>
            <p:cNvSpPr/>
            <p:nvPr/>
          </p:nvSpPr>
          <p:spPr>
            <a:xfrm>
              <a:off x="395280" y="665280"/>
              <a:ext cx="1464120" cy="9298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-703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0"/>
            <a:ext cx="7990920" cy="6522480"/>
            <a:chOff x="324000" y="0"/>
            <a:chExt cx="7990920" cy="6522480"/>
          </a:xfrm>
        </p:grpSpPr>
        <p:cxnSp>
          <p:nvCxnSpPr>
            <p:cNvPr id="205" name="_s115726"/>
            <p:cNvCxnSpPr>
              <a:stCxn id="206" idx="0"/>
              <a:endCxn id="207" idx="2"/>
            </p:cNvCxnSpPr>
            <p:nvPr/>
          </p:nvCxnSpPr>
          <p:spPr>
            <a:xfrm flipV="1" rot="16200000">
              <a:off x="5064840" y="1861920"/>
              <a:ext cx="1305000" cy="2797560"/>
            </a:xfrm>
            <a:prstGeom prst="bentConnector3">
              <a:avLst>
                <a:gd name="adj1" fmla="val 158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115725"/>
            <p:cNvCxnSpPr>
              <a:stCxn id="209" idx="0"/>
              <a:endCxn id="207" idx="2"/>
            </p:cNvCxnSpPr>
            <p:nvPr/>
          </p:nvCxnSpPr>
          <p:spPr>
            <a:xfrm flipV="1">
              <a:off x="4319280" y="2608200"/>
              <a:ext cx="3600" cy="130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0" name="_s115724"/>
            <p:cNvCxnSpPr>
              <a:stCxn id="211" idx="0"/>
              <a:endCxn id="207" idx="2"/>
            </p:cNvCxnSpPr>
            <p:nvPr/>
          </p:nvCxnSpPr>
          <p:spPr>
            <a:xfrm flipH="1" flipV="1" rot="5400000">
              <a:off x="2268360" y="1861920"/>
              <a:ext cx="1305000" cy="2797560"/>
            </a:xfrm>
            <a:prstGeom prst="bentConnector3">
              <a:avLst>
                <a:gd name="adj1" fmla="val 158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7" name="_s115720"/>
            <p:cNvSpPr/>
            <p:nvPr/>
          </p:nvSpPr>
          <p:spPr>
            <a:xfrm>
              <a:off x="3120840" y="0"/>
              <a:ext cx="2397240" cy="2608920"/>
            </a:xfrm>
            <a:custGeom>
              <a:avLst/>
              <a:gdLst>
                <a:gd name="textAreaLeft" fmla="*/ 117000 w 2397240"/>
                <a:gd name="textAreaRight" fmla="*/ 2280240 w 2397240"/>
                <a:gd name="textAreaTop" fmla="*/ 117000 h 2608920"/>
                <a:gd name="textAreaBottom" fmla="*/ 2491920 h 2608920"/>
              </a:gdLst>
              <a:ahLst/>
              <a:rect l="textAreaLeft" t="textAreaTop" r="textAreaRight" b="textAreaBottom"/>
              <a:pathLst>
                <a:path w="21600" h="23507">
                  <a:moveTo>
                    <a:pt x="3600" y="0"/>
                  </a:moveTo>
                  <a:arcTo wR="3600" hR="3600" stAng="16200000" swAng="-5400000"/>
                  <a:lnTo>
                    <a:pt x="0" y="19907"/>
                  </a:lnTo>
                  <a:arcTo wR="3600" hR="3600" stAng="10800000" swAng="-5400000"/>
                  <a:lnTo>
                    <a:pt x="18000" y="23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Рекоменд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использова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несколько правил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5721"/>
            <p:cNvSpPr/>
            <p:nvPr/>
          </p:nvSpPr>
          <p:spPr>
            <a:xfrm>
              <a:off x="324000" y="3913560"/>
              <a:ext cx="2397240" cy="2608920"/>
            </a:xfrm>
            <a:custGeom>
              <a:avLst/>
              <a:gdLst>
                <a:gd name="textAreaLeft" fmla="*/ 117000 w 2397240"/>
                <a:gd name="textAreaRight" fmla="*/ 2280240 w 2397240"/>
                <a:gd name="textAreaTop" fmla="*/ 117000 h 2608920"/>
                <a:gd name="textAreaBottom" fmla="*/ 2491920 h 2608920"/>
              </a:gdLst>
              <a:ahLst/>
              <a:rect l="textAreaLeft" t="textAreaTop" r="textAreaRight" b="textAreaBottom"/>
              <a:pathLst>
                <a:path w="21600" h="23507">
                  <a:moveTo>
                    <a:pt x="3600" y="0"/>
                  </a:moveTo>
                  <a:arcTo wR="3600" hR="3600" stAng="16200000" swAng="-5400000"/>
                  <a:lnTo>
                    <a:pt x="0" y="19907"/>
                  </a:lnTo>
                  <a:arcTo wR="3600" hR="3600" stAng="10800000" swAng="-5400000"/>
                  <a:lnTo>
                    <a:pt x="18000" y="23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Перед кажд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моду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провод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вход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конт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знаний и ум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15722"/>
            <p:cNvSpPr/>
            <p:nvPr/>
          </p:nvSpPr>
          <p:spPr>
            <a:xfrm>
              <a:off x="3120840" y="3913560"/>
              <a:ext cx="2397240" cy="2608920"/>
            </a:xfrm>
            <a:custGeom>
              <a:avLst/>
              <a:gdLst>
                <a:gd name="textAreaLeft" fmla="*/ 117000 w 2397240"/>
                <a:gd name="textAreaRight" fmla="*/ 2280240 w 2397240"/>
                <a:gd name="textAreaTop" fmla="*/ 117000 h 2608920"/>
                <a:gd name="textAreaBottom" fmla="*/ 2491920 h 2608920"/>
              </a:gdLst>
              <a:ahLst/>
              <a:rect l="textAreaLeft" t="textAreaTop" r="textAreaRight" b="textAreaBottom"/>
              <a:pathLst>
                <a:path w="21600" h="23507">
                  <a:moveTo>
                    <a:pt x="3600" y="0"/>
                  </a:moveTo>
                  <a:arcTo wR="3600" hR="3600" stAng="16200000" swAng="-5400000"/>
                  <a:lnTo>
                    <a:pt x="0" y="19907"/>
                  </a:lnTo>
                  <a:arcTo wR="3600" hR="3600" stAng="10800000" swAng="-5400000"/>
                  <a:lnTo>
                    <a:pt x="18000" y="23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Четкий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грамотный отб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учеб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материал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Нижний предел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уровень обязатель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подготовки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5723"/>
            <p:cNvSpPr/>
            <p:nvPr/>
          </p:nvSpPr>
          <p:spPr>
            <a:xfrm>
              <a:off x="5917680" y="3913560"/>
              <a:ext cx="2397240" cy="2608920"/>
            </a:xfrm>
            <a:custGeom>
              <a:avLst/>
              <a:gdLst>
                <a:gd name="textAreaLeft" fmla="*/ 117000 w 2397240"/>
                <a:gd name="textAreaRight" fmla="*/ 2280240 w 2397240"/>
                <a:gd name="textAreaTop" fmla="*/ 117000 h 2608920"/>
                <a:gd name="textAreaBottom" fmla="*/ 2491920 h 2608920"/>
              </a:gdLst>
              <a:ahLst/>
              <a:rect l="textAreaLeft" t="textAreaTop" r="textAreaRight" b="textAreaBottom"/>
              <a:pathLst>
                <a:path w="21600" h="23507">
                  <a:moveTo>
                    <a:pt x="3600" y="0"/>
                  </a:moveTo>
                  <a:arcTo wR="3600" hR="3600" stAng="16200000" swAng="-5400000"/>
                  <a:lnTo>
                    <a:pt x="0" y="19907"/>
                  </a:lnTo>
                  <a:arcTo wR="3600" hR="3600" stAng="10800000" swAng="-5400000"/>
                  <a:lnTo>
                    <a:pt x="18000" y="23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Включение 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образовате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процесс все 6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звеньев учебн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деятель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иболее распространенные приемы, обеспечивающие преемственность знаний в модульном обучен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3200" y="2014200"/>
            <a:ext cx="7332840" cy="36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ключение в повторяемый материал новых фактов, раскрывающих новые взаимосвязи или яв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ановка перед учеником новых учебно-познавательных задач для решения которых они должны использовать сведения, полученные ране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ысловая группировка материала по принципу: известное - неизвест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четание слова и нагляд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-24336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иагностика результативности внедрения модульной технолог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иагностика проводится путем сопоставления с предыдущими результатами с целью выявления величины продвижения в развитии учен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иагностика должна быть личностно ориентирована на конкретного учен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иагностика выявляет не столько особенности личности, сколько определяет перспективы, доступные учени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агностика комфортности ученика при использовании модульной технолог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тодика апробирована в 8-а классе. О результативности судить рано, так как посредством  модуля изучались отдельные тем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ос уч-ся показал, что из 20 опрошенных для 5 чел (25%) эта форма обучения сложна и не всегда понятна, им трудно организовать себя и свое время на уроке так, чтобы все успеть и получить оценк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ля 15 чел (75%) такая форма работы приемлема, позволяет работать самостоятельно, в индивидуальном темпе, в основном все ясно и понят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чел. (5%) усваивает материал с урока, не нуждается в дополнительном или повторном разборе материала дом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 чел (60%) усваивают материал на уроке в большом объеме, но дома уточняют детал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такое модул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ставляющие компоненты моду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оль модуля в усвоении матери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мять, возраст и работа с модулем на уро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емы использова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дуля на уро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ультативность модульного обуче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10200" y="4389480"/>
            <a:ext cx="288288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чем использовать модуль на уро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03280" y="1700280"/>
            <a:ext cx="66740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чи современного школьного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вышение качества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ание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нтенсификация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357720"/>
            <a:ext cx="82436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Школьный курс современной биологии позволяет использ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вторские программы;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о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Элективные курсы; современные УМ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4971960"/>
            <a:ext cx="175654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се перечисленные новинки объединяет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заимосвязанных понятий, законов, закономерн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раженных в системе освоить которую поможет модул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ысль об организации модульной работы и е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обучении не нова, но не теряет своей актуально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4560" y="174240"/>
            <a:ext cx="565164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ктуальность использования модуля заключается в том, что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еализуется системный подход к планированию и изучению материал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зложение материала на высоком теоретическом уровне и при этом предоставление каждому ученику возможности для выбора уровня обучени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зможность повтора одной и той же информации в разной форм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ннее предъявление требований к конечному результату обучени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оставление ученику возможности работать в индивидуальном темп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величение доли самостоятельной работы по добыванию и осмыслению учебной информации на разных этапах урок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пользование индивидуальной, парной и групповой работ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акие перспективы открывает перед учеником  использование модул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ширяет и качественно обновляет самостоятельную работу учени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ормирует прочные, осмысленные знания основ изучаемых наук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чит логично излагать свою точку зрения и обосновывать ее с высокой степенью научност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6840" y="171000"/>
            <a:ext cx="6011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333360"/>
            <a:ext cx="79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оставляющие компоненты     модул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1989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левой план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760" y="131616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средства обу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1640" y="20448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ланк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708280"/>
            <a:ext cx="13085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одическое руководство по достиж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идактических ц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573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Как упорядоченная струк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332000" y="436572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– 0  - Интегрирующая це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4292640"/>
            <a:ext cx="87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Э – 1 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дготовк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4724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- 2 -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157720"/>
            <a:ext cx="77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– 3 – Отработка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516640"/>
            <a:ext cx="9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– 4 – Эксперименталь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602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Э – 5 – Итог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ь и работа с модул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цесс обучения опирается на памя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ровка памяти – основное условие активизации мысли и умственного развит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бота с понятием в модуле – это рефлекторно возникшая временная связь, поддержание которой основано на повторе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знообразие форм работы с понятием в модуле – условие успешного овладения 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озраст и работа с модул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уководствуясь возрастными особенностями учащихся психологи выделяю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ппу 1-4 кл. – свойственно накопление знаний, но не их глубокое осмысл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ппу 5-8 кл. – свойственно наполнение понятий определенным содержа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ппу 9-11 кл. – осуществляется переход от житейских представлений к научному мышлени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Школа модульного обу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3772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 основу взяты теоретические работ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.И. Шамовой 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.И. Третьяк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 этих методик показал, что они очень громоздки. Предложу свои наработки в этой методи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16360" y="2016000"/>
          <a:ext cx="4537080" cy="3468960"/>
        </p:xfrm>
        <a:graphic>
          <a:graphicData uri="http://schemas.openxmlformats.org/drawingml/2006/table">
            <a:tbl>
              <a:tblPr/>
              <a:tblGrid>
                <a:gridCol w="906480"/>
                <a:gridCol w="907920"/>
                <a:gridCol w="908280"/>
                <a:gridCol w="907920"/>
                <a:gridCol w="906480"/>
              </a:tblGrid>
              <a:tr h="256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.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. Материал с задан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уководство по усвоению учебного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7:54:37Z</dcterms:created>
  <dc:creator>1</dc:creator>
  <dc:description/>
  <dc:language>en-US</dc:language>
  <cp:lastModifiedBy>12</cp:lastModifiedBy>
  <dcterms:modified xsi:type="dcterms:W3CDTF">2008-12-11T14:51:41Z</dcterms:modified>
  <cp:revision>11</cp:revision>
  <dc:subject/>
  <dc:title>Работа с терминами на уроке биологии.</dc:title>
</cp:coreProperties>
</file>