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381-ABA0-4773-841D-FEF7410F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1A9-5F99-4B53-BD99-BB375D4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63A-482E-48E8-8E1F-C4B1F54F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E51-F434-41E4-A484-49D33DBD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04D-CF98-451B-B11C-90C2963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768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4320" y="4158000"/>
            <a:ext cx="25106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63C-B7CB-47E9-AAC2-6F31E67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B5E-219A-480D-90E5-D49AC4D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388-8558-4C45-B713-8982479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9796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C2F-2780-437F-B3A0-A3C80803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651-4509-4E07-8450-AACA190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5800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B63-D878-48A5-8871-E69378A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796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E37-7027-44D2-ABF7-F80464A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46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FE540-95A2-4126-8443-77878CD522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796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38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у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Основы светской этики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Человек рожден для добра»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4652640"/>
            <a:ext cx="424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рок разрабо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чителем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БОУ «Залесск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илипей Е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76360" y="158436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ойди от зла и сотвори благо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обро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079640" y="936720"/>
            <a:ext cx="684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 обижай люд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дёт распл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м счастья не сул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ида чья-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830920" y="3887640"/>
            <a:ext cx="244944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808760" cy="6394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;serif"/>
              </a:rPr>
              <a:t>1.Что считается добрым поступком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Забыть о неприятной прось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Дать списать 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Опоздать на неинтересную встре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Помочь соседу по парте разобрать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Укажите поступки , которые одобряет общ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обм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наси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заимопомощ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уни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71400" y="576360"/>
            <a:ext cx="7809120" cy="56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)Что является последствием злых дел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дружб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рад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враж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Г. мирное сосуществ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) Знания о добре и зле помогают люд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А. проявлять заботу о близ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Б. жить в мир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             </a:t>
            </a:r>
            <a:r>
              <a:rPr b="0" lang="ru-RU" sz="2600" spc="-1" strike="noStrike">
                <a:solidFill>
                  <a:srgbClr val="000000"/>
                </a:solidFill>
                <a:latin typeface="Times New Roman;serif"/>
              </a:rPr>
              <a:t>В. друж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«Какой Я?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качества ты считаешь хорошими, а какие плохими? Напи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черты характера тебе мешают, а какие ты бы хотел приобр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8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3397320"/>
          <a:ext cx="7570800" cy="275904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100116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избави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00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Lucida Sans Unicode"/>
                        </a:rPr>
                        <a:t>Хочу приобр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496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4"/>
          <p:cNvSpPr/>
          <p:nvPr/>
        </p:nvSpPr>
        <p:spPr>
          <a:xfrm>
            <a:off x="0" y="4616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1"/>
          <a:stretch/>
        </p:blipFill>
        <p:spPr>
          <a:xfrm>
            <a:off x="7451640" y="836640"/>
            <a:ext cx="144612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770040"/>
            <a:ext cx="78091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17600" cy="245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843280" y="333360"/>
            <a:ext cx="32637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444760" cy="247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2717640" cy="20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808360" cy="22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6348240" y="3284640"/>
            <a:ext cx="25671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31640" y="3168720"/>
            <a:ext cx="8283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Душа человека стреми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 </a:t>
            </a:r>
            <a:r>
              <a:rPr b="1" lang="ru-RU" sz="4400" spc="-1" strike="noStrike">
                <a:solidFill>
                  <a:srgbClr val="ff3333"/>
                </a:solidFill>
                <a:latin typeface="Arial"/>
                <a:ea typeface="Lucida Sans Unicode"/>
              </a:rPr>
              <a:t>к добру,  истине  и красо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1640" y="206028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03040" y="936720"/>
            <a:ext cx="8918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носись к другим так, как хочешь, чтобы они относились к тебе!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12720" y="2908440"/>
            <a:ext cx="8097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то «золотое правило нравственности», основа всех человеческих отношени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82440" y="115920"/>
            <a:ext cx="90615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. Н. Толстой «Белка и вол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лка прыгала с ветки на ветку и упала прямо на сонного волка. Волк вскочил и хотел ее съесть. Белка стала просить:  -Пусти ме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лк сказал: - Хорошо, я пущу тебя, только ты скажи мне, отчего вы, белки, так веселы. Мне всегда скучно, а на вас смотришь, вы там наверху все играете и прыга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лка сказала: -Пусти меня прежде на дерево, я оттуда тебе скажу, а то я боюсь т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лк пустил, а белка ушла на дерево и оттуда сказа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Тебе оттого скучно, что ты зол. Тебе злость сердце жжет. А мы веселы оттого, что мы добры и зла никому не дел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;serif"/>
                <a:ea typeface="Lucida Sans Unicode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;serif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20720" y="503280"/>
            <a:ext cx="8136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ман, насилие, взаимовыручка, помощь,  хвастовство,  трудолюбие, мужество, честь,   жестокость, скромность, милосердие, честность,         хитрость,совестливость, лживость,    справедливость, выдержка, эгоиз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216000"/>
            <a:ext cx="78073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333333"/>
                </a:solidFill>
                <a:latin typeface="Arial"/>
              </a:rPr>
              <a:t>Добро               Зло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0480" y="961560"/>
            <a:ext cx="381024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заимовыруч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держ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9400" y="934560"/>
            <a:ext cx="380988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ма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вастов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Жесток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Трус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Лжив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итрос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71280" y="936720"/>
            <a:ext cx="8425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аз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нажды Добро пришло в гости к Злу. Зло стало угощать Добро чаем, но в чашку вместо сахара положило соль. Добро попробовало соленый чай, но ни слова худого не сказало. Только поблагодарило за угощение. А когда Добро уходило, оно сказало: «Что-то сахар у вас не очень сладкий. Вот вам деньги, купите себе конфет к чаю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16:08Z</dcterms:created>
  <dc:creator>Мама</dc:creator>
  <dc:description/>
  <dc:language>en-US</dc:language>
  <cp:lastModifiedBy>1</cp:lastModifiedBy>
  <dcterms:modified xsi:type="dcterms:W3CDTF">2017-01-29T10:47:15Z</dcterms:modified>
  <cp:revision>8</cp:revision>
  <dc:subject/>
  <dc:title>Модуль «Основы светской этики»  Урок 20.  Тема: «Золотое правило нравственности»</dc:title>
</cp:coreProperties>
</file>