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0C3-737E-4402-B922-026F91F5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561-7C6D-4D8A-AA15-F241BEC3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6C5-11F4-4C7B-AF47-244442B5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5FD-07AE-4C1B-9A5D-384FE9B4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979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D1A-AC34-4FBB-876A-BE91FDF5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9A8-4BEF-4031-A96B-ACAA0951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D00-67CC-4DDA-BE00-5A027485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2C1-4E75-4476-8844-7ACFFC45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979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3A7-1309-422C-B436-8EEF92E5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614-4837-477D-B87C-DA53BDD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D0F-BAC3-40CA-85B1-6590CEE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59A-2A23-4E31-BDE6-C16F5AA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ED090-859D-4732-A9F7-E2D66524EE0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38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ду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«Основы светской этики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«Человек рожден для добра»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4720" y="4652640"/>
            <a:ext cx="424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рок разрабо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чителем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БОУ «Залес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илипей Е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76360" y="158436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ойди от зла и сотвори благо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бро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079640" y="936720"/>
            <a:ext cx="684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 обижай люд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дёт распл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м счастья не сул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ида чья-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830920" y="3887640"/>
            <a:ext cx="244944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7808760" cy="6394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;serif"/>
              </a:rPr>
              <a:t>1.Что считается добрым поступком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Забыть о неприятной просьб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Дать списать домашнее з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Опоздать на неинтересную встре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Помочь соседу по парте разобрать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Укажите поступки , которые одобряет обще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обм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насил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взаимопомощ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уни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71400" y="576360"/>
            <a:ext cx="7809120" cy="56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)Что является последствием злых дел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дружб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рад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враж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мирное сосуществ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4) Знания о добре и зле помогают людя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проявлять заботу о близ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жить в мир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друж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«Какой Я?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8320" indent="-59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качества ты считаешь хорошими, а какие плохими? Напи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черты характера тебе мешают, а какие ты бы хотел приобр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16000" y="3397320"/>
          <a:ext cx="7570800" cy="275904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1001160">
                <a:tc>
                  <a:txBody>
                    <a:bodyPr lIns="90000" rIns="90000" tIns="4186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Lucida Sans Unicode"/>
                        </a:rPr>
                        <a:t>Хочу избави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00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Lucida Sans Unicode"/>
                        </a:rPr>
                        <a:t>Хочу приобре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14"/>
          <p:cNvSpPr/>
          <p:nvPr/>
        </p:nvSpPr>
        <p:spPr>
          <a:xfrm>
            <a:off x="0" y="4616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1"/>
          <a:stretch/>
        </p:blipFill>
        <p:spPr>
          <a:xfrm>
            <a:off x="7451640" y="836640"/>
            <a:ext cx="144612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77004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77004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17600" cy="2451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843280" y="333360"/>
            <a:ext cx="3263760" cy="251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6443640" y="404640"/>
            <a:ext cx="2444760" cy="247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2717640" cy="20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3348000" y="4221000"/>
            <a:ext cx="2808360" cy="224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6"/>
          <a:stretch/>
        </p:blipFill>
        <p:spPr>
          <a:xfrm>
            <a:off x="6348240" y="3284640"/>
            <a:ext cx="2567160" cy="33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31640" y="3168720"/>
            <a:ext cx="8283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Душа человека стремит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 </a:t>
            </a: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к добру,  истине  и красо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1640" y="206028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03040" y="936720"/>
            <a:ext cx="8918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носись к другим так, как хочешь, чтобы они относились к тебе!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12720" y="2908440"/>
            <a:ext cx="8097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то «золотое правило нравственности», основа всех человеческих отношений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82440" y="115920"/>
            <a:ext cx="90615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Л. Н. Толстой «Белка и вол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елка прыгала с ветки на ветку и упала прямо на сонного волка. Волк вскочил и хотел ее съесть. Белка стала просить:  -Пусти ме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олк сказал: - Хорошо, я пущу тебя, только ты скажи мне, отчего вы, белки, так веселы. Мне всегда скучно, а на вас смотришь, вы там наверху все играете и прыгае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елка сказала: -Пусти меня прежде на дерево, я оттуда тебе скажу, а то я боюсь т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олк пустил, а белка ушла на дерево и оттуда сказа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Тебе оттого скучно, что ты зол. Тебе злость сердце жжет. А мы веселы оттого, что мы добры и зла никому не дела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;serif"/>
                <a:ea typeface="Lucida Sans Unicode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;serif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503280"/>
            <a:ext cx="8136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ман, насилие, взаимовыручка, помощь,  хвастовство,  трудолюбие, мужество, честь,   жестокость, скромность, милосердие, честность,         хитрость,совестливость, лживость,    справедливость, выдержка, эгоиз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216000"/>
            <a:ext cx="78073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Добро               Зло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0480" y="961560"/>
            <a:ext cx="381024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заимовыруч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кромн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ыдерж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9400" y="934560"/>
            <a:ext cx="380988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бма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вастов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Жесток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ус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ж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итр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1280" y="936720"/>
            <a:ext cx="8425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аз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днажды Добро пришло в гости к Злу. Зло стало угощать Добро чаем, но в чашку вместо сахара положило соль. Добро попробовало соленый чай, но ни слова худого не сказало. Только поблагодарило за угощение. А когда Добро уходило, оно сказало: «Что-то сахар у вас не очень сладкий. Вот вам деньги, купите себе конфет к чаю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16:08Z</dcterms:created>
  <dc:creator>Мама</dc:creator>
  <dc:description/>
  <dc:language>en-US</dc:language>
  <cp:lastModifiedBy>1</cp:lastModifiedBy>
  <dcterms:modified xsi:type="dcterms:W3CDTF">2017-01-29T10:47:15Z</dcterms:modified>
  <cp:revision>8</cp:revision>
  <dc:subject/>
  <dc:title>Модуль «Основы светской этики»  Урок 20.  Тема: «Золотое правило нравственности»</dc:title>
</cp:coreProperties>
</file>