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80AC-97E7-494A-BFE4-9E2C87AC55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FAE1-5C16-4BAD-9AE5-5E47E774C7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38D-46DC-4B9A-AFBF-3ABC9B47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C89-07A6-480E-AD4C-1ECD38BE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CCF-D6FD-40D8-8589-2B4AF059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BF7-229D-4DC0-A1D6-359E8984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A37-C8F7-4E26-91E4-C7B68685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BCB-9628-4049-89A7-839BA1DE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34E-2AAD-4C69-B3C0-268FBCB7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126-9EF3-4CA8-84D8-C955C04C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65B-9EA2-4A61-B0BB-07A61C91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0D6-E11D-4C29-9795-DBAE6A18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D95B-3A90-4EB7-9627-548023B2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FC4D-B040-41B4-8C08-398CE160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D164-9E37-4714-9F24-F6DD4AE44D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Муниципальное образовательное казённое учреждение дополнительного образования детей Оричевский районный      Дом детского твор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ухинский пр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вякина Ири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2 б 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Першина Ма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на-учител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Панагуши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Елена Аркадьевна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педагог Дома твор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26766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 водоё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000" y="2133720"/>
            <a:ext cx="8147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1341000"/>
            <a:ext cx="8147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загрязнения воды и прибрежной зо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4" descr="D:\Мои документы\Методическ. работа\Методические конкурсы\13 Прав. обл.конк. Презент\Братухинский пруд 2013\DSC_0177.JPG"/>
          <p:cNvPicPr/>
          <p:nvPr/>
        </p:nvPicPr>
        <p:blipFill>
          <a:blip r:embed="rId1"/>
          <a:stretch/>
        </p:blipFill>
        <p:spPr>
          <a:xfrm>
            <a:off x="826920" y="3068640"/>
            <a:ext cx="2016360" cy="18954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"/>
          <p:cNvPicPr/>
          <p:nvPr/>
        </p:nvPicPr>
        <p:blipFill>
          <a:blip r:embed="rId2"/>
          <a:stretch/>
        </p:blipFill>
        <p:spPr>
          <a:xfrm>
            <a:off x="3492360" y="3068640"/>
            <a:ext cx="2232000" cy="18730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"/>
          <p:cNvPicPr/>
          <p:nvPr/>
        </p:nvPicPr>
        <p:blipFill>
          <a:blip r:embed="rId3"/>
          <a:stretch/>
        </p:blipFill>
        <p:spPr>
          <a:xfrm>
            <a:off x="6300720" y="3068640"/>
            <a:ext cx="2016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лась  с  историей создания пру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ла растительный и животный мир  водоё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ли экологические проблемы водоёма и прибрежной з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гипотеза подтвердилас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ратухинский  пруд нуждается в охране растительного и животного мира обитающего в нё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7283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ли летом провести акцию «Чистый берег», убрать бытовой мусор. Отдыхая на берегу водоёма необходимо убирать за собой мусор с прибрежной з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ям посёлка  необходимо изменить своё отношение к окружающей нас природе, приобщаться к культурному отдыху  у водоё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Объект 2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9371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1" descr=""/>
          <p:cNvPicPr/>
          <p:nvPr/>
        </p:nvPicPr>
        <p:blipFill>
          <a:blip r:embed="rId2"/>
          <a:stretch/>
        </p:blipFill>
        <p:spPr>
          <a:xfrm>
            <a:off x="901800" y="1951200"/>
            <a:ext cx="719928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 узнать, как образовался наш водоём и нуждается ли он в охран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ся с  историей создания пру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обитателей водоё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экологические проблемы водоёма и прибрежной зоны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Братухинский пруд исследование\Братухинский пруд\P6200046.JPG"/>
          <p:cNvPicPr/>
          <p:nvPr/>
        </p:nvPicPr>
        <p:blipFill>
          <a:blip r:embed="rId1"/>
          <a:srcRect l="0" t="36718" r="7896" b="0"/>
          <a:stretch/>
        </p:blipFill>
        <p:spPr>
          <a:xfrm>
            <a:off x="457200" y="2565360"/>
            <a:ext cx="40384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ухинский пру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логическое состояние, растительность, животный мир  обитателей пру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 предполагаю, что искусственной водоём нуждается в охране растительного и животного мира обитающего в нё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P6200070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Братухинского пру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построения – рукотвор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рокам возведения – постоянн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пруда – 3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а –  50 м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– 400 м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Мои документы\Методическ. работа\Методические конкурсы\13 Кир. обл.конк. Презент\Братухинский пруд 2013\DSC_0171.JPG"/>
          <p:cNvPicPr/>
          <p:nvPr/>
        </p:nvPicPr>
        <p:blipFill>
          <a:blip r:embed="rId1"/>
          <a:stretch/>
        </p:blipFill>
        <p:spPr>
          <a:xfrm>
            <a:off x="522360" y="1600200"/>
            <a:ext cx="390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методика иссле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писатель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ё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нформацион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архивными материал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с местных ж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D:\Братухинский пруд исследование\Братухинский пруд\P6200075.JPG"/>
          <p:cNvPicPr/>
          <p:nvPr/>
        </p:nvPicPr>
        <p:blipFill>
          <a:blip r:embed="rId1"/>
          <a:stretch/>
        </p:blipFill>
        <p:spPr>
          <a:xfrm>
            <a:off x="458640" y="1600200"/>
            <a:ext cx="403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следов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иологический опр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опроса мы опросили примерно 200 человек и задавали всем одни и те же вопро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ужен ли вам пруд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» – 1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» – 1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» – 1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ля чего вам нужен пруд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расот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ыбал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дых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4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уп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"/>
          <p:cNvPicPr/>
          <p:nvPr/>
        </p:nvPicPr>
        <p:blipFill>
          <a:blip r:embed="rId1"/>
          <a:stretch/>
        </p:blipFill>
        <p:spPr>
          <a:xfrm>
            <a:off x="406440" y="1217520"/>
            <a:ext cx="41400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следования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му вода в водоёме не просачивается в почву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Глина не пропускает воду. Дождевая вода просачивается всё  глубже, пока не достигнет водонепроницаемой породы. Порода эта слишком плотная, и вода не может сквозь неё просочиться. Если в земле образуется впадина, а водонепроницаемый слой находится близко от поверхности, то возникает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http://lohmatik.ru/Lohmatik/stat/prir35.jpg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 ми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ем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000" y="4653000"/>
            <a:ext cx="821844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одоёме преобладают камыш, рогоз, (высшие водные растения).  Они способны хорошо насыщать воду кислородом, поэтому вода в пруду не «цветёт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создают благоприятные условия для нереста рыб и нагула молоди, поэтому в пруду хорошо размножались караси, карпы, оку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4" descr="http://flamber.ru/files/photos/1152431728/1152907168_g.jpg"/>
          <p:cNvPicPr/>
          <p:nvPr/>
        </p:nvPicPr>
        <p:blipFill>
          <a:blip r:embed="rId1"/>
          <a:stretch/>
        </p:blipFill>
        <p:spPr>
          <a:xfrm>
            <a:off x="971640" y="1125360"/>
            <a:ext cx="1512720" cy="1079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5" descr="http://flowers.cveti-sadi.ru/files/2010/10/Calthapalustris02.jpg"/>
          <p:cNvPicPr/>
          <p:nvPr/>
        </p:nvPicPr>
        <p:blipFill>
          <a:blip r:embed="rId2"/>
          <a:stretch/>
        </p:blipFill>
        <p:spPr>
          <a:xfrm>
            <a:off x="3708360" y="1125360"/>
            <a:ext cx="1440000" cy="1151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5" descr="http://a.desktopprassets.com/wallpapers/539966f7d15e88af748ff6b343bb0b3b7e832ba9/preview_green_leaves_and_water-1920x1080.jpg"/>
          <p:cNvPicPr/>
          <p:nvPr/>
        </p:nvPicPr>
        <p:blipFill>
          <a:blip r:embed="rId3"/>
          <a:stretch/>
        </p:blipFill>
        <p:spPr>
          <a:xfrm>
            <a:off x="6372360" y="1197000"/>
            <a:ext cx="1512720" cy="1079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1" descr="http://nadormedicine.ucoz.com/_ph/2/331347109.jpg"/>
          <p:cNvPicPr/>
          <p:nvPr/>
        </p:nvPicPr>
        <p:blipFill>
          <a:blip r:embed="rId4"/>
          <a:stretch/>
        </p:blipFill>
        <p:spPr>
          <a:xfrm>
            <a:off x="6372360" y="2924280"/>
            <a:ext cx="1509480" cy="10476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1" descr="http://fotoham.ru/img/picture/Oct/21/4d2d4bf3936513d910d794cdb84348a5/1.jpg"/>
          <p:cNvPicPr/>
          <p:nvPr/>
        </p:nvPicPr>
        <p:blipFill>
          <a:blip r:embed="rId5"/>
          <a:stretch/>
        </p:blipFill>
        <p:spPr>
          <a:xfrm>
            <a:off x="971640" y="2997360"/>
            <a:ext cx="1520640" cy="100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3" descr="http://dachadecor.ru/images/prrrp1.jpg"/>
          <p:cNvPicPr/>
          <p:nvPr/>
        </p:nvPicPr>
        <p:blipFill>
          <a:blip r:embed="rId6"/>
          <a:stretch/>
        </p:blipFill>
        <p:spPr>
          <a:xfrm>
            <a:off x="3708360" y="2924280"/>
            <a:ext cx="1509840" cy="1058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4459320" y="98964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4459320" y="16563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4459320" y="23040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4459320" y="28659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4459320" y="34470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22"/>
          <p:cNvSpPr/>
          <p:nvPr/>
        </p:nvSpPr>
        <p:spPr>
          <a:xfrm>
            <a:off x="6732720" y="4076640"/>
            <a:ext cx="10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т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23"/>
          <p:cNvSpPr/>
          <p:nvPr/>
        </p:nvSpPr>
        <p:spPr>
          <a:xfrm>
            <a:off x="1258920" y="2276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25"/>
          <p:cNvSpPr/>
          <p:nvPr/>
        </p:nvSpPr>
        <p:spPr>
          <a:xfrm>
            <a:off x="6878880" y="2349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я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26"/>
          <p:cNvSpPr/>
          <p:nvPr/>
        </p:nvSpPr>
        <p:spPr>
          <a:xfrm>
            <a:off x="4071240" y="414972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мы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27"/>
          <p:cNvSpPr/>
          <p:nvPr/>
        </p:nvSpPr>
        <p:spPr>
          <a:xfrm>
            <a:off x="1335960" y="407664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го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8"/>
          <p:cNvSpPr/>
          <p:nvPr/>
        </p:nvSpPr>
        <p:spPr>
          <a:xfrm>
            <a:off x="3785040" y="2421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лужн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 мир водоём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00000" y="4508280"/>
            <a:ext cx="7786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люски (прудовик, катуш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новодные (лягушки, жаб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комые (водомерки, комары, стрекоз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ы (карась, карп, белый амур, толстолоби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52280"/>
            <a:ext cx="82915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удовик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тушк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ягушка                 жаба                водомерка          стрек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ась                            карп                           толстолобик              утка с утят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5" descr="http://v-a-z.narod.ru/p_k_p.jpg"/>
          <p:cNvPicPr/>
          <p:nvPr/>
        </p:nvPicPr>
        <p:blipFill>
          <a:blip r:embed="rId1"/>
          <a:stretch/>
        </p:blipFill>
        <p:spPr>
          <a:xfrm>
            <a:off x="755640" y="1197000"/>
            <a:ext cx="1152360" cy="8427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http://klop911.ru/wp-content/uploads/2013/12/vidy-i-raznovidnosti-klopov-10.jpg"/>
          <p:cNvPicPr/>
          <p:nvPr/>
        </p:nvPicPr>
        <p:blipFill>
          <a:blip r:embed="rId2"/>
          <a:stretch/>
        </p:blipFill>
        <p:spPr>
          <a:xfrm>
            <a:off x="5940360" y="1268280"/>
            <a:ext cx="970200" cy="720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http://img-2008-01.photosight.ru/12/2499282.jpg"/>
          <p:cNvPicPr/>
          <p:nvPr/>
        </p:nvPicPr>
        <p:blipFill>
          <a:blip r:embed="rId3"/>
          <a:stretch/>
        </p:blipFill>
        <p:spPr>
          <a:xfrm>
            <a:off x="7308720" y="1268280"/>
            <a:ext cx="1224000" cy="7858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http://www.km-priroda.ru/files/images/udivit_rydom/amfibii.jpg"/>
          <p:cNvPicPr/>
          <p:nvPr/>
        </p:nvPicPr>
        <p:blipFill>
          <a:blip r:embed="rId4"/>
          <a:stretch/>
        </p:blipFill>
        <p:spPr>
          <a:xfrm>
            <a:off x="2700360" y="1197000"/>
            <a:ext cx="1224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http://www.ljplus.ru/img/t/r/triturus/Rana-levantina.JPG"/>
          <p:cNvPicPr/>
          <p:nvPr/>
        </p:nvPicPr>
        <p:blipFill>
          <a:blip r:embed="rId5"/>
          <a:stretch/>
        </p:blipFill>
        <p:spPr>
          <a:xfrm>
            <a:off x="4427640" y="1197000"/>
            <a:ext cx="936360" cy="792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https://im1-tub-ru.yandex.net/i?id=941b0d14c70ad14b8b103abc80dc35ab&amp;n=33&amp;h=190&amp;w=281"/>
          <p:cNvPicPr/>
          <p:nvPr/>
        </p:nvPicPr>
        <p:blipFill>
          <a:blip r:embed="rId6"/>
          <a:stretch/>
        </p:blipFill>
        <p:spPr>
          <a:xfrm>
            <a:off x="826920" y="3068640"/>
            <a:ext cx="1297080" cy="9507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1" descr="http://www.israfish.com/WebFish/Articles/IsraelFish/Cyprinus%20carpio.jpg"/>
          <p:cNvPicPr/>
          <p:nvPr/>
        </p:nvPicPr>
        <p:blipFill>
          <a:blip r:embed="rId7"/>
          <a:stretch/>
        </p:blipFill>
        <p:spPr>
          <a:xfrm>
            <a:off x="2843280" y="3068640"/>
            <a:ext cx="1297080" cy="936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2" descr="F:\Утки\SDC10146.JPG"/>
          <p:cNvPicPr/>
          <p:nvPr/>
        </p:nvPicPr>
        <p:blipFill>
          <a:blip r:embed="rId8"/>
          <a:stretch/>
        </p:blipFill>
        <p:spPr>
          <a:xfrm>
            <a:off x="7020000" y="2997360"/>
            <a:ext cx="1224000" cy="93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http://ic.pics.livejournal.com/eabramenkov/16641962/712/712_320.jpg"/>
          <p:cNvPicPr/>
          <p:nvPr/>
        </p:nvPicPr>
        <p:blipFill>
          <a:blip r:embed="rId9"/>
          <a:stretch/>
        </p:blipFill>
        <p:spPr>
          <a:xfrm>
            <a:off x="5003640" y="2997360"/>
            <a:ext cx="12240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8T06:58:49Z</dcterms:created>
  <dc:creator>ДДТ</dc:creator>
  <dc:description/>
  <dc:language>en-US</dc:language>
  <cp:lastModifiedBy>ДДТ</cp:lastModifiedBy>
  <dcterms:modified xsi:type="dcterms:W3CDTF">2017-02-14T06:12:34Z</dcterms:modified>
  <cp:revision>26</cp:revision>
  <dc:subject/>
  <dc:title>Муниципальное общеобразовательное казённое учреждение начальная общеобразовательная школа  пгт Оричи Оричевского района             Кировской области Муниципальное образовательное казённое учреждение дополнительного образования детей Оричевский районный      Дом детского творчества</dc:title>
</cp:coreProperties>
</file>