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A6C-A042-4979-859A-B51A056F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14F-DCC5-4063-ABBA-7EBC3C7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2B1-8895-43B3-B827-F271D636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61B-AE87-4537-A3C9-0EE5038C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FD44-8A82-43B7-B168-AF00DFA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53A-512F-4C86-B86B-FFC8B8D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AA3-B800-47D3-A32A-F0B15CE5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F27B-E7FE-4D94-9EED-C215CF01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6571-1614-4F49-A04C-8E037865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A80-166E-4AC3-A020-EE575F76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093-45B6-433F-9822-ACD2BAF6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35D-9EB9-41BD-AE94-EFAE46F5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C3CC-EE7C-4C9B-928E-A3D93843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942D-9497-417B-B1B4-8F2FD6D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89C4-4B8C-4C01-A402-A1CD514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FF45-620F-4B0B-BE5F-CD71F042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0B2-BA9F-48A6-A0C6-A503EAA7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6F9-49DA-438A-A337-7CF1AB67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CC8-225E-4AD0-BF2B-E98C8E4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E7B-C5E1-4EFC-9694-F9AAF74D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E9E-E3ED-4B48-84E2-CAC3C52F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C1F-B1F4-4102-92B5-A541E06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693-7F77-48B5-A6CB-9B3882B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D7D-C934-47F2-BC8E-E20E7EF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539C-C629-4AF3-8EF3-221008E8EE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C996-54AF-4756-81A2-31BBF5F76B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16000" y="1341360"/>
            <a:ext cx="6086520" cy="110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перёд,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п утешественники !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11280" y="1844640"/>
            <a:ext cx="248292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loud"/>
          <p:cNvSpPr/>
          <p:nvPr/>
        </p:nvSpPr>
        <p:spPr>
          <a:xfrm>
            <a:off x="0" y="1268280"/>
            <a:ext cx="3643200" cy="2665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2050920" y="4002120"/>
            <a:ext cx="3816360" cy="2666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Cloud"/>
          <p:cNvSpPr/>
          <p:nvPr/>
        </p:nvSpPr>
        <p:spPr>
          <a:xfrm>
            <a:off x="5724360" y="1484280"/>
            <a:ext cx="3175200" cy="251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nt"/>
          <p:cNvSpPr/>
          <p:nvPr/>
        </p:nvSpPr>
        <p:spPr>
          <a:xfrm>
            <a:off x="971640" y="2852640"/>
            <a:ext cx="1224000" cy="1089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7308720" y="2997360"/>
            <a:ext cx="1366920" cy="1161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nt"/>
          <p:cNvSpPr/>
          <p:nvPr/>
        </p:nvSpPr>
        <p:spPr>
          <a:xfrm>
            <a:off x="4067280" y="3357720"/>
            <a:ext cx="1520640" cy="152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1280" y="189000"/>
            <a:ext cx="777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Карта   путешествий!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867280" y="981000"/>
            <a:ext cx="28908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ж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4005360"/>
            <a:ext cx="338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броты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1584360" cy="77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0" b="13386"/>
          <a:stretch/>
        </p:blipFill>
        <p:spPr>
          <a:xfrm rot="16965600">
            <a:off x="3022200" y="4401720"/>
            <a:ext cx="2111400" cy="218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977760" y="5300640"/>
            <a:ext cx="977760" cy="123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 rot="2934600">
            <a:off x="493560" y="7291080"/>
            <a:ext cx="1073160" cy="691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484360" y="11970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2663640" cy="222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7667640" y="3254400"/>
            <a:ext cx="649440" cy="63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rcRect l="3311" t="0" r="0" b="0"/>
          <a:stretch/>
        </p:blipFill>
        <p:spPr>
          <a:xfrm>
            <a:off x="5867280" y="2133720"/>
            <a:ext cx="2089440" cy="163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4643280" y="3141720"/>
            <a:ext cx="1214640" cy="1289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836640"/>
            <a:ext cx="270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щ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9144000" y="260280"/>
            <a:ext cx="1763640" cy="2276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 rot="18645600">
            <a:off x="7351560" y="6459480"/>
            <a:ext cx="1943280" cy="1641600"/>
          </a:xfrm>
          <a:prstGeom prst="rect">
            <a:avLst/>
          </a:prstGeom>
          <a:ln w="0">
            <a:noFill/>
          </a:ln>
        </p:spPr>
      </p:pic>
      <p:sp>
        <p:nvSpPr>
          <p:cNvPr id="105" name="Cloud"/>
          <p:cNvSpPr/>
          <p:nvPr/>
        </p:nvSpPr>
        <p:spPr>
          <a:xfrm>
            <a:off x="-612720" y="5877000"/>
            <a:ext cx="2017800" cy="1409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7451640" y="5877000"/>
            <a:ext cx="2017800" cy="1409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nt"/>
          <p:cNvSpPr/>
          <p:nvPr/>
        </p:nvSpPr>
        <p:spPr>
          <a:xfrm>
            <a:off x="8459640" y="5516640"/>
            <a:ext cx="971640" cy="8748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nt"/>
          <p:cNvSpPr/>
          <p:nvPr/>
        </p:nvSpPr>
        <p:spPr>
          <a:xfrm>
            <a:off x="684360" y="6093000"/>
            <a:ext cx="1366560" cy="1161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C -0.00312 -0.01227 -0.00052 -0.0044 -0.00972 -0.02153 C -0.0191 -0.03889 -0.02535 -0.05995 -0.03872 -0.07292 C -0.04323 -0.08171 -0.04826 -0.09074 -0.05486 -0.09676 C -0.05851 -0.1044 -0.07187 -0.11759 -0.07899 -0.12037 C -0.0816 -0.12153 -0.10399 -0.12431 -0.10486 -0.12454 C -0.16406 -0.12384 -0.22969 -0.15208 -0.28229 -0.11597 C -0.28854 -0.09028 -0.28733 -0.10394 -0.28542 -0.06019 C -0.28681 -0.01528 -0.28056 -0.00255 -0.30486 0.01944 C -0.30972 0.02963 -0.31562 0.0338 -0.32413 0.03657 C -0.34896 0.03588 -0.37361 0.03588 -0.39844 0.03449 C -0.40972 0.0338 -0.42726 0.01574 -0.43872 0.01088 C -0.44774 0.00278 -0.45573 -0.00695 -0.46458 -0.01505 C -0.47135 -0.03333 -0.48108 -0.04699 -0.49201 -0.06019 C -0.50868 -0.07986 -0.52361 -0.10162 -0.54514 -0.11181 C -0.55434 -0.12107 -0.54896 -0.11713 -0.56128 -0.12245 C -0.56285 -0.12315 -0.56615 -0.12454 -0.56615 -0.12454 C -0.58472 -0.14144 -0.56806 -0.12847 -0.58229 -0.13542 C -0.58906 -0.13866 -0.59288 -0.14375 -0.6 -0.14607 C -0.60781 -0.15139 -0.61233 -0.15208 -0.62101 -0.15486 C -0.63264 -0.1588 -0.64306 -0.16458 -0.65486 -0.16759 C -0.66406 -0.1669 -0.67326 -0.16713 -0.68229 -0.16551 C -0.68507 -0.16505 -0.6875 -0.16158 -0.69028 -0.16111 C -0.69583 -0.16019 -0.70642 -0.16875 -0.71285 -0.16991 C -0.71979 -0.17107 -0.72691 -0.1713 -0.73385 -0.17199 C -0.7408 -0.17431 -0.74809 -0.17593 -0.75486 -0.17847 C -0.81215 -0.17384 -0.83108 -0.17338 -0.90642 -0.17199 C -0.91267 -0.16921 -0.91753 -0.16482 -0.92257 -0.15903 C -0.92431 -0.15695 -0.92535 -0.15394 -0.92743 -0.15255 C -0.93038 -0.15046 -0.9342 -0.15046 -0.93715 -0.14838 C -0.94757 -0.1412 -0.95781 -0.13796 -0.96927 -0.13542 C -0.97604 -0.1294 -0.98212 -0.12593 -0.98872 -0.12037 C -0.98976 -0.11829 -0.99062 -0.11574 -0.99201 -0.11389 C -0.99392 -0.11134 -0.9967 -0.11019 -0.99844 -0.10741 C -0.99948 -0.10556 -0.99913 -0.10301 -1 -0.10093 C -1.00521 -0.08889 -1.00399 -0.0963 -1.00799 -0.08588 C -1.01302 -0.07269 -1.01632 -0.05741 -1.02257 -0.04514 C -1.02465 -0.03333 -1.02847 -0.02245 -1.03073 -0.01065 C -1.03403 0.00625 -1.03437 0.02384 -1.03715 0.04097 C -1.03646 0.0919 -1.04653 0.18287 -1.01927 0.23657 C -1.01701 0.24884 -1.01528 0.25324 -1.00972 0.26458 C -1.00885 0.26643 -1.00937 0.26944 -1.00799 0.27106 C -1.00573 0.27407 -1.0026 0.27546 -1 0.27755 C -0.99358 0.27685 -0.98715 0.27685 -0.98073 0.27546 C -0.97743 0.27477 -0.97431 0.27245 -0.97101 0.27106 C -0.96944 0.27037 -0.96615 0.26898 -0.96615 0.26898 C -0.95937 0.26296 -0.95417 0.25717 -0.9467 0.25393 C -0.94514 0.25255 -0.94375 0.25069 -0.94201 0.24954 C -0.94045 0.24861 -0.93802 0.24537 -0.93715 0.24745 C -0.93628 0.24977 -0.93941 0.25162 -0.94028 0.25393 C -0.94097 0.25602 -0.94149 0.25833 -0.94201 0.26042 C -0.94253 0.30486 -0.94201 0.3493 -0.94358 0.39375 C -0.94358 0.3963 -0.94601 0.39768 -0.9467 0.4 C -0.94774 0.40347 -0.94792 0.40717 -0.94844 0.41088 C -0.94896 0.41944 -0.95 0.43657 -0.95 0.43657 E">
                                      <p:cBhvr>
                                        <p:cTn id="11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4982 0.43726 C -0.9519 0.43935 -0.95433 0.4412 -0.95624 0.44374 C -0.96214 0.45138 -0.95971 0.45833 -0.96753 0.46504 C -0.9736 0.47592 -0.98003 0.48564 -0.98853 0.49305 C -0.99444 0.50532 -1.00676 0.51504 -1.01753 0.51898 C -1.02378 0.52731 -1.0302 0.52916 -1.03853 0.53171 C -1.04339 0.53611 -1.04808 0.53819 -1.05294 0.54259 C -1.05746 0.55162 -1.05989 0.56157 -1.06423 0.5706 C -1.06353 0.59583 -1.06926 0.6405 -1.04982 0.65879 C -1.04791 0.66249 -1.04461 0.66944 -1.04166 0.67152 C -1.03767 0.67453 -1.02881 0.678 -1.02881 0.678 C -1.0177 0.69282 -1.03055 0.67777 -1.01753 0.68657 C -1.0151 0.68819 -1.01336 0.6912 -1.0111 0.69305 C -0.99878 0.70324 -0.98489 0.70949 -0.97065 0.71249 C -0.96336 0.71874 -0.95642 0.72245 -0.94826 0.72546 C -0.90451 0.72476 -0.8611 0.72523 -0.8177 0.72314 C -0.81319 0.72291 -0.80086 0.70787 -0.79669 0.70393 C -0.78853 0.69629 -0.7776 0.68958 -0.77083 0.68032 C -0.75971 0.66504 -0.74774 0.64606 -0.73194 0.63935 C -0.7276 0.64074 -0.72274 0.64027 -0.71909 0.64374 C -0.71336 0.64907 -0.7118 0.65717 -0.70954 0.66504 C -0.70989 0.67222 -0.71006 0.67939 -0.7111 0.68657 C -0.7118 0.69097 -0.71423 0.69953 -0.71423 0.69953 C -0.71214 0.73749 -0.71753 0.72152 -0.70138 0.73611 C -0.68905 0.73541 -0.67655 0.73541 -0.66423 0.73402 C -0.65815 0.73333 -0.6526 0.72893 -0.64669 0.72754 C -0.6368 0.72546 -0.62725 0.72291 -0.61753 0.72106 C -0.60937 0.71388 -0.60659 0.71226 -0.59808 0.7081 C -0.58923 0.69907 -0.57517 0.6905 -0.56423 0.68657 C -0.55763 0.68078 -0.55017 0.67662 -0.54339 0.67152 C -0.53819 0.66759 -0.53003 0.65694 -0.52395 0.65439 C -0.51371 0.64999 -0.50329 0.64814 -0.49339 0.64374 C -0.48732 0.64444 -0.48124 0.64351 -0.47551 0.64583 C -0.4736 0.64652 -0.47274 0.64976 -0.47239 0.65231 C -0.47152 0.67106 -0.47482 0.68333 -0.47881 0.69953 C -0.47673 0.70902 -0.47846 0.7081 -0.4677 0.7081 C -0.43767 0.7081 -0.40746 0.70671 -0.37725 0.70601 C -0.35971 0.70162 -0.34357 0.69907 -0.32569 0.69745 C -0.31527 0.69166 -0.30294 0.68842 -0.29322 0.68032 C -0.27881 0.66805 -0.26475 0.653 -0.24808 0.64583 C -0.23645 0.63518 -0.22881 0.62199 -0.21579 0.61365 C -0.20711 0.60138 -0.19617 0.58842 -0.18524 0.57916 C -0.18055 0.57013 -0.17551 0.56249 -0.17065 0.55324 C -0.16961 0.55115 -0.1677 0.54699 -0.1677 0.54699 C -0.16544 0.53611 -0.15919 0.51504 -0.15468 0.50601 C -0.14062 0.44884 -0.12551 0.36689 -0.1644 0.33171 C -0.17551 0.3324 -0.1868 0.33263 -0.19808 0.33402 C -0.2019 0.33449 -0.20607 0.33888 -0.20937 0.3405 C -0.21249 0.34212 -0.21909 0.34467 -0.21909 0.34467 C -0.23315 0.3574 -0.21562 0.34212 -0.22881 0.35115 C -0.23697 0.35648 -0.24114 0.36342 -0.24982 0.3662 C -0.26475 0.38009 -0.28037 0.38842 -0.29808 0.39212 C -0.31805 0.39143 -0.33801 0.39282 -0.3578 0.38981 C -0.3618 0.38912 -0.37326 0.37962 -0.37725 0.37476 C -0.38055 0.37083 -0.3868 0.36203 -0.3868 0.36203 C -0.3894 0.353 -0.39253 0.34513 -0.39513 0.33611 C -0.39635 0.30023 -0.39183 0.27129 -0.42083 0.25879 C -0.44287 0.23888 -0.47291 0.24374 -0.49808 0.23726 C -0.50971 0.22685 -0.52534 0.22314 -0.53871 0.21782 C -0.55833 0.20972 -0.57708 0.19907 -0.59652 0.18981 C -0.6052 0.17847 -0.60711 0.17638 -0.6111 0.16203 C -0.60989 0.13587 -0.61562 0.12453 -0.60138 0.11249 C -0.5953 0.10069 -0.58749 0.09467 -0.57899 0.08657 C -0.57499 0.08287 -0.57187 0.07708 -0.56753 0.07384 C -0.5618 0.06967 -0.55312 0.06736 -0.54669 0.06504 C -0.53107 0.0662 -0.51562 0.06944 -0.49999 0.06944 E">
                                      <p:cBhvr>
                                        <p:cTn id="3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 0.06944 C -0.50382 0.05092 -0.51788 0.04235 -0.5309 0.03726 C -0.53403 0.03587 -0.53715 0.03425 -0.54063 0.03286 C -0.54201 0.03217 -0.54531 0.03078 -0.54531 0.03078 C -0.57066 0.03217 -0.5882 0.03425 -0.61146 0.03934 C -0.61979 0.04513 -0.62674 0.05346 -0.63559 0.05647 C -0.64236 0.0611 -0.64635 0.06226 -0.65191 0.06944 C -0.65712 0.09883 -0.65781 0.09652 -0.6533 0.14467 C -0.65295 0.14814 -0.65 0.15022 -0.64844 0.15323 C -0.64566 0.15879 -0.6408 0.16944 -0.63715 0.17476 C -0.62951 0.18587 -0.62344 0.19235 -0.61476 0.20069 C -0.61042 0.20485 -0.6 0.20925 -0.6 0.20925 C -0.58733 0.22198 -0.56701 0.22638 -0.55174 0.23286 C -0.54236 0.24536 -0.55243 0.23471 -0.53715 0.24143 C -0.53576 0.24212 -0.52587 0.25231 -0.52587 0.25231 C -0.52205 0.26064 -0.52083 0.26596 -0.51945 0.27592 C -0.51997 0.28448 -0.51927 0.29328 -0.52101 0.30161 C -0.5217 0.30462 -0.52448 0.30578 -0.52587 0.30809 C -0.55486 0.35416 -0.59879 0.33934 -0.64201 0.3405 C -0.65486 0.34606 -0.64844 0.34397 -0.66146 0.34675 C -0.69601 0.36272 -0.66302 0.34883 -0.74844 0.35323 C -0.76198 0.35393 -0.77535 0.35671 -0.78872 0.35763 C -0.80417 0.35995 -0.81615 0.36249 -0.83247 0.36411 C -0.83767 0.3655 -0.84306 0.36689 -0.84844 0.36828 C -0.85174 0.36921 -0.85816 0.37059 -0.85816 0.37059 C -0.86337 0.37499 -0.8684 0.3787 -0.87431 0.38124 C -0.88941 0.39652 -0.90399 0.41573 -0.92292 0.42221 C -0.92969 0.42754 -0.93559 0.43309 -0.94201 0.43934 C -0.94566 0.44305 -0.9533 0.44999 -0.9533 0.44999 C -0.95573 0.45462 -0.9592 0.45833 -0.96146 0.46296 C -0.96233 0.46481 -0.96215 0.46735 -0.96302 0.46944 C -0.96493 0.47407 -0.96736 0.478 -0.96945 0.4824 C -0.97049 0.48448 -0.97274 0.48888 -0.97274 0.48888 C -0.97622 0.50277 -0.97153 0.4868 -0.97917 0.50161 C -0.98056 0.50416 -0.98108 0.50763 -0.98229 0.51041 C -0.98681 0.52083 -0.9934 0.53055 -0.99844 0.5405 C -0.99948 0.54258 -1.0007 0.54467 -1.00174 0.54675 C -1.00278 0.54883 -1.00382 0.55115 -1.00486 0.553 C -1.0059 0.55532 -1.00816 0.55971 -1.00816 0.55971 C -1.00938 0.56458 -1.00972 0.57013 -1.01146 0.57476 C -1.0132 0.57939 -1.01788 0.58772 -1.01788 0.58772 C -1.02135 0.60208 -1.02014 0.64421 -1.01302 0.65879 C -1.01146 0.67546 -1.00816 0.68865 -1.0033 0.7037 C -1.0007 0.71203 -1.00052 0.7199 -0.99688 0.72754 C -0.98802 0.80161 -0.89219 0.75485 -0.85816 0.75555 C -0.83733 0.75647 -0.82222 0.75532 -0.80347 0.75971 C -0.79184 0.76249 -0.78142 0.77245 -0.76945 0.77268 C -0.68021 0.77407 -0.59097 0.77407 -0.50174 0.77476 C -0.40347 0.778 -0.30417 0.78633 -0.2066 0.77059 C -0.18247 0.75971 -0.16007 0.75717 -0.1342 0.75555 C -0.12674 0.75208 -0.1184 0.75138 -0.11146 0.74675 C -0.10174 0.74027 -0.09514 0.72939 -0.08559 0.72291 C -0.08472 0.72106 -0.08385 0.71851 -0.08229 0.71666 C -0.07934 0.71203 -0.07274 0.7037 -0.07274 0.7037 C -0.06684 0.67291 -0.06615 0.69675 -0.06945 0.64374 C -0.07014 0.63286 -0.07691 0.62036 -0.08073 0.61133 C -0.08802 0.59351 -0.09549 0.57754 -0.10486 0.5618 C -0.1151 0.54444 -0.10695 0.553 -0.11632 0.54467 C -0.12483 0.528 -0.13507 0.52314 -0.14844 0.51643 C -0.1776 0.51944 -0.16545 0.51388 -0.18559 0.52731 C -0.18889 0.52893 -0.19219 0.53008 -0.19531 0.53171 C -0.19688 0.5324 -0.19844 0.53309 -0.20017 0.53379 C -0.2033 0.53541 -0.20972 0.53819 -0.20972 0.53819 C -0.21788 0.54559 -0.22708 0.55046 -0.23559 0.55763 C -0.24722 0.56689 -0.25781 0.5787 -0.26945 0.58772 C -0.27326 0.5905 -0.27708 0.59166 -0.28073 0.59421 C -0.35781 0.59258 -0.35365 0.60092 -0.39531 0.58772 C -0.4066 0.57731 -0.4033 0.56828 -0.4033 0.54907 E">
                                      <p:cBhvr>
                                        <p:cTn id="5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66667E-006 C -0.01718 -0.00879 -0.03073 -0.01434 -0.0467 -0.028 C -0.05468 -0.04397 -0.05069 -0.0368 -0.05798 -0.04953 C -0.05885 -0.05277 -0.06059 -0.05925 -0.06128 -0.06249 C -0.06232 -0.06828 -0.06441 -0.07962 -0.06441 -0.07962 C -0.06319 -0.1118 -0.06319 -0.14374 -0.04514 -0.16782 C -0.04253 -0.17893 -0.04444 -0.17291 -0.03715 -0.18726 C -0.03611 -0.18934 -0.03385 -0.19351 -0.03385 -0.19351 C -0.03211 -0.2037 -0.02777 -0.20948 -0.02569 -0.21944 C -0.02673 -0.23309 -0.02708 -0.24675 -0.02899 -0.26018 C -0.03073 -0.27314 -0.05538 -0.27661 -0.06128 -0.27754 C -0.09392 -0.27638 -0.11215 -0.27615 -0.14027 -0.27106 C -0.17204 -0.27175 -0.20382 -0.26897 -0.23541 -0.27314 C -0.23854 -0.2736 -0.23854 -0.28055 -0.24027 -0.28402 C -0.2434 -0.28981 -0.25 -0.30115 -0.25 -0.30115 C -0.25173 -0.30833 -0.25225 -0.31596 -0.25486 -0.32268 C -0.25868 -0.33263 -0.26024 -0.33055 -0.26614 -0.33772 C -0.27621 -0.34999 -0.28368 -0.35948 -0.2967 -0.36573 C -0.30937 -0.36458 -0.32222 -0.36666 -0.33385 -0.35925 E">
                                      <p:cBhvr>
                                        <p:cTn id="72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C 0.00868 0.0044 0.01493 0.00857 0.02413 0.01065 C 0.03872 0.00996 0.05313 0.00972 0.06771 0.00857 C 0.08646 0.00695 0.09879 -0.0162 0.11597 -0.02361 C 0.12274 -0.03009 0.12951 -0.03981 0.13698 -0.04305 C 0.1474 -0.05278 0.15608 -0.04884 0.16927 -0.04745 C 0.17031 -0.02176 0.16302 -0.00347 0.18056 0.00417 C 0.20469 0.00278 0.23281 0.00185 0.25642 -0.00856 C 0.26476 -0.01227 0.27014 -0.01921 0.27882 -0.02153 C 0.28924 -0.02407 0.29809 -0.02916 0.30781 -0.03241 C 0.31215 -0.03379 0.32101 -0.03657 0.32101 -0.03657 C 0.3349 -0.04583 0.34479 -0.05532 0.35642 -0.06875 C 0.35851 -0.07106 0.36111 -0.07268 0.36285 -0.07523 C 0.36597 -0.07986 0.36771 -0.08588 0.37101 -0.09028 C 0.37257 -0.09236 0.37431 -0.09467 0.37587 -0.09676 C 0.38108 -0.11088 0.37726 -0.10301 0.38872 -0.11828 C 0.3901 -0.12014 0.39063 -0.12291 0.39184 -0.12477 C 0.39879 -0.13541 0.40747 -0.14352 0.41771 -0.14629 C 0.4283 -0.15463 0.43073 -0.15486 0.44358 -0.15694 C 0.4559 -0.15625 0.46823 -0.15602 0.48056 -0.15486 C 0.48646 -0.1544 0.4967 -0.14421 0.4967 -0.14421 C 0.49879 -0.13287 0.49774 -0.12315 0.49514 -0.1118 C 0.49566 -0.10532 0.49514 -0.09861 0.4967 -0.09259 C 0.49844 -0.08518 0.50677 -0.08379 0.51129 -0.08171 C 0.51823 -0.08241 0.52535 -0.08287 0.53212 -0.08403 C 0.53403 -0.08426 0.53715 -0.08611 0.53715 -0.08611 E">
                                      <p:cBhvr>
                                        <p:cTn id="74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C 0.02153 0.00185 0.04306 0.00463 0.06458 0.00648 C 0.07379 0.00578 0.08281 0.00555 0.09201 0.00439 C 0.09983 0.00347 0.0974 0.00115 0.10486 -0.00209 C 0.11563 -0.00672 0.12639 -0.00973 0.13715 -0.01505 C 0.15087 -0.022 0.16076 -0.02616 0.16945 -0.04306 C 0.17951 -0.08473 0.16406 -0.10695 0.13715 -0.11389 C 0.13108 -0.11806 0.12604 -0.12037 0.11945 -0.12246 C 0.11424 -0.12732 0.10886 -0.12894 0.1033 -0.13334 C 0.1 -0.13612 0.09358 -0.1419 0.09358 -0.1419 C 0.09149 -0.1463 0.08837 -0.15 0.08715 -0.15487 C 0.08611 -0.15926 0.08403 -0.16783 0.08403 -0.16783 C 0.08733 -0.19468 0.10035 -0.20741 0.11945 -0.21297 C 0.14826 -0.20996 0.13472 -0.21227 0.15174 -0.20417 C 0.1592 -0.20834 0.16597 -0.21274 0.17101 -0.22153 C 0.17344 -0.2257 0.17743 -0.2345 0.17743 -0.2345 C 0.17656 -0.25278 0.17899 -0.27662 0.16615 -0.2882 C 0.16337 -0.29954 0.16545 -0.29283 0.15816 -0.30741 C 0.15712 -0.3095 0.15486 -0.31389 0.15486 -0.31389 C 0.15278 -0.325 0.14757 -0.34075 0.15486 -0.35047 E">
                                      <p:cBhvr>
                                        <p:cTn id="76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9:29:57Z</dcterms:created>
  <dc:creator>ученик</dc:creator>
  <dc:description/>
  <dc:language>en-US</dc:language>
  <cp:lastModifiedBy>Иван</cp:lastModifiedBy>
  <dcterms:modified xsi:type="dcterms:W3CDTF">2009-12-01T21:45:26Z</dcterms:modified>
  <cp:revision>5</cp:revision>
  <dc:subject/>
  <dc:title>Слайд 1</dc:title>
</cp:coreProperties>
</file>