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423-8415-4924-9789-5D4A2F2E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FC0-5C2F-4ED4-B9D1-BE1E9920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6B7-DF18-451A-ABE9-95292D83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C37-C2AF-4B1C-840B-00584BB3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46BB-0A7C-4D15-B1D1-6666CA9E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0F84-0BCE-4312-9D72-ECD45BCA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78D8-475B-43BF-A4AE-17E1EF2A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C283-01C0-4636-B3F7-A1D94E1D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F6F9-B764-497C-8198-41D50D72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F48F-2B3E-4FAA-94F4-C3B9FCC6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37B8-C03C-4F9F-82C5-ED30010D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1FD-7DAD-4E67-AF9E-E9B38690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0BF4-6F77-4370-8A51-98C4987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B343-77FB-4BD7-BAEC-9E296FD1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2BE0-BF19-4B2F-811E-BA5D33EB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D112-21EB-45EC-B7BC-5C1D1A3D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3CAC-F2DF-4D31-BD04-84E9DEB3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FD0-E832-438A-8A05-B39FFFB7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13C-6ECC-43E4-BB07-6BD97EE5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987-0F39-4EB8-ABD8-3927B30D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6F2-727E-4F04-8D51-3C859B45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80C-6DD9-4941-81AD-698526AC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676-CB58-4B8C-A2F8-97B99162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576-530E-4CA0-912F-8CB0EC92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8BB8-F877-4F0A-AAEF-CB4D38D801C8}" type="slidenum"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14A9-50B7-4C0B-B621-35395389511F}" type="slidenum"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4293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e5b6f"/>
                </a:solidFill>
                <a:latin typeface="Calibri"/>
              </a:rPr>
              <a:t>Мое хобби</a:t>
            </a:r>
            <a:endParaRPr b="0" lang="en-US" sz="6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2500200" cy="48913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ила  презентацию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еница 3 «Г» клас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БОУ гимназии №8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ссарабов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аста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2" descr="C:\Users\BOOK\Desktop\kids-cooking-camp.jpg"/>
          <p:cNvPicPr/>
          <p:nvPr/>
        </p:nvPicPr>
        <p:blipFill>
          <a:blip r:embed="rId1"/>
          <a:stretch/>
        </p:blipFill>
        <p:spPr>
          <a:xfrm>
            <a:off x="3143160" y="1285920"/>
            <a:ext cx="5643720" cy="5000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00760" y="357120"/>
            <a:ext cx="3900240" cy="58406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XIX веке вновь стали открываться одна за другой школы поварского искусства. И как ни странно, первая из них стала действовать в Англии - «Национальная тренировочная школа для поваров», - ведь принято считать, что британцы не слишком пристрастно относятся к еде. Скорее всего открытие школы было вызвано экономическими причинами: расширением сети маленьких кафе и ресторанчиков. Кулинарная школа, открытая в Париже в 1891 году, имела два отделения: женское и мужское. Женщин бесплатно обучали, как вести домашнюю экономику. У мужчин обучение было платным – они постигали секреты профессиональной кулинарии. Им преподавали также историю поварского искусства, ботанику, лепку, рисование, счетоведени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Содержимое 4" descr="bpic_0001715.jpg"/>
          <p:cNvPicPr/>
          <p:nvPr/>
        </p:nvPicPr>
        <p:blipFill>
          <a:blip r:embed="rId1"/>
          <a:stretch/>
        </p:blipFill>
        <p:spPr>
          <a:xfrm>
            <a:off x="428760" y="357120"/>
            <a:ext cx="4429080" cy="5786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71320" y="785880"/>
            <a:ext cx="350028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90 годы XIX века в России возникли Первая практическая школа поварского искусства, а также Школа кулинарного искусства и Школа кухонного искусства общественного охранения народного здравия в Москве, Одессе и Петербурге. Было чему поучиться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годня национальная русская кухня – самая разнообразная в мире. Одних щей в ней насчитывается более 60! Каждое новое блюдо нужно осваивать: а вдруг не получится? Не зря кулинарию называют искусством: она требует и умения, и терп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C:\Users\BOOK\Desktop\The-World-top-5.jpg"/>
          <p:cNvPicPr/>
          <p:nvPr/>
        </p:nvPicPr>
        <p:blipFill>
          <a:blip r:embed="rId1"/>
          <a:stretch/>
        </p:blipFill>
        <p:spPr>
          <a:xfrm>
            <a:off x="4381560" y="1643040"/>
            <a:ext cx="4762440" cy="464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6760" y="214200"/>
            <a:ext cx="2714760" cy="607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Швейцария. Рецепты блюд Швейцарской кух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зьмите немного Италии, немного Франции, немного Германии, к этому прибавьте горы и союзы кантонов — и вы получите полное представление о Швейцарии. Что же, ничего своего? Нет, и свое тоже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 Ретороманцы — коренные жители. А Швейцарский сыр и фондю — национальные блюда. Трудно разобраться в кантонских рецептах, но каждый кантон имеет свой сорт сыр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Содержимое 7" descr="lugano_001.jpg"/>
          <p:cNvPicPr/>
          <p:nvPr/>
        </p:nvPicPr>
        <p:blipFill>
          <a:blip r:embed="rId1"/>
          <a:stretch/>
        </p:blipFill>
        <p:spPr>
          <a:xfrm>
            <a:off x="3575160" y="357120"/>
            <a:ext cx="5111640" cy="5786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357120"/>
            <a:ext cx="5829480" cy="6143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600 г эмменталъского сыра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1\2 долька чеснока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1\2 л легкого белого вина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1—1,5 чайной ложки маисового (кукурузного) крахмала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2 ликерных стаканчика не слишком крепкой вишневой наливки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ерец, мускатный орех, 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белый хлеб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Огнеупорную посуду из фарфора или фаянса натереть изнутри половинкой дольки чеснока и разогреть на слабом огне в этой посуде вино.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Сыр натереть или нарезать мелкими кубиками и растопить в вине, помешивая деревянной ложкой (мешать следует не кругообразно, а по линии восьмерки). Дать сыру закипеть на сильном огне.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 небольшом количестве холодной воды развести крахмал, приправить мускатным орехом и перцем и сюда же влить вишневую наливку. Смешать все. 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  Фондю готов. Теперь его следует поставить на слабый огонь — он должен очень слабо и равномерно кипеть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К фондю подать слегка подрумяненные ломтики белого хлеба. Не забудьте поставить на стол перечницу, так как каждый может перчить фондю по собственному вкусу. порций.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Picture 4" descr="C:\Users\BOOK\Desktop\f497e9512e8906ebae7dc3bdf665e805.jpg"/>
          <p:cNvPicPr/>
          <p:nvPr/>
        </p:nvPicPr>
        <p:blipFill>
          <a:blip r:embed="rId1"/>
          <a:stretch/>
        </p:blipFill>
        <p:spPr>
          <a:xfrm>
            <a:off x="4834080" y="357120"/>
            <a:ext cx="4309920" cy="4214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213840"/>
            <a:ext cx="3357720" cy="5715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еция – родина богов и богинь, а уж они-то на своем Олимпе не едят что попало. Как, впрочем, и сами греки, которые обожают овощи, сыр, креветки и фрукты, умудряясь делать из них  много хороших и разных блюд, достойных небожител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Содержимое 5" descr="big2163.jpg"/>
          <p:cNvPicPr/>
          <p:nvPr/>
        </p:nvPicPr>
        <p:blipFill>
          <a:blip r:embed="rId1"/>
          <a:stretch/>
        </p:blipFill>
        <p:spPr>
          <a:xfrm>
            <a:off x="4248000" y="571680"/>
            <a:ext cx="4438800" cy="6072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715240" cy="6858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·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реческий салат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0 г свежих помидор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0 г свежих огурц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0 г свежего болгарского пер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0 г листьев салат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0 г сыра «Фето»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0 г репчатого лук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5 г оливок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5 г маслин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0 г оливкового масл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 г сол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 г черного молотого перца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·  Вымытые овощи и сыр нарезать крупными кусочками, лук – кольцами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·  Выложить в салатницу, заправить солью, перцем, маслом и перемешать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·  Украсить сверху квадратиками сыра, а сбоку – маслинами, оливками и колечками лука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 курица (1-1,2 кг)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00 г сливочного масла для жарки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 луковица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2 ст. ложки томат-пасты или 3 свежих помидора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 ч. ложка яблочного уксуса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00 мл вина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 ч. ложки сахара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оль, перец, специи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. Лук репчатый очистить, обмыть, мелко нарезать. Положить на сковороду 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 разогретым жиром и на умеренном огне пассеровать до размягчения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2. Выпотрошенную, зачищенную, опаленную и обмытую курицу нарубить кусочками 40-45 г, посолить, положить в сотейник с разогретым жиром и, изредка помешивая, обжарить до образования румяной корочки. 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3. После этого влить бульон или воду, уксус, слегка разведенную водой томат-пасту или протертые на терке помидоры и вино. Добавить соль, сахар, пассерованный лук, перец черный молотый и лавровый лист. Сотейник накрыть крышкой, и при слабом кипении тушить </a:t>
            </a: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до готовности 30-35 мин, (можно поставить в духовой шкаф).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" name="Picture 4" descr="C:\Users\BOOK\Desktop\0704-10.jpg"/>
          <p:cNvPicPr/>
          <p:nvPr/>
        </p:nvPicPr>
        <p:blipFill>
          <a:blip r:embed="rId1"/>
          <a:stretch/>
        </p:blipFill>
        <p:spPr>
          <a:xfrm>
            <a:off x="3786120" y="0"/>
            <a:ext cx="5357880" cy="4000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500040"/>
            <a:ext cx="3900600" cy="5626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ладкие, нежно-пряные ароматы марокканской кухни известны по всему миру. Тунисская кухня - прекрасна, с акцентом на острые, пряные блюда. Тоже самое можно сказать об алжирской и ливийской кухнях, когда египетская кухня акцентируется на зерновых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африканской кухне используются местные фрукты и овощи, экзотическая дичь и рыба из омывающих Африку океанов, приправленные маринадом культур, колоний, сетью торговых путей и древней историей. Это целый материк, где найдется и засушливая пустыня, и тропические болота, и равнины, и джунгли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Picture 2" descr="C:\Documents and Settings\Admin\Рабочий стол\3638.jpg"/>
          <p:cNvPicPr/>
          <p:nvPr/>
        </p:nvPicPr>
        <p:blipFill>
          <a:blip r:embed="rId1"/>
          <a:stretch/>
        </p:blipFill>
        <p:spPr>
          <a:xfrm>
            <a:off x="4489560" y="571680"/>
            <a:ext cx="4359240" cy="5643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99680" y="428400"/>
            <a:ext cx="7715160" cy="6197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всем недавно африканская кухня была еще совсем неизвестна на Западе, но со временем иммигранты привозят с собой на Запад национальные блюда родных стран. Сложно охарактеризовать африканскую кухню, так как невозможно описать любую кухню по названию континента. Попробуйте такие классические рецепты африканской кухни, как баба гануш, кускус с бараниной и семью овощами, гранатовый сорбет и составьте свое впечатл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8" name="Picture 4" descr="C:\Users\BOOK\Desktop\4400786.jpg"/>
          <p:cNvPicPr/>
          <p:nvPr/>
        </p:nvPicPr>
        <p:blipFill>
          <a:blip r:embed="rId1"/>
          <a:stretch/>
        </p:blipFill>
        <p:spPr>
          <a:xfrm>
            <a:off x="1071720" y="2928960"/>
            <a:ext cx="7262640" cy="3344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715000" y="-3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у́сская ку́хн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— традиционная кухня русского народа. Блюда, рецепты и вкусовые акценты достаточно сильно меняются в зависимости от географии. Русская кухня вобрала также в себя и некоторые блюда народов, входящих в состав РФ или ранее входивших в состав ССС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0" name="Содержимое 5" descr="0_d9fb_3794072a_XL.jpg"/>
          <p:cNvPicPr/>
          <p:nvPr/>
        </p:nvPicPr>
        <p:blipFill>
          <a:blip r:embed="rId1"/>
          <a:stretch/>
        </p:blipFill>
        <p:spPr>
          <a:xfrm>
            <a:off x="214200" y="357120"/>
            <a:ext cx="5112000" cy="5786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143240" cy="6858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у питания большинства населения (крестьян) составляли зерновые и овощи, из которых готовились квашенная капуста, голубцы, супы, каши и хлебобулочные изделия. «Щи да каша — пища наша» — как гласит русская пословиц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радиционным являлось разнообразие супов, среди которых наиболее известными являются щи, борщ, рассольник, калья и уха. Кроме того, к русским супам относятся холодные супы, такие, как ботвинья, окрош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ным гарниром до широкого распространения картофеля была реп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радиционной русской приправой и молочным продуктом является сметана, которой заправляют супы, пельмени и салаты. Другим русским молочным продуктом является творог, из которого изготовляются сырни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" name="Picture 5" descr="C:\Users\BOOK\Desktop\фотыШКА\еда\IMG_2924.JPG"/>
          <p:cNvPicPr/>
          <p:nvPr/>
        </p:nvPicPr>
        <p:blipFill>
          <a:blip r:embed="rId1"/>
          <a:stretch/>
        </p:blipFill>
        <p:spPr>
          <a:xfrm>
            <a:off x="4143240" y="357120"/>
            <a:ext cx="4786560" cy="5786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Picture 2" descr="C:\Documents and Settings\Admin\Рабочий стол\01.jpg"/>
          <p:cNvPicPr/>
          <p:nvPr/>
        </p:nvPicPr>
        <p:blipFill>
          <a:blip r:embed="rId1"/>
          <a:stretch/>
        </p:blipFill>
        <p:spPr>
          <a:xfrm>
            <a:off x="785880" y="1500120"/>
            <a:ext cx="7572240" cy="4643640"/>
          </a:xfrm>
          <a:prstGeom prst="rect">
            <a:avLst/>
          </a:prstGeom>
          <a:ln w="0">
            <a:noFill/>
          </a:ln>
        </p:spPr>
      </p:pic>
      <p:pic>
        <p:nvPicPr>
          <p:cNvPr id="101" name="Заголовок 5" descr=""/>
          <p:cNvPicPr/>
          <p:nvPr/>
        </p:nvPicPr>
        <p:blipFill>
          <a:blip r:embed="rId2"/>
          <a:stretch/>
        </p:blipFill>
        <p:spPr>
          <a:xfrm>
            <a:off x="530280" y="-182520"/>
            <a:ext cx="7864560" cy="145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00760" y="213840"/>
            <a:ext cx="3929040" cy="47624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ЕСЕРТЫ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з десертов известны сладкие мучные изделия: калачи, пряники, также варенья и мёд. Традиционным десертом русской кухни являются также печёные яблоки и другие печёные фрукты и яго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14" descr="https://im0-tub-ru.yandex.net/i?id=aa101b77d106fda7e605d0b6d27422fe-l&amp;n=13"/>
          <p:cNvPicPr/>
          <p:nvPr/>
        </p:nvPicPr>
        <p:blipFill>
          <a:blip r:embed="rId1"/>
          <a:stretch/>
        </p:blipFill>
        <p:spPr>
          <a:xfrm>
            <a:off x="4143240" y="3143160"/>
            <a:ext cx="5000760" cy="3714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https://im3-tub-ru.yandex.net/i?id=72695a935b92f56dda6d5a90b8938e6f-l&amp;n=13"/>
          <p:cNvPicPr/>
          <p:nvPr/>
        </p:nvPicPr>
        <p:blipFill>
          <a:blip r:embed="rId2"/>
          <a:stretch/>
        </p:blipFill>
        <p:spPr>
          <a:xfrm>
            <a:off x="0" y="0"/>
            <a:ext cx="4786200" cy="3714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43280" y="2286000"/>
            <a:ext cx="51120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0105c"/>
                </a:solidFill>
                <a:latin typeface="Calibri"/>
              </a:rPr>
              <a:t>а это вам МОИ  десерты!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49" name="Picture 1" descr="C:\Users\BOOK\Desktop\0_177d7c_113ef105_orig.jpg"/>
          <p:cNvPicPr/>
          <p:nvPr/>
        </p:nvPicPr>
        <p:blipFill>
          <a:blip r:embed="rId1"/>
          <a:stretch/>
        </p:blipFill>
        <p:spPr>
          <a:xfrm>
            <a:off x="534960" y="1643040"/>
            <a:ext cx="3882960" cy="471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http://f.mypage.ru/5631eb2563e2611f7581872d78679a70_e12b2cc586476d5cb2d93ff66bdd9370.jpg"/>
          <p:cNvPicPr/>
          <p:nvPr/>
        </p:nvPicPr>
        <p:blipFill>
          <a:blip r:embed="rId2"/>
          <a:stretch/>
        </p:blipFill>
        <p:spPr>
          <a:xfrm>
            <a:off x="4786200" y="1714680"/>
            <a:ext cx="4071960" cy="4714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5840" y="285480"/>
            <a:ext cx="3008160" cy="607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имствованные блю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 и в других странах Европы, в русскую кухню внедрились и некоторые иностранные блюда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а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льмени(Цзяоцзы), шашлык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аркое 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которые блюда были созданы в императорский период придворными кулинарами, наши любимы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алат Оливье (сама готовила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негр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3" name="Picture 5" descr="C:\Users\BOOK\Desktop\фотыШКА\еда\salatolive-579x419.jpg"/>
          <p:cNvPicPr/>
          <p:nvPr/>
        </p:nvPicPr>
        <p:blipFill>
          <a:blip r:embed="rId1"/>
          <a:stretch/>
        </p:blipFill>
        <p:spPr>
          <a:xfrm>
            <a:off x="3357720" y="2571840"/>
            <a:ext cx="5514840" cy="3990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Picture 6" descr="C:\Users\BOOK\Desktop\фотыШКА\еда\IMG_2926.JPG"/>
          <p:cNvPicPr/>
          <p:nvPr/>
        </p:nvPicPr>
        <p:blipFill>
          <a:blip r:embed="rId2"/>
          <a:stretch/>
        </p:blipFill>
        <p:spPr>
          <a:xfrm>
            <a:off x="3429000" y="500040"/>
            <a:ext cx="5460840" cy="3000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BOOK\Desktop\фотыШКА\еда\IMG_29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43720" y="357120"/>
            <a:ext cx="300816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хонная утвар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ольшинство блюд русской кухни готовятся в печи, для чего используются глиняные горшки. Традиционной посудой являются миски и деревянные ложки. Для приготовления чая традиционно используется самова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Содержимое 5" descr="484px-Samovar_silver.jpg"/>
          <p:cNvPicPr/>
          <p:nvPr/>
        </p:nvPicPr>
        <p:blipFill>
          <a:blip r:embed="rId1"/>
          <a:stretch/>
        </p:blipFill>
        <p:spPr>
          <a:xfrm>
            <a:off x="428760" y="285840"/>
            <a:ext cx="4721040" cy="5852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14880" y="285840"/>
            <a:ext cx="422280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Мое фирменное банановое мороженое в белом шоколаде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85520" y="571680"/>
            <a:ext cx="378612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78000"/>
          </a:bodyPr>
          <a:p>
            <a:pPr marL="212760" indent="-21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 напоследок поделюсь 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Picture 6" descr="https://im1-tub-ru.yandex.net/i?id=2c99211cd0f98fe59c655c5e2836ade5-l&amp;n=13"/>
          <p:cNvPicPr/>
          <p:nvPr/>
        </p:nvPicPr>
        <p:blipFill>
          <a:blip r:embed="rId1"/>
          <a:stretch/>
        </p:blipFill>
        <p:spPr>
          <a:xfrm>
            <a:off x="642960" y="1571760"/>
            <a:ext cx="7929720" cy="4443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530280" y="96840"/>
            <a:ext cx="7864560" cy="1036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" name="Picture 2" descr="C:\Users\BOOK\Desktop\фотыШКА\еда\IMG_2927.JPG"/>
          <p:cNvPicPr/>
          <p:nvPr/>
        </p:nvPicPr>
        <p:blipFill>
          <a:blip r:embed="rId2"/>
          <a:stretch/>
        </p:blipFill>
        <p:spPr>
          <a:xfrm>
            <a:off x="642960" y="1285920"/>
            <a:ext cx="7715160" cy="5286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530280" y="554040"/>
            <a:ext cx="7864560" cy="20131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" name="Picture 3" descr="C:\Users\BOOK\Desktop\0607_2.jpg"/>
          <p:cNvPicPr/>
          <p:nvPr/>
        </p:nvPicPr>
        <p:blipFill>
          <a:blip r:embed="rId2"/>
          <a:stretch/>
        </p:blipFill>
        <p:spPr>
          <a:xfrm>
            <a:off x="1000080" y="2571840"/>
            <a:ext cx="7072200" cy="3857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ьно – это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УЛИНАРИЯ  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03" name="Picture 2" descr="C:\Users\BOOK\Desktop\kids-cooking-7.jpg"/>
          <p:cNvPicPr/>
          <p:nvPr/>
        </p:nvPicPr>
        <p:blipFill>
          <a:blip r:embed="rId1"/>
          <a:stretch/>
        </p:blipFill>
        <p:spPr>
          <a:xfrm>
            <a:off x="714240" y="1643040"/>
            <a:ext cx="7786800" cy="4681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3f75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3f75"/>
                </a:solidFill>
                <a:latin typeface="Calibri"/>
              </a:rPr>
              <a:t>С детства помогала маме 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05" name="Picture 3" descr="C:\Users\BOOK\Desktop\cooking.jpg"/>
          <p:cNvPicPr/>
          <p:nvPr/>
        </p:nvPicPr>
        <p:blipFill>
          <a:blip r:embed="rId1"/>
          <a:stretch/>
        </p:blipFill>
        <p:spPr>
          <a:xfrm>
            <a:off x="1143000" y="1928880"/>
            <a:ext cx="7358040" cy="428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57120"/>
            <a:ext cx="267660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5b6f"/>
                </a:solidFill>
                <a:latin typeface="Calibri"/>
              </a:rPr>
              <a:t>А это 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3143160" cy="12142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8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мои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омощник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86240" y="120024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110" name="Picture 2" descr="C:\Users\BOOK\Desktop\bigstock-Three-Little-Chefs-Enjoying-In-32838032.jpg"/>
          <p:cNvPicPr/>
          <p:nvPr/>
        </p:nvPicPr>
        <p:blipFill>
          <a:blip r:embed="rId2"/>
          <a:stretch/>
        </p:blipFill>
        <p:spPr>
          <a:xfrm>
            <a:off x="3429000" y="214200"/>
            <a:ext cx="5448240" cy="528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BOOK\Desktop\поварята.jpg"/>
          <p:cNvPicPr/>
          <p:nvPr/>
        </p:nvPicPr>
        <p:blipFill>
          <a:blip r:embed="rId3"/>
          <a:stretch/>
        </p:blipFill>
        <p:spPr>
          <a:xfrm>
            <a:off x="0" y="2643120"/>
            <a:ext cx="5214960" cy="40006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523800" y="353880"/>
            <a:ext cx="7785000" cy="1200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3" descr="C:\Users\BOOK\Desktop\Сариния.jpg"/>
          <p:cNvPicPr/>
          <p:nvPr/>
        </p:nvPicPr>
        <p:blipFill>
          <a:blip r:embed="rId2"/>
          <a:stretch/>
        </p:blipFill>
        <p:spPr>
          <a:xfrm>
            <a:off x="714240" y="1785960"/>
            <a:ext cx="7572600" cy="4143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3008160" cy="5715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 десятки, не сотни – десятки тысяч блюд создала за всю историю мировая кулинария. О еде написано столько книг, что если приняться перечитывать их, не хватит человеческой жиз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митивная кухня, какой она была у первобытных народов, прошла долгий и трудный путь своего развития, прежде чем, наконец, превратилась в изысканное Кулинарное Искусство, впитавшее в себя достижения современной наук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" name="Picture 5" descr="C:\Users\BOOK\Desktop\02df5dd611.jpg"/>
          <p:cNvPicPr/>
          <p:nvPr/>
        </p:nvPicPr>
        <p:blipFill>
          <a:blip r:embed="rId1"/>
          <a:stretch/>
        </p:blipFill>
        <p:spPr>
          <a:xfrm>
            <a:off x="3214800" y="357120"/>
            <a:ext cx="5643360" cy="6215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85840" y="285840"/>
            <a:ext cx="4186080" cy="6572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тория развития человечества от древнейших времен до наших дней знавала невиданные взлеты поварского искусства и такие же резкие падения. То еду возносили до небес, считая ее одним из самых лучших удовольствий, то относились к ней чуть ли не с презрением, считая, что даже разговоры о продуктах и блюдах «недостойны истинного джентльмена». Взять древних эллинов.  В Спарте относились к питанию сдержанно: в походе и на войне надо было обходится простой в приготовлении пищей.  А совсем  рядом, в Афинах, готовили неслыханное праздничное блюдо: крошечная маслинка запекалась внутри голубя, голубь - в козленке, козленок – в овце, овца - в быке, все это жарилось на вертеле, и самому почетному гостю доставалась та самая маслинка…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Содержимое 4" descr="Cookkery.jpg"/>
          <p:cNvPicPr/>
          <p:nvPr/>
        </p:nvPicPr>
        <p:blipFill>
          <a:blip r:embed="rId1"/>
          <a:stretch/>
        </p:blipFill>
        <p:spPr>
          <a:xfrm>
            <a:off x="4643280" y="714240"/>
            <a:ext cx="4286520" cy="464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143680" y="285480"/>
            <a:ext cx="3714480" cy="6143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 время Второй Пунической  войны происходили даже восстания поваров, подчинивших себе некоторые города. При императорах Августе и Тиберии были организованы первые школы поварского искусства, во главе которых стоял волшебник котла и поварешки - великий повар Апиций. Поэтому не удивительно, что некоторые императоры были настоящими обжорами. При Вителлии, например, готовилось кушанье, стоившее целое состояние - миллион сестерций. Его делали из мозгов фазанов, павлинов, языков фламинго (бедные птички), печени и селезенки редчайших и по тому времени ры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Содержимое 4" descr="j4481_1201111501.gif"/>
          <p:cNvPicPr/>
          <p:nvPr/>
        </p:nvPicPr>
        <p:blipFill>
          <a:blip r:embed="rId1"/>
          <a:stretch/>
        </p:blipFill>
        <p:spPr>
          <a:xfrm>
            <a:off x="0" y="642960"/>
            <a:ext cx="4979880" cy="5000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3:28:01Z</dcterms:created>
  <dc:creator>1</dc:creator>
  <dc:description/>
  <dc:language>en-US</dc:language>
  <cp:lastModifiedBy>BOOK</cp:lastModifiedBy>
  <dcterms:modified xsi:type="dcterms:W3CDTF">2017-02-14T15:05:01Z</dcterms:modified>
  <cp:revision>25</cp:revision>
  <dc:subject/>
  <dc:title>Мировая кулинария.</dc:title>
</cp:coreProperties>
</file>