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181-5123-4121-A20A-0F06154E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33B0-524E-4379-907A-E72BF3D1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BA3479-AF3B-44A7-A1E7-79D10BBE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12D383-9870-4D7F-99A5-86C9BE33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D2EA76-1393-4DDD-A204-DF5E998C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009CC8-748E-4679-935E-3D1544F5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57416C-E82D-43F7-9F43-3EFBDBE0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F2ADD8-8D6B-4EE1-B29F-5B3F15DE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BA4147-2335-4BCA-943F-08332278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FA630E-E355-4521-80DE-92D23817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848344-C76D-4A61-AF29-8ADD73A9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10B911-AADC-4516-A362-C1A4FF34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FCFB-7C1B-45C7-98BB-99BE7314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A0CCD7-2000-4F2F-B06A-44B6FACE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1EA5F5-ECA7-4F40-90DC-40B995E1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9DAF92-84E6-4755-B793-2263BA62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896931-7FB2-4208-9F82-9E84AB3D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AB9A77-CFEE-4549-BE5F-5CEBD6F3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BAB585-81B2-4F0C-B3CB-25CE39E0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899C88-F6C0-4D1E-8A79-F1F82AEC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59E78D-95C1-4107-B116-056C2FB2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7B1E5F-70FB-45C8-A847-F44A1F89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B33C7C-DAB3-49ED-95A5-CDC0EE6F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5CCE-D698-4962-BF3F-4375D251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E079B3-8CE5-4AF3-B939-3614ACC0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BD80E-ED2E-4A65-894F-635D4A79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8DBF1-C083-4F07-AF00-3D7E1EDE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F0113-C3F7-4286-8D6E-362EBEE4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057D3-7261-4ABA-B0E8-5AE7465B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364D1-9B0D-41D8-ACBD-4D347DAD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30010-AEE6-461D-9C68-5228C953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F16E8-E392-4A8C-A5AE-AF1E855F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57CF2-97BD-4CD2-8604-D7F1AB08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CCBA6-479E-471A-B55A-03904532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30C8-4611-465E-BC80-949E1F8C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34362-AF8D-4C47-BAD7-1069FE39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E2C68-A44E-4643-8859-2A74EC53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D4886-C388-4562-9BC3-5045F497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C435D3-5F71-4C4A-BA58-27983800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F77853-629A-4761-8504-02F1FFEF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BD60D0-4FE5-4DBF-8117-CB1F1CFE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C37067-5C0C-4E20-B66A-E23AC766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021478-A792-4A2F-82BC-6F2C115F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B7B9AA-74AE-418C-AEC8-41E4D519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9342E6-8A96-499E-B554-934B8A8E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61BE-AFC8-400A-9980-F03289DB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05AF36-369D-49ED-857D-1543B3F4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7B3C6C-F418-484D-A496-B33DCDD8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9A6CD7-DE2A-4536-8DFE-6ED83DDA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876474-8007-49FE-8240-BED9B37C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55BCE7-6AD5-4B38-B934-D24029EA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5242-1129-4616-B94D-0710A704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B95E-CA64-4A7A-A708-7E9FAD07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F57A-834E-4F6C-9F9D-58FA6507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22BC-E16F-45B8-9084-AA3DC97E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850E-ED84-48CD-A9C0-E17BB931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DF0E-553D-4C46-A9A0-9BBB3635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26C3-E581-44EC-8BE1-F9059FB8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BC5B-B91B-4063-8868-4B99467D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7346-2DFE-4683-BCFC-125447A2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C4F1-882D-4D28-9178-71D9BD2D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B2A1-5D52-49AA-83DA-D6817BC8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551F0-B53A-4EA9-B41D-4335221B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EF5B6-DF9F-4B0F-9EB4-C147BA34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AECE2-C191-4247-8341-170A5C1A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55AFA-716A-45C7-AFB0-275871D9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DA674-85F7-4E7D-ABD9-116FEEBB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B596-1C49-42B6-8B68-D2C65E58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37873-F27A-4CBF-9253-0EB52956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E5C8A-DF41-4CCC-9EB6-53031417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A8450-3CA2-4211-9554-ADEFD407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C1676-767F-4C0D-8C85-AFCD427B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71F8B-B14D-4F37-BDB9-1D17F3D8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F9EA2-DCE4-4370-8B01-24CEEBA1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7CC45-35C2-4FD8-90BC-C69D0D6D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C2827-8A41-4B58-A0E7-A0507AA8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42979-543C-4D3A-9A7C-0CC3E5B1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1DB58-FD5C-44C1-A88F-E8E83E21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B397-CAB6-46F0-9BA1-6A67C498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338D2-AE5C-4110-B7EA-11619BBC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7D5C2-CC62-473A-9CFA-AE0D8146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2D075-AE1B-4517-AE4C-3661B368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02436-B0BB-4338-840A-C1ED95C3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9C5EE-48CE-4333-BF7C-02D5CF7F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FFF15-5284-4E79-870D-D2F13BA8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F82DE-ECD7-4C84-83E3-05D6B41C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93579-CD57-4948-A0B2-FFABB296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22B3F-8BE2-4F61-81AB-627C0D2E9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DD39B-3F96-43C1-BBB3-F6F858D5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544D-7B08-459A-BBA2-03518C30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E750F-96AD-4A50-9815-725F4850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32035-84E1-452A-840B-58CB6F38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0E3AD-F7D1-4B06-901E-800C2D9E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1FC64-5294-4350-9CAB-F10714B4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C8AF2-9E41-4508-8E50-FE2E0A16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75F43-1870-4801-8240-F4C9A34B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1296F-F02E-4281-A72D-D6ED0F4B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82F93-A8CA-4200-B6FD-783A7C52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87FAD-D242-417A-879F-7D380292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B7287-1641-4D49-974D-8DA02415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CF38-3B9C-4D1F-857F-CD64DEA2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982BF-7AC7-4905-95F8-DA739CDC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E5C7E-2F3D-4728-85C6-03F65F61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9187D-6C91-4C39-B991-09CD2A26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77062-24F6-4B7B-B015-43D03545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5BAF8-AFAE-48DC-903D-4E0ADE92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04D50-540E-4BCB-ACA1-67B80878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75D29-6312-471A-A53D-5C7B01AF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F34A0-9202-47D7-BFD2-0EC8B2E5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8CA38-D92B-44ED-9A42-51C1382A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18902-B7B6-4E3D-88A4-B676FE10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33A0-DCEA-498A-8287-68690B21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ED242-1322-486F-90AF-01B4D385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B3908-BFD2-4187-92FB-29E7A2ED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7BA44-2292-4719-AFE8-85559898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1384C-0597-455E-ABC0-3E779613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841E2-8F71-49BB-B7EB-B01E439F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8CA81-5BFC-4AE6-8FDF-7B37C1ED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B0494-6F6F-40B6-BB33-05F309F8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78EB1-AA34-4370-A574-93BD1AEC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29D3A-8410-4574-9555-445C8387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5CAC0-904C-4F24-8193-2DBF80D9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6A12-5EB5-4FD2-8F80-02A201C5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51538-321A-4042-96E1-4E6DF305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7BD7B-3931-4172-958E-0A08DE79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5FB1F-CB54-4281-A150-D9FC28D5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6E062-A09F-4E8E-B752-FA608AC7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58205-C023-433E-B636-61447C9F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F1AE5-05DF-4456-B2FA-A967D0A2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8FCAC-4839-4DD1-84A1-8CC28E74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F9C86-6B8F-41E3-96F6-D30B9266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DA7DD-644A-4562-82D2-4DC681F3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4BA5D-0D3C-4AB3-9FAB-DBA571F1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CA05-6BA1-479E-B866-AA1EF10B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178D4-A426-4B3B-A9D3-CFC76A3A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FA2A5-7D80-45A9-9BD9-5E153E9C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A92A7-7A2A-4D5D-AFC9-A2E105BF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F37F5-914C-4CA7-A463-D88358AF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FD1CE-7184-4575-92A8-FCD9A913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0D8D9-8FE7-4FFF-A055-BDEA2E72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01C39-2283-4A74-B7B9-CC9EE1DE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37EA72-A467-4D5A-A713-1B77376E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3728A3-09C5-486F-B3A6-81557F18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7A0B3F-D369-46CA-9DF6-5ADC1097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E76A-BCD7-4772-846E-DEF1AA03AF8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3449-6762-4BDE-8AEC-D813D67184E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DDC5-1200-4D16-A483-B388CAF17E0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C5F9-E087-4269-B4D3-E0A243AD52D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69D1-157E-47B0-8EB2-19F3EB72665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8625-9035-4C67-B29F-532CAA547B2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3681-4685-4E08-AF01-41363478CF2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07C5-7AC0-4A07-B2DA-238B19799D2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0649-0504-4AC6-8CEE-65BC673586D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79D5-F330-499B-A035-6AB12A3DF7A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638E-50E9-4CDF-B920-4D464F4986E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72BA-A167-4347-A0CF-399E8E8AABB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43960" cy="27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52cee"/>
                </a:solidFill>
                <a:latin typeface="Georgia"/>
              </a:rPr>
              <a:t>Определи тему урока</a:t>
            </a:r>
            <a:br>
              <a:rPr sz="4400"/>
            </a:br>
            <a:r>
              <a:rPr b="1" lang="ru-RU" sz="3300" spc="-1" strike="noStrike">
                <a:solidFill>
                  <a:srgbClr val="546d7a"/>
                </a:solidFill>
                <a:latin typeface="Georgia"/>
              </a:rPr>
              <a:t> </a:t>
            </a:r>
            <a:br>
              <a:rPr sz="3300"/>
            </a:br>
            <a:r>
              <a:rPr b="0" lang="ru-RU" sz="4000" spc="-1" strike="noStrike">
                <a:solidFill>
                  <a:srgbClr val="2a373d"/>
                </a:solidFill>
                <a:latin typeface="Georgia"/>
              </a:rPr>
              <a:t>Запиши 4 слова и подумай, </a:t>
            </a:r>
            <a:br>
              <a:rPr sz="4000"/>
            </a:br>
            <a:r>
              <a:rPr b="0" lang="ru-RU" sz="4000" spc="-1" strike="noStrike">
                <a:solidFill>
                  <a:srgbClr val="2a373d"/>
                </a:solidFill>
                <a:latin typeface="Georgia"/>
              </a:rPr>
              <a:t>что у них общего? 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28400" y="5013000"/>
            <a:ext cx="363852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8" name="Picture 5" descr="C:\Users\алёна\Desktop\Мои рисунки\о школе\сказочные герои учатся\подумай 4.jpg"/>
          <p:cNvPicPr/>
          <p:nvPr/>
        </p:nvPicPr>
        <p:blipFill>
          <a:blip r:embed="rId1"/>
          <a:stretch/>
        </p:blipFill>
        <p:spPr>
          <a:xfrm>
            <a:off x="2670120" y="3571920"/>
            <a:ext cx="3724200" cy="26575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6" descr="C:\Users\алёна\Desktop\Мои рисунки\весёлые анимашки\вопрос.gif"/>
          <p:cNvPicPr/>
          <p:nvPr/>
        </p:nvPicPr>
        <p:blipFill>
          <a:blip r:embed="rId2"/>
          <a:stretch/>
        </p:blipFill>
        <p:spPr>
          <a:xfrm>
            <a:off x="4022640" y="2757600"/>
            <a:ext cx="7192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85480" y="-458640"/>
            <a:ext cx="8643960" cy="27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52cee"/>
                </a:solidFill>
                <a:latin typeface="Georgia"/>
              </a:rPr>
              <a:t>ТЕМА УРОКА</a:t>
            </a:r>
            <a:br>
              <a:rPr sz="4000"/>
            </a:br>
            <a:r>
              <a:rPr b="1" lang="ru-RU" sz="3300" spc="-1" strike="noStrike">
                <a:solidFill>
                  <a:srgbClr val="546d7a"/>
                </a:solidFill>
                <a:latin typeface="Georgia"/>
              </a:rPr>
              <a:t> </a:t>
            </a:r>
            <a:br>
              <a:rPr sz="3300"/>
            </a:br>
            <a:r>
              <a:rPr b="1" lang="ru-RU" sz="4000" spc="-1" strike="noStrike">
                <a:solidFill>
                  <a:srgbClr val="352cee"/>
                </a:solidFill>
                <a:latin typeface="Georgia"/>
              </a:rPr>
              <a:t>СЛОЖНЫЕ СЛОВА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28400" y="5013000"/>
            <a:ext cx="363852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7" descr="C:\Users\алёна\Desktop\Мои рисунки\о школе\учителя\совёнок.png"/>
          <p:cNvPicPr/>
          <p:nvPr/>
        </p:nvPicPr>
        <p:blipFill>
          <a:blip r:embed="rId1"/>
          <a:stretch/>
        </p:blipFill>
        <p:spPr>
          <a:xfrm>
            <a:off x="2627280" y="2565360"/>
            <a:ext cx="38527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6d7a"/>
                </a:solidFill>
                <a:latin typeface="Georgia"/>
              </a:rPr>
              <a:t>Найти слова с двумя корнями и объяснить их значение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2460600" y="1773360"/>
            <a:ext cx="68421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ароход – ходить парой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Сероватый – серая вата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Мышеловка – ловкая мыш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Величайший – великий чай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5" name="Picture 4" descr="C:\My Documents\Мои рисунки\заставка\лица мальчишек.jpg"/>
          <p:cNvPicPr/>
          <p:nvPr/>
        </p:nvPicPr>
        <p:blipFill>
          <a:blip r:embed="rId1"/>
          <a:stretch/>
        </p:blipFill>
        <p:spPr>
          <a:xfrm>
            <a:off x="195120" y="1335240"/>
            <a:ext cx="2273400" cy="2011320"/>
          </a:xfrm>
          <a:prstGeom prst="rect">
            <a:avLst/>
          </a:prstGeom>
          <a:ln w="0">
            <a:noFill/>
          </a:ln>
        </p:spPr>
      </p:pic>
      <p:sp>
        <p:nvSpPr>
          <p:cNvPr id="616" name="TextBox 7"/>
          <p:cNvSpPr/>
          <p:nvPr/>
        </p:nvSpPr>
        <p:spPr>
          <a:xfrm>
            <a:off x="571680" y="3341520"/>
            <a:ext cx="178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т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Арка 16"/>
          <p:cNvSpPr/>
          <p:nvPr/>
        </p:nvSpPr>
        <p:spPr>
          <a:xfrm>
            <a:off x="2460600" y="1530360"/>
            <a:ext cx="789120" cy="857160"/>
          </a:xfrm>
          <a:custGeom>
            <a:avLst/>
            <a:gdLst>
              <a:gd name="textAreaLeft" fmla="*/ 0 w 789120"/>
              <a:gd name="textAreaRight" fmla="*/ 788400 w 789120"/>
              <a:gd name="textAreaTop" fmla="*/ 0 h 857160"/>
              <a:gd name="textAreaBottom" fmla="*/ 444600 h 857160"/>
            </a:gdLst>
            <a:ahLst/>
            <a:rect l="textAreaLeft" t="textAreaTop" r="textAreaRight" b="textAreaBottom"/>
            <a:pathLst>
              <a:path w="788988" h="857250">
                <a:moveTo>
                  <a:pt x="276" y="444668"/>
                </a:moveTo>
                <a:lnTo>
                  <a:pt x="276" y="444668"/>
                </a:lnTo>
                <a:arcTo wR="394494" hR="428625" stAng="10660175" swAng="10682823"/>
                <a:lnTo>
                  <a:pt x="682264" y="407072"/>
                </a:lnTo>
                <a:lnTo>
                  <a:pt x="682264" y="407072"/>
                </a:lnTo>
                <a:arcTo wR="288415" hR="322546" stAng="-256996" swAng="-10682834"/>
                <a:close/>
              </a:path>
            </a:pathLst>
          </a:custGeom>
          <a:solidFill>
            <a:srgbClr val="352cee"/>
          </a:solidFill>
          <a:ln w="11520">
            <a:solidFill>
              <a:srgbClr val="99473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Арка 20"/>
          <p:cNvSpPr/>
          <p:nvPr/>
        </p:nvSpPr>
        <p:spPr>
          <a:xfrm>
            <a:off x="3505320" y="5060880"/>
            <a:ext cx="674640" cy="712800"/>
          </a:xfrm>
          <a:custGeom>
            <a:avLst/>
            <a:gdLst>
              <a:gd name="textAreaLeft" fmla="*/ 0 w 674640"/>
              <a:gd name="textAreaRight" fmla="*/ 673920 w 674640"/>
              <a:gd name="textAreaTop" fmla="*/ 0 h 712800"/>
              <a:gd name="textAreaBottom" fmla="*/ 370080 h 712800"/>
            </a:gdLst>
            <a:ahLst/>
            <a:rect l="textAreaLeft" t="textAreaTop" r="textAreaRight" b="textAreaBottom"/>
            <a:pathLst>
              <a:path w="674688" h="712788">
                <a:moveTo>
                  <a:pt x="250" y="370113"/>
                </a:moveTo>
                <a:lnTo>
                  <a:pt x="250" y="370113"/>
                </a:lnTo>
                <a:arcTo wR="337344" hR="356394" stAng="10660168" swAng="10682832"/>
                <a:lnTo>
                  <a:pt x="583382" y="337966"/>
                </a:lnTo>
                <a:lnTo>
                  <a:pt x="583382" y="337966"/>
                </a:lnTo>
                <a:arcTo wR="246632" hR="265682" stAng="-257004" swAng="-10682825"/>
                <a:close/>
              </a:path>
            </a:pathLst>
          </a:custGeom>
          <a:solidFill>
            <a:srgbClr val="352cee"/>
          </a:solidFill>
          <a:ln w="11520">
            <a:solidFill>
              <a:srgbClr val="99473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Арка 21"/>
          <p:cNvSpPr/>
          <p:nvPr/>
        </p:nvSpPr>
        <p:spPr>
          <a:xfrm>
            <a:off x="2602080" y="3865680"/>
            <a:ext cx="901440" cy="809640"/>
          </a:xfrm>
          <a:custGeom>
            <a:avLst/>
            <a:gdLst>
              <a:gd name="textAreaLeft" fmla="*/ 0 w 901440"/>
              <a:gd name="textAreaRight" fmla="*/ 900000 w 901440"/>
              <a:gd name="textAreaTop" fmla="*/ 0 h 809640"/>
              <a:gd name="textAreaBottom" fmla="*/ 430920 h 809640"/>
            </a:gdLst>
            <a:ahLst/>
            <a:rect l="textAreaLeft" t="textAreaTop" r="textAreaRight" b="textAreaBottom"/>
            <a:pathLst>
              <a:path w="901700" h="809625">
                <a:moveTo>
                  <a:pt x="929" y="430779"/>
                </a:moveTo>
                <a:lnTo>
                  <a:pt x="929" y="430779"/>
                </a:lnTo>
                <a:arcTo wR="450850" hR="404813" stAng="10601812" swAng="10741187"/>
                <a:lnTo>
                  <a:pt x="791572" y="379293"/>
                </a:lnTo>
                <a:lnTo>
                  <a:pt x="791572" y="379293"/>
                </a:lnTo>
                <a:arcTo wR="341996" hR="295958" stAng="-256997" swAng="-10741198"/>
                <a:close/>
              </a:path>
            </a:pathLst>
          </a:custGeom>
          <a:solidFill>
            <a:srgbClr val="352cee"/>
          </a:solidFill>
          <a:ln w="11520">
            <a:solidFill>
              <a:srgbClr val="99473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Арка 22"/>
          <p:cNvSpPr/>
          <p:nvPr/>
        </p:nvSpPr>
        <p:spPr>
          <a:xfrm>
            <a:off x="3465360" y="2681280"/>
            <a:ext cx="787680" cy="857160"/>
          </a:xfrm>
          <a:custGeom>
            <a:avLst/>
            <a:gdLst>
              <a:gd name="textAreaLeft" fmla="*/ 0 w 787680"/>
              <a:gd name="textAreaRight" fmla="*/ 786960 w 787680"/>
              <a:gd name="textAreaTop" fmla="*/ 0 h 857160"/>
              <a:gd name="textAreaBottom" fmla="*/ 444600 h 857160"/>
            </a:gdLst>
            <a:ahLst/>
            <a:rect l="textAreaLeft" t="textAreaTop" r="textAreaRight" b="textAreaBottom"/>
            <a:pathLst>
              <a:path w="787400" h="857250">
                <a:moveTo>
                  <a:pt x="275" y="444636"/>
                </a:moveTo>
                <a:lnTo>
                  <a:pt x="275" y="444636"/>
                </a:lnTo>
                <a:arcTo wR="393700" hR="428625" stAng="10660173" swAng="10682825"/>
                <a:lnTo>
                  <a:pt x="680894" y="407115"/>
                </a:lnTo>
                <a:lnTo>
                  <a:pt x="680894" y="407115"/>
                </a:lnTo>
                <a:arcTo wR="287834" hR="322759" stAng="-256997" swAng="-10682828"/>
                <a:close/>
              </a:path>
            </a:pathLst>
          </a:custGeom>
          <a:solidFill>
            <a:srgbClr val="352cee"/>
          </a:solidFill>
          <a:ln w="11520">
            <a:solidFill>
              <a:srgbClr val="99473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Арка 23"/>
          <p:cNvSpPr/>
          <p:nvPr/>
        </p:nvSpPr>
        <p:spPr>
          <a:xfrm>
            <a:off x="3817800" y="3919680"/>
            <a:ext cx="675000" cy="712800"/>
          </a:xfrm>
          <a:custGeom>
            <a:avLst/>
            <a:gdLst>
              <a:gd name="textAreaLeft" fmla="*/ 0 w 675000"/>
              <a:gd name="textAreaRight" fmla="*/ 674280 w 675000"/>
              <a:gd name="textAreaTop" fmla="*/ 0 h 712800"/>
              <a:gd name="textAreaBottom" fmla="*/ 370080 h 712800"/>
            </a:gdLst>
            <a:ahLst/>
            <a:rect l="textAreaLeft" t="textAreaTop" r="textAreaRight" b="textAreaBottom"/>
            <a:pathLst>
              <a:path w="674687" h="712787">
                <a:moveTo>
                  <a:pt x="250" y="370112"/>
                </a:moveTo>
                <a:lnTo>
                  <a:pt x="250" y="370112"/>
                </a:lnTo>
                <a:arcTo wR="337344" hR="356394" stAng="10660168" swAng="10682832"/>
                <a:lnTo>
                  <a:pt x="583381" y="337966"/>
                </a:lnTo>
                <a:lnTo>
                  <a:pt x="583381" y="337966"/>
                </a:lnTo>
                <a:arcTo wR="246632" hR="265682" stAng="-257004" swAng="-10682825"/>
                <a:close/>
              </a:path>
            </a:pathLst>
          </a:custGeom>
          <a:solidFill>
            <a:srgbClr val="352cee"/>
          </a:solidFill>
          <a:ln w="11520">
            <a:solidFill>
              <a:srgbClr val="99473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Арка 24"/>
          <p:cNvSpPr/>
          <p:nvPr/>
        </p:nvSpPr>
        <p:spPr>
          <a:xfrm>
            <a:off x="2517840" y="2754360"/>
            <a:ext cx="674640" cy="712800"/>
          </a:xfrm>
          <a:custGeom>
            <a:avLst/>
            <a:gdLst>
              <a:gd name="textAreaLeft" fmla="*/ 0 w 674640"/>
              <a:gd name="textAreaRight" fmla="*/ 673920 w 674640"/>
              <a:gd name="textAreaTop" fmla="*/ 0 h 712800"/>
              <a:gd name="textAreaBottom" fmla="*/ 370080 h 712800"/>
            </a:gdLst>
            <a:ahLst/>
            <a:rect l="textAreaLeft" t="textAreaTop" r="textAreaRight" b="textAreaBottom"/>
            <a:pathLst>
              <a:path w="674688" h="712787">
                <a:moveTo>
                  <a:pt x="250" y="370112"/>
                </a:moveTo>
                <a:lnTo>
                  <a:pt x="250" y="370112"/>
                </a:lnTo>
                <a:arcTo wR="337344" hR="356394" stAng="10660168" swAng="10682832"/>
                <a:lnTo>
                  <a:pt x="583382" y="337966"/>
                </a:lnTo>
                <a:lnTo>
                  <a:pt x="583382" y="337966"/>
                </a:lnTo>
                <a:arcTo wR="246632" hR="265682" stAng="-257004" swAng="-10682825"/>
                <a:close/>
              </a:path>
            </a:pathLst>
          </a:custGeom>
          <a:solidFill>
            <a:srgbClr val="352cee"/>
          </a:solidFill>
          <a:ln w="11520">
            <a:solidFill>
              <a:srgbClr val="99473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Арка 25"/>
          <p:cNvSpPr/>
          <p:nvPr/>
        </p:nvSpPr>
        <p:spPr>
          <a:xfrm>
            <a:off x="3578400" y="1585800"/>
            <a:ext cx="674640" cy="712800"/>
          </a:xfrm>
          <a:custGeom>
            <a:avLst/>
            <a:gdLst>
              <a:gd name="textAreaLeft" fmla="*/ 0 w 674640"/>
              <a:gd name="textAreaRight" fmla="*/ 673920 w 674640"/>
              <a:gd name="textAreaTop" fmla="*/ 0 h 712800"/>
              <a:gd name="textAreaBottom" fmla="*/ 370080 h 712800"/>
            </a:gdLst>
            <a:ahLst/>
            <a:rect l="textAreaLeft" t="textAreaTop" r="textAreaRight" b="textAreaBottom"/>
            <a:pathLst>
              <a:path w="674688" h="712787">
                <a:moveTo>
                  <a:pt x="250" y="370112"/>
                </a:moveTo>
                <a:lnTo>
                  <a:pt x="250" y="370112"/>
                </a:lnTo>
                <a:arcTo wR="337344" hR="356394" stAng="10660168" swAng="10682832"/>
                <a:lnTo>
                  <a:pt x="583382" y="337966"/>
                </a:lnTo>
                <a:lnTo>
                  <a:pt x="583382" y="337966"/>
                </a:lnTo>
                <a:arcTo wR="246632" hR="265682" stAng="-257004" swAng="-10682825"/>
                <a:close/>
              </a:path>
            </a:pathLst>
          </a:custGeom>
          <a:solidFill>
            <a:srgbClr val="352cee"/>
          </a:solidFill>
          <a:ln w="11520">
            <a:solidFill>
              <a:srgbClr val="99473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Арка 26"/>
          <p:cNvSpPr/>
          <p:nvPr/>
        </p:nvSpPr>
        <p:spPr>
          <a:xfrm>
            <a:off x="2517840" y="5132520"/>
            <a:ext cx="674640" cy="712800"/>
          </a:xfrm>
          <a:custGeom>
            <a:avLst/>
            <a:gdLst>
              <a:gd name="textAreaLeft" fmla="*/ 0 w 674640"/>
              <a:gd name="textAreaRight" fmla="*/ 673920 w 674640"/>
              <a:gd name="textAreaTop" fmla="*/ 0 h 712800"/>
              <a:gd name="textAreaBottom" fmla="*/ 370080 h 712800"/>
            </a:gdLst>
            <a:ahLst/>
            <a:rect l="textAreaLeft" t="textAreaTop" r="textAreaRight" b="textAreaBottom"/>
            <a:pathLst>
              <a:path w="674688" h="712787">
                <a:moveTo>
                  <a:pt x="250" y="370112"/>
                </a:moveTo>
                <a:lnTo>
                  <a:pt x="250" y="370112"/>
                </a:lnTo>
                <a:arcTo wR="337344" hR="356394" stAng="10660168" swAng="10682832"/>
                <a:lnTo>
                  <a:pt x="583382" y="337966"/>
                </a:lnTo>
                <a:lnTo>
                  <a:pt x="583382" y="337966"/>
                </a:lnTo>
                <a:arcTo wR="246632" hR="265682" stAng="-257004" swAng="-10682825"/>
                <a:close/>
              </a:path>
            </a:pathLst>
          </a:custGeom>
          <a:solidFill>
            <a:srgbClr val="352cee"/>
          </a:solidFill>
          <a:ln w="11520">
            <a:solidFill>
              <a:srgbClr val="99473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52cee"/>
                </a:solidFill>
                <a:latin typeface="Georgia"/>
              </a:rPr>
              <a:t>ПРОВЕРЬ   ВЫВОД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1042560" y="1557360"/>
            <a:ext cx="7705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единительные гласные в сложных словах обозначаются только буквами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ли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зависимо от того, какие слышатся  звуки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2980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52cee"/>
                </a:solidFill>
                <a:latin typeface="Georgia"/>
              </a:rPr>
              <a:t>Проверь свои наблюдения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28400" y="1356840"/>
            <a:ext cx="85042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2cee"/>
                </a:solidFill>
                <a:latin typeface="Georgia"/>
              </a:rPr>
              <a:t>Когда пишется О, а когда Е 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осле </a:t>
            </a:r>
            <a:r>
              <a:rPr b="1" lang="ru-RU" sz="3600" spc="-1" strike="noStrike">
                <a:solidFill>
                  <a:srgbClr val="00b050"/>
                </a:solidFill>
                <a:latin typeface="Georgia"/>
              </a:rPr>
              <a:t>мягких, шипящих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1" lang="ru-RU" sz="3600" spc="-1" strike="noStrike">
                <a:solidFill>
                  <a:srgbClr val="00b050"/>
                </a:solidFill>
                <a:latin typeface="Georgia"/>
              </a:rPr>
              <a:t> Ц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В сложных словах пусть будет </a:t>
            </a:r>
            <a:r>
              <a:rPr b="1" lang="ru-RU" sz="3600" spc="-1" strike="noStrike">
                <a:solidFill>
                  <a:srgbClr val="00b050"/>
                </a:solidFill>
                <a:latin typeface="Georgia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А после </a:t>
            </a:r>
            <a:r>
              <a:rPr b="1" lang="ru-RU" sz="3600" spc="-1" strike="noStrike">
                <a:solidFill>
                  <a:srgbClr val="352cee"/>
                </a:solidFill>
                <a:latin typeface="Georgia"/>
              </a:rPr>
              <a:t>твердых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усть будет </a:t>
            </a:r>
            <a:r>
              <a:rPr b="1" lang="ru-RU" sz="3600" spc="-1" strike="noStrike">
                <a:solidFill>
                  <a:srgbClr val="352cee"/>
                </a:solidFill>
                <a:latin typeface="Georgia"/>
              </a:rPr>
              <a:t>О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–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Не перепутает их никто!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7600" y="17280"/>
            <a:ext cx="8964720" cy="75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52cee"/>
                </a:solidFill>
                <a:latin typeface="Georgia"/>
              </a:rPr>
              <a:t>Найди своё место на данной лестниц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0" name="Объект 3" descr=""/>
          <p:cNvPicPr/>
          <p:nvPr/>
        </p:nvPicPr>
        <p:blipFill>
          <a:blip r:embed="rId1"/>
          <a:stretch/>
        </p:blipFill>
        <p:spPr>
          <a:xfrm>
            <a:off x="165240" y="1122480"/>
            <a:ext cx="867384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kola4</dc:creator>
  <dc:description/>
  <dc:language>en-US</dc:language>
  <cp:lastModifiedBy>user</cp:lastModifiedBy>
  <dcterms:modified xsi:type="dcterms:W3CDTF">2016-11-18T07:32:37Z</dcterms:modified>
  <cp:revision>97</cp:revision>
  <dc:subject/>
  <dc:title>Слайд 1</dc:title>
</cp:coreProperties>
</file>