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386-24B1-4A6B-AA52-05C7FA10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33E-2164-4B5E-A446-BF539ED6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75ABC-3649-4709-B18F-8AAEDD0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265E4-5AFA-4138-A2A7-B3A192F1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2ACC6-7217-4309-B629-0EC106D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54B98-EE62-4750-BC7E-3CAD0F8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1FE43-BA2D-472F-AD59-3D53B33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02737-6871-44B2-8460-7B9F826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1621A-6EFB-4AA5-9EDB-E836B05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2E44D-D603-4EB1-A567-75BC4350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EC47F-10ED-4B6F-BC0B-02022AAF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0A2E0-5388-428B-8013-167E8535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791-4D9D-47E3-9ABF-0EBDFB26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B2368-19CA-40B1-8653-8DA2011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311B0-C8F7-47DC-AE45-3D7F6FB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992B1-D2DB-4512-B84F-4564F8F6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886D0-79C5-4460-A847-F88A6639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3DC51-E90E-4B4A-97A3-3A85C4A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CF69E-E2B9-424B-BD47-B8F5C587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E5122-9EE7-4608-AAF8-65331A8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73C3A-462B-4544-A22E-32D783F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17D9B-B630-4511-8E54-8080C10F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B2A7B-0ACC-43FE-99F8-71BFCFF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F84-E314-4325-ACC4-2BF537A9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FF1C2-9240-44E8-9C12-709F20B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C7CD-7921-4FA3-8387-6D3E9F28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90A92-30E3-4B05-9262-03848829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E3212-F5EC-4805-95ED-78772691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A6E7E-2861-4219-B57A-AD977E42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8E783-79CF-407D-9B63-1A700D4C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E549-D8FB-4FB1-912C-8524A90D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7FB3-7732-48C3-8F1A-462E70F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A1054-2167-4D8C-8CEC-914D5C2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43DF7-AA89-45D1-B8FB-76A8C36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BEB8-1E45-431B-92A9-2084CA1F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A9CD7-4A8B-4B3B-9658-ED52292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9529-9CA1-4663-AF68-807A336B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343CD-4A3B-4758-BB68-FF6E843F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B7815-7D8D-422A-9C69-445BF39D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1DF25-C669-43BF-BFB6-A6B1BBC1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F22CF-1493-4B8A-8EB5-66F1E8C2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9AEA9-B077-4FD9-A2D9-DF29F5A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77D18-9AA5-49A7-ABC5-62B4F06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4CEF7-AD88-4017-9CC6-E78F831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8BB14-6930-49E8-840C-ADF585E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EFB8-BEE9-43F8-BCA0-664E4EE8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09E57-8D1C-4067-922C-AA5638D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41790-507D-4D10-AD5F-4EED3FB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59067-104F-446C-A5A2-00EE363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D8A59-0901-4357-854C-25E649A3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51260-7914-4FFE-83C8-88A44080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4AD-7140-4B55-965F-B45BFBD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075C-750E-4AFC-8B26-996F7DEC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108-1890-46CC-BBA3-DE938BE3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F03A-F8F6-413F-96C9-E61D2D1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FBF-920B-4184-8B3D-8A2BE44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900-8A38-4677-8FCE-268957C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9BAC-51A0-4EC6-9890-3BB6D52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9EA3-EFCB-4A59-9C94-CB90B16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42F-2258-4910-A57C-01BCFB9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357-1DA4-4409-A46E-CCCFA077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AA22-036B-42DE-9D69-E4EE7327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9FCE-C1F1-4E2A-810C-D7217718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6A78-E705-42D3-B370-64827C6E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0F08-2B8B-4E28-B197-0B2D134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ACF3-A716-45F9-A36B-C27BD5C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6B8F-3445-4359-AF3E-65D40929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865-8D42-47D4-9F77-BDCE797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D3F0-BF91-405F-9F0B-1C01A9C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124C-B8A7-49F3-97F0-166C4E4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3FD7-53E3-4518-918F-AA7B01C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C98D-229D-4952-8F33-14115F9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AC69-E304-48CB-BB3B-35D8CD4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0FED-19C0-4522-A490-9F5CB367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B054-32BD-411A-99E7-2173CD9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9836-FB72-410A-ACC6-91C47D0E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5B8C-2962-4AC7-B1D7-ECB21A9F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C4E1-87B4-417A-9D05-B2302C8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296-E9A6-4D1A-B984-EE56DC06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2E07-FAB0-40B9-B93B-6A34EB1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60F7-4906-4499-8591-D2C87E4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220A-3274-48FA-B9A3-BC50D53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D72B-6F54-4D3A-8F0A-295BF90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B5BC-A590-4D91-96EC-8271AC2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E2B1-9C05-4CC4-A130-8B9B8F4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31C3-5E8A-4676-8082-88DB1F6F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B0FA-005D-4329-B22C-4E6C3086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2AE8-6B1F-41B9-801A-3529A576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96AA-27F1-4BAB-A29C-C0592B2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CB9-EE1F-465D-9E9B-55E7CFFC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3176A-887A-43C1-8930-04A272D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EDBB-D5B1-4ABE-8817-95B5A1A9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4E61-14C1-442C-B362-522A2DE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161C-0DBE-4597-BFB7-B0F96B9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BFEC-385A-4607-BB16-141C37D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BB00-B5B0-428F-96EB-F638C25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26FC-0D70-43DE-AD20-7BBAD03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523B-78EE-4BF1-8EC9-2E5DF6A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B1C5-AA85-478A-A17A-AD1B92C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D748-A2BA-48EC-95D2-F27C410D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9E3-B693-483D-BC0C-1826A20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913E-5C36-405A-B8A3-74D56954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90F6-2D17-4342-9ACC-FB9A8840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4AAD-875A-4FAD-806A-A273173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FE3D-7E62-40D5-9F12-2340FD5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BFCF-4BB0-4034-85AF-2EDBAF0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4756-3A61-474F-A04F-6893BDF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DA3DB-7D91-4BD9-9B0E-9FC514BB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5DF1-0E15-426E-B3D8-7F70488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A59C-381D-4B8B-A9A3-9CAAD96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13F8C-D5E3-4145-B585-92CF109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F83-D919-4B43-8DFB-1F41587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DDEEC-955C-47C6-B3C9-9786D98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0117F-0079-41CA-9AEB-C397981A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037D5-0E4D-4331-9412-2240926C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B7F3-BD16-4459-B098-27EECC1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427D-0EED-4A17-B966-9AE5823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8516-0FAD-4D37-B93A-C193131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060D9-2365-46B8-8627-D624777F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1B66-A91B-45B8-A1DA-F87DB44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01D7-9A46-4F90-BB5D-1BDB78E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21D4-A19E-4266-8A7B-CB445B7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C6B-8224-44D5-AF5B-7DF3CB8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69B88-C6C2-4A70-B2BB-A72933A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4716-EE88-43C7-81A1-34DCA5A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ED3F-EA54-48DC-B146-201A2A8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1276-923F-47D8-9E86-7E63B697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5D07-EBD2-4BE0-A042-89D3D011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34AF9-0B90-4A15-817D-88E19E17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8D72-1401-47CF-8175-00E3AEB4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9965-2CC4-453B-A951-AE2FFC4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5FED-B924-4E0C-821B-6220FBB0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972E2-E781-491F-A3F9-FB08FDA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8C9-0FC1-4A5C-8F38-76E051D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AA99-FF2F-432D-AED5-983F871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E801-DB3C-4D28-BF12-3EC4C50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124E-D1D6-46FA-BAF7-DC06261E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ABF6-5B81-4913-B5C9-5EA99C6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AD6D6-3524-4157-897A-B872EB1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89B1-96EC-4D89-8655-79B812A9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9589-AFC1-4B52-B9C8-97D9E3FF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0497E-27B9-41B4-BF91-399543B8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A44E2-49D9-4A78-9418-0C1D299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9B981-BF7D-4A4C-B22E-8FFFFF3F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07B-42A4-4A1F-B53C-01CFC9FD0B6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FE8A-AFA4-4444-A4D8-CEA53199FC6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2A3-1B44-4696-A774-EA8370D2A47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EE53-D652-4C4B-A6D6-DD7A48D36A1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D93D-6250-4DB5-93F3-D7371BFBE6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762-FB1B-43DD-BA4E-52E2884BA1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BF6-E759-4164-B881-30E30651FFC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A210-F4A6-424A-813E-5E57A82A12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97D-0414-4A50-8967-AB42C940D1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A8B-88AB-48C9-A4A1-7F3D86D56CC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5A05-2E98-4367-90A0-301C9C0EC07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ED9-A234-47A4-A338-0B0217516D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2cee"/>
                </a:solidFill>
                <a:latin typeface="Georgia"/>
              </a:rPr>
              <a:t>Определи тему урока</a:t>
            </a:r>
            <a:br>
              <a:rPr sz="4400"/>
            </a:b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 </a:t>
            </a:r>
            <a:br>
              <a:rPr sz="3300"/>
            </a:br>
            <a:r>
              <a:rPr b="0" lang="ru-RU" sz="4000" spc="-1" strike="noStrike">
                <a:solidFill>
                  <a:srgbClr val="2a373d"/>
                </a:solidFill>
                <a:latin typeface="Georgia"/>
              </a:rPr>
              <a:t>Запиши 4 слова и подумай, </a:t>
            </a:r>
            <a:br>
              <a:rPr sz="4000"/>
            </a:br>
            <a:r>
              <a:rPr b="0" lang="ru-RU" sz="4000" spc="-1" strike="noStrike">
                <a:solidFill>
                  <a:srgbClr val="2a373d"/>
                </a:solidFill>
                <a:latin typeface="Georgia"/>
              </a:rPr>
              <a:t>что у них общего? 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400" y="5013000"/>
            <a:ext cx="36385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5" descr="C:\Users\алёна\Desktop\Мои рисунки\о школе\сказочные герои учатся\подумай 4.jpg"/>
          <p:cNvPicPr/>
          <p:nvPr/>
        </p:nvPicPr>
        <p:blipFill>
          <a:blip r:embed="rId1"/>
          <a:stretch/>
        </p:blipFill>
        <p:spPr>
          <a:xfrm>
            <a:off x="2670120" y="3571920"/>
            <a:ext cx="3724200" cy="265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C:\Users\алёна\Desktop\Мои рисунки\весёлые анимашки\вопрос.gif"/>
          <p:cNvPicPr/>
          <p:nvPr/>
        </p:nvPicPr>
        <p:blipFill>
          <a:blip r:embed="rId2"/>
          <a:stretch/>
        </p:blipFill>
        <p:spPr>
          <a:xfrm>
            <a:off x="4022640" y="2757600"/>
            <a:ext cx="719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5480" y="-458640"/>
            <a:ext cx="864396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ТЕМА УРОКА</a:t>
            </a:r>
            <a:br>
              <a:rPr sz="4000"/>
            </a:b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 </a:t>
            </a:r>
            <a:br>
              <a:rPr sz="3300"/>
            </a:b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СЛОЖНЫЕ СЛОВА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28400" y="5013000"/>
            <a:ext cx="36385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7" descr="C:\Users\алёна\Desktop\Мои рисунки\о школе\учителя\совёнок.png"/>
          <p:cNvPicPr/>
          <p:nvPr/>
        </p:nvPicPr>
        <p:blipFill>
          <a:blip r:embed="rId1"/>
          <a:stretch/>
        </p:blipFill>
        <p:spPr>
          <a:xfrm>
            <a:off x="2627280" y="2565360"/>
            <a:ext cx="3852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d7a"/>
                </a:solidFill>
                <a:latin typeface="Georgia"/>
              </a:rPr>
              <a:t>Найти слова с двумя корнями и объяснить их знач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60600" y="1773360"/>
            <a:ext cx="68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ароход – ходить паро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ероватый – серая ват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Мышеловка – ловкая мыш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Величайший – великий чай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My Documents\Мои рисунки\заставка\лица мальчишек.jpg"/>
          <p:cNvPicPr/>
          <p:nvPr/>
        </p:nvPicPr>
        <p:blipFill>
          <a:blip r:embed="rId1"/>
          <a:stretch/>
        </p:blipFill>
        <p:spPr>
          <a:xfrm>
            <a:off x="195120" y="1335240"/>
            <a:ext cx="2273400" cy="20113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7"/>
          <p:cNvSpPr/>
          <p:nvPr/>
        </p:nvSpPr>
        <p:spPr>
          <a:xfrm>
            <a:off x="571680" y="33415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Арка 16"/>
          <p:cNvSpPr/>
          <p:nvPr/>
        </p:nvSpPr>
        <p:spPr>
          <a:xfrm>
            <a:off x="2460600" y="1530360"/>
            <a:ext cx="789120" cy="857160"/>
          </a:xfrm>
          <a:custGeom>
            <a:avLst/>
            <a:gdLst>
              <a:gd name="textAreaLeft" fmla="*/ 0 w 789120"/>
              <a:gd name="textAreaRight" fmla="*/ 788400 w 789120"/>
              <a:gd name="textAreaTop" fmla="*/ 0 h 857160"/>
              <a:gd name="textAreaBottom" fmla="*/ 444600 h 857160"/>
            </a:gdLst>
            <a:ahLst/>
            <a:rect l="textAreaLeft" t="textAreaTop" r="textAreaRight" b="textAreaBottom"/>
            <a:pathLst>
              <a:path w="788988" h="857250">
                <a:moveTo>
                  <a:pt x="276" y="444668"/>
                </a:moveTo>
                <a:lnTo>
                  <a:pt x="276" y="444668"/>
                </a:lnTo>
                <a:arcTo wR="394494" hR="428625" stAng="10660175" swAng="10682823"/>
                <a:lnTo>
                  <a:pt x="682264" y="407072"/>
                </a:lnTo>
                <a:lnTo>
                  <a:pt x="682264" y="407072"/>
                </a:lnTo>
                <a:arcTo wR="288415" hR="322546" stAng="-256996" swAng="-10682834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Арка 20"/>
          <p:cNvSpPr/>
          <p:nvPr/>
        </p:nvSpPr>
        <p:spPr>
          <a:xfrm>
            <a:off x="3505320" y="506088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8">
                <a:moveTo>
                  <a:pt x="250" y="370113"/>
                </a:moveTo>
                <a:lnTo>
                  <a:pt x="250" y="370113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Арка 21"/>
          <p:cNvSpPr/>
          <p:nvPr/>
        </p:nvSpPr>
        <p:spPr>
          <a:xfrm>
            <a:off x="2602080" y="3865680"/>
            <a:ext cx="901440" cy="809640"/>
          </a:xfrm>
          <a:custGeom>
            <a:avLst/>
            <a:gdLst>
              <a:gd name="textAreaLeft" fmla="*/ 0 w 901440"/>
              <a:gd name="textAreaRight" fmla="*/ 900000 w 901440"/>
              <a:gd name="textAreaTop" fmla="*/ 0 h 809640"/>
              <a:gd name="textAreaBottom" fmla="*/ 430920 h 809640"/>
            </a:gdLst>
            <a:ahLst/>
            <a:rect l="textAreaLeft" t="textAreaTop" r="textAreaRight" b="textAreaBottom"/>
            <a:pathLst>
              <a:path w="901700" h="809625">
                <a:moveTo>
                  <a:pt x="929" y="430779"/>
                </a:moveTo>
                <a:lnTo>
                  <a:pt x="929" y="430779"/>
                </a:lnTo>
                <a:arcTo wR="450850" hR="404813" stAng="10601812" swAng="10741187"/>
                <a:lnTo>
                  <a:pt x="791572" y="379293"/>
                </a:lnTo>
                <a:lnTo>
                  <a:pt x="791572" y="379293"/>
                </a:lnTo>
                <a:arcTo wR="341996" hR="295958" stAng="-256997" swAng="-10741198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Арка 22"/>
          <p:cNvSpPr/>
          <p:nvPr/>
        </p:nvSpPr>
        <p:spPr>
          <a:xfrm>
            <a:off x="3465360" y="2681280"/>
            <a:ext cx="787680" cy="857160"/>
          </a:xfrm>
          <a:custGeom>
            <a:avLst/>
            <a:gdLst>
              <a:gd name="textAreaLeft" fmla="*/ 0 w 787680"/>
              <a:gd name="textAreaRight" fmla="*/ 786960 w 787680"/>
              <a:gd name="textAreaTop" fmla="*/ 0 h 857160"/>
              <a:gd name="textAreaBottom" fmla="*/ 444600 h 857160"/>
            </a:gdLst>
            <a:ahLst/>
            <a:rect l="textAreaLeft" t="textAreaTop" r="textAreaRight" b="textAreaBottom"/>
            <a:pathLst>
              <a:path w="787400" h="857250">
                <a:moveTo>
                  <a:pt x="275" y="444636"/>
                </a:moveTo>
                <a:lnTo>
                  <a:pt x="275" y="444636"/>
                </a:lnTo>
                <a:arcTo wR="393700" hR="428625" stAng="10660173" swAng="10682825"/>
                <a:lnTo>
                  <a:pt x="680894" y="407115"/>
                </a:lnTo>
                <a:lnTo>
                  <a:pt x="680894" y="407115"/>
                </a:lnTo>
                <a:arcTo wR="287834" hR="322759" stAng="-256997" swAng="-10682828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Арка 23"/>
          <p:cNvSpPr/>
          <p:nvPr/>
        </p:nvSpPr>
        <p:spPr>
          <a:xfrm>
            <a:off x="3817800" y="3919680"/>
            <a:ext cx="675000" cy="712800"/>
          </a:xfrm>
          <a:custGeom>
            <a:avLst/>
            <a:gdLst>
              <a:gd name="textAreaLeft" fmla="*/ 0 w 675000"/>
              <a:gd name="textAreaRight" fmla="*/ 674280 w 67500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7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1" y="337966"/>
                </a:lnTo>
                <a:lnTo>
                  <a:pt x="583381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Арка 24"/>
          <p:cNvSpPr/>
          <p:nvPr/>
        </p:nvSpPr>
        <p:spPr>
          <a:xfrm>
            <a:off x="2517840" y="275436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Арка 25"/>
          <p:cNvSpPr/>
          <p:nvPr/>
        </p:nvSpPr>
        <p:spPr>
          <a:xfrm>
            <a:off x="3578400" y="158580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Арка 26"/>
          <p:cNvSpPr/>
          <p:nvPr/>
        </p:nvSpPr>
        <p:spPr>
          <a:xfrm>
            <a:off x="2517840" y="513252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2cee"/>
                </a:solidFill>
                <a:latin typeface="Georgia"/>
              </a:rPr>
              <a:t>ПРОВЕРЬ   ВЫВОД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042560" y="1557360"/>
            <a:ext cx="7705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ительные гласные в сложных словах обозначаются только буквам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висимо от того, какие слышатся  звук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298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Проверь свои наблюд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28400" y="1356840"/>
            <a:ext cx="8504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2cee"/>
                </a:solidFill>
                <a:latin typeface="Georgia"/>
              </a:rPr>
              <a:t>Когда пишется О, а когда Е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сле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мягких, шипящих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Ц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сложных словах пусть будет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 после </a:t>
            </a:r>
            <a:r>
              <a:rPr b="1" lang="ru-RU" sz="3600" spc="-1" strike="noStrike">
                <a:solidFill>
                  <a:srgbClr val="352cee"/>
                </a:solidFill>
                <a:latin typeface="Georgia"/>
              </a:rPr>
              <a:t>твердых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усть будет </a:t>
            </a:r>
            <a:r>
              <a:rPr b="1" lang="ru-RU" sz="3600" spc="-1" strike="noStrike">
                <a:solidFill>
                  <a:srgbClr val="352cee"/>
                </a:solidFill>
                <a:latin typeface="Georgia"/>
              </a:rPr>
              <a:t>О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 перепутает их никто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" y="17280"/>
            <a:ext cx="89647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2cee"/>
                </a:solidFill>
                <a:latin typeface="Georgia"/>
              </a:rPr>
              <a:t>Найди своё место на данной лестниц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Объект 3" descr=""/>
          <p:cNvPicPr/>
          <p:nvPr/>
        </p:nvPicPr>
        <p:blipFill>
          <a:blip r:embed="rId1"/>
          <a:stretch/>
        </p:blipFill>
        <p:spPr>
          <a:xfrm>
            <a:off x="165240" y="1122480"/>
            <a:ext cx="86738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kola4</dc:creator>
  <dc:description/>
  <dc:language>en-US</dc:language>
  <cp:lastModifiedBy>user</cp:lastModifiedBy>
  <dcterms:modified xsi:type="dcterms:W3CDTF">2016-11-18T07:32:37Z</dcterms:modified>
  <cp:revision>97</cp:revision>
  <dc:subject/>
  <dc:title>Слайд 1</dc:title>
</cp:coreProperties>
</file>