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46.png" ContentType="image/png"/>
  <Override PartName="/ppt/media/image31.jpeg" ContentType="image/jpeg"/>
  <Override PartName="/ppt/media/image36.png" ContentType="image/png"/>
  <Override PartName="/ppt/media/image32.jpeg" ContentType="image/jpeg"/>
  <Override PartName="/ppt/media/image5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5.png" ContentType="image/png"/>
  <Override PartName="/ppt/media/image27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286-3C18-4C6E-A3C3-3E011EA7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51D-E3D8-4872-85CA-819696E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962-7389-4D28-85AA-250169A0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390-2DFE-4C56-966D-9CC5CF12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2DA-0409-4ABC-91E8-3044CE6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EC5-B52A-4529-A3AE-6554EB50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28E-4380-4AF0-88C6-2F7B897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DD3-71BB-4DBF-B05E-62E15E6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21F-C1DA-4C76-83B4-4BD14EA2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7E1-47DD-4ADF-BE2D-3A59785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58E-E8C7-4F6A-9D2C-B9E3DBB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821-5AD3-4E7D-A288-56C5D2D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74F9-1498-4989-B349-71D15812C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2680" y="3369600"/>
            <a:ext cx="3889440" cy="29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Большим значением для развития сюжетно ролевой игры детей является педагогически целесообразный подбор игрушек и предметов заместителей, что создаёт «материальную основу» игры, обеспечивает развитие игры как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 rot="787200">
            <a:off x="4482720" y="1821960"/>
            <a:ext cx="4102200" cy="4264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520560" y="-134640"/>
            <a:ext cx="8035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Сюжетно ролевая 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предметы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местит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73080"/>
            <a:ext cx="9114120" cy="1390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6360" y="1539720"/>
            <a:ext cx="8861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Для изготовления игрушек из этого материала нам понадобятся выкройка, инструмент для распила, кра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"/>
          <p:cNvPicPr/>
          <p:nvPr/>
        </p:nvPicPr>
        <p:blipFill>
          <a:blip r:embed="rId2"/>
          <a:stretch/>
        </p:blipFill>
        <p:spPr>
          <a:xfrm>
            <a:off x="4878360" y="3270240"/>
            <a:ext cx="4032360" cy="33148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3"/>
          <a:stretch/>
        </p:blipFill>
        <p:spPr>
          <a:xfrm>
            <a:off x="246240" y="3514680"/>
            <a:ext cx="4536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73080"/>
            <a:ext cx="9114120" cy="1390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6360" y="1539720"/>
            <a:ext cx="8861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А здесь нам подойдут различные предметы отслужившие свою прямую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2"/>
          <a:stretch/>
        </p:blipFill>
        <p:spPr>
          <a:xfrm>
            <a:off x="6429240" y="2503440"/>
            <a:ext cx="2389320" cy="1957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3"/>
          <a:stretch/>
        </p:blipFill>
        <p:spPr>
          <a:xfrm>
            <a:off x="6632640" y="4746600"/>
            <a:ext cx="2376360" cy="1657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"/>
          <p:cNvPicPr/>
          <p:nvPr/>
        </p:nvPicPr>
        <p:blipFill>
          <a:blip r:embed="rId4"/>
          <a:stretch/>
        </p:blipFill>
        <p:spPr>
          <a:xfrm rot="21079200">
            <a:off x="326520" y="3214440"/>
            <a:ext cx="2784600" cy="2685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"/>
          <p:cNvPicPr/>
          <p:nvPr/>
        </p:nvPicPr>
        <p:blipFill>
          <a:blip r:embed="rId5"/>
          <a:stretch/>
        </p:blipFill>
        <p:spPr>
          <a:xfrm>
            <a:off x="3271680" y="3100320"/>
            <a:ext cx="276228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"/>
          <p:cNvPicPr/>
          <p:nvPr/>
        </p:nvPicPr>
        <p:blipFill>
          <a:blip r:embed="rId6"/>
          <a:stretch/>
        </p:blipFill>
        <p:spPr>
          <a:xfrm>
            <a:off x="3427560" y="4973760"/>
            <a:ext cx="2952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2" descr=""/>
          <p:cNvPicPr/>
          <p:nvPr/>
        </p:nvPicPr>
        <p:blipFill>
          <a:blip r:embed="rId1"/>
          <a:stretch/>
        </p:blipFill>
        <p:spPr>
          <a:xfrm>
            <a:off x="36360" y="73080"/>
            <a:ext cx="911412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-252360" y="1384200"/>
            <a:ext cx="871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Бумагу рвём на куски замачиваем в горяче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тжимаем от воды, добавляем клей ПВА или клейс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еремешиваем. Получаем тесто для папье-м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Лепим постепенно слоями давая слоям просох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7738920" y="1392120"/>
            <a:ext cx="1295640" cy="3194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"/>
          <p:cNvPicPr/>
          <p:nvPr/>
        </p:nvPicPr>
        <p:blipFill>
          <a:blip r:embed="rId3"/>
          <a:stretch/>
        </p:blipFill>
        <p:spPr>
          <a:xfrm>
            <a:off x="4735440" y="3719520"/>
            <a:ext cx="339588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"/>
          <p:cNvPicPr/>
          <p:nvPr/>
        </p:nvPicPr>
        <p:blipFill>
          <a:blip r:embed="rId4"/>
          <a:stretch/>
        </p:blipFill>
        <p:spPr>
          <a:xfrm>
            <a:off x="826920" y="4000680"/>
            <a:ext cx="2797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2" descr=""/>
          <p:cNvPicPr/>
          <p:nvPr/>
        </p:nvPicPr>
        <p:blipFill>
          <a:blip r:embed="rId1"/>
          <a:stretch/>
        </p:blipFill>
        <p:spPr>
          <a:xfrm>
            <a:off x="30240" y="2341440"/>
            <a:ext cx="9120240" cy="2675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31680" y="135720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85840" y="753120"/>
            <a:ext cx="37098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Times New Roman"/>
              </a:rPr>
              <a:t>Можно написать отдельные вывески больница, поликлиника, магазин, мастерская. Таблички «касса», «обед», «перерыв», «директор», «закры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 rot="753600">
            <a:off x="4854600" y="826920"/>
            <a:ext cx="389268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2"/>
          <a:stretch/>
        </p:blipFill>
        <p:spPr>
          <a:xfrm rot="21049200">
            <a:off x="4013280" y="1939680"/>
            <a:ext cx="3276360" cy="1014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 rot="421800">
            <a:off x="6076800" y="2658960"/>
            <a:ext cx="2880000" cy="1081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4281480" y="5657760"/>
            <a:ext cx="473400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5"/>
          <a:stretch/>
        </p:blipFill>
        <p:spPr>
          <a:xfrm rot="837000">
            <a:off x="4167360" y="3519000"/>
            <a:ext cx="4593960" cy="1008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"/>
          <p:cNvPicPr/>
          <p:nvPr/>
        </p:nvPicPr>
        <p:blipFill>
          <a:blip r:embed="rId6"/>
          <a:stretch/>
        </p:blipFill>
        <p:spPr>
          <a:xfrm rot="21253200">
            <a:off x="3747960" y="4648320"/>
            <a:ext cx="43196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0" descr=""/>
          <p:cNvPicPr/>
          <p:nvPr/>
        </p:nvPicPr>
        <p:blipFill>
          <a:blip r:embed="rId1"/>
          <a:stretch/>
        </p:blipFill>
        <p:spPr>
          <a:xfrm>
            <a:off x="208080" y="96840"/>
            <a:ext cx="6869160" cy="238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 rot="21175200">
            <a:off x="344160" y="3088800"/>
            <a:ext cx="4121280" cy="3087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"/>
          <p:cNvPicPr/>
          <p:nvPr/>
        </p:nvPicPr>
        <p:blipFill>
          <a:blip r:embed="rId3"/>
          <a:stretch/>
        </p:blipFill>
        <p:spPr>
          <a:xfrm>
            <a:off x="4811760" y="4413240"/>
            <a:ext cx="3033720" cy="2122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4"/>
          <a:stretch/>
        </p:blipFill>
        <p:spPr>
          <a:xfrm>
            <a:off x="6489720" y="1332000"/>
            <a:ext cx="2565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0" descr=""/>
          <p:cNvPicPr/>
          <p:nvPr/>
        </p:nvPicPr>
        <p:blipFill>
          <a:blip r:embed="rId1"/>
          <a:stretch/>
        </p:blipFill>
        <p:spPr>
          <a:xfrm>
            <a:off x="676440" y="49320"/>
            <a:ext cx="8607240" cy="13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85840" y="1279800"/>
            <a:ext cx="871524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Солёное тесто (масса для лепки), пластил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Ткань, флис, фетр, пористая резина (фоамира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Порол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Шерстяные ни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Бумага. Кар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Бросов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  <a:ea typeface="Times New Roman"/>
              </a:rPr>
              <a:t>Доска, фанера, ДС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719280" y="60480"/>
            <a:ext cx="7802280" cy="1384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31680" y="1357200"/>
            <a:ext cx="900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Рецепт: Мука – 2 ст. Соль – 1 т. Вода – 1 ст. Пищевые красители или гуа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Улучшить качество теста помогут различные доба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прочности – обойный клей или клей П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эластичности – крахмал (1 ст. 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Замешиваем тесто тщательно разминая до однородной массы без ком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омните что готовое тесто быстро заветрив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оэтому поместите материал в полиэти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 rot="1060200">
            <a:off x="5714640" y="3965400"/>
            <a:ext cx="3127320" cy="2476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3"/>
          <a:stretch/>
        </p:blipFill>
        <p:spPr>
          <a:xfrm>
            <a:off x="272880" y="4444920"/>
            <a:ext cx="244980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4"/>
          <a:stretch/>
        </p:blipFill>
        <p:spPr>
          <a:xfrm rot="20935200">
            <a:off x="3639600" y="4452840"/>
            <a:ext cx="2222640" cy="2211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"/>
          <p:cNvPicPr/>
          <p:nvPr/>
        </p:nvPicPr>
        <p:blipFill>
          <a:blip r:embed="rId5"/>
          <a:stretch/>
        </p:blipFill>
        <p:spPr>
          <a:xfrm>
            <a:off x="6369120" y="1844640"/>
            <a:ext cx="252252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2876400" y="60480"/>
            <a:ext cx="558504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1680" y="1357200"/>
            <a:ext cx="33879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Поролон может быть разной толщины, твердости, фактуры, цвета. Выполняя поделки из поролона очень пригодятся свойства этого материала, сжиматься, разжиматься. Для работы необходимо ещё запастись ножницами, иголкой с нитками. Эти материалы просты и доступны, но открывают большие просторы для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2"/>
          <a:stretch/>
        </p:blipFill>
        <p:spPr>
          <a:xfrm>
            <a:off x="4367160" y="1382760"/>
            <a:ext cx="3556080" cy="2862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"/>
          <p:cNvPicPr/>
          <p:nvPr/>
        </p:nvPicPr>
        <p:blipFill>
          <a:blip r:embed="rId3"/>
          <a:stretch/>
        </p:blipFill>
        <p:spPr>
          <a:xfrm rot="405000">
            <a:off x="6413400" y="4500360"/>
            <a:ext cx="2497320" cy="2070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"/>
          <p:cNvPicPr/>
          <p:nvPr/>
        </p:nvPicPr>
        <p:blipFill>
          <a:blip r:embed="rId4"/>
          <a:stretch/>
        </p:blipFill>
        <p:spPr>
          <a:xfrm rot="20788800">
            <a:off x="3718080" y="4014720"/>
            <a:ext cx="25524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798560" y="60480"/>
            <a:ext cx="6662880" cy="1384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31680" y="1357200"/>
            <a:ext cx="8861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Нам понадобятся цветные нитки, крючок, схема вязания, набивной материал (сентипон или пороло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4452840" y="3051000"/>
            <a:ext cx="4375080" cy="3283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3"/>
          <a:stretch/>
        </p:blipFill>
        <p:spPr>
          <a:xfrm>
            <a:off x="260280" y="3254400"/>
            <a:ext cx="4027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60480" y="-182520"/>
            <a:ext cx="9113760" cy="2114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6360" y="1539720"/>
            <a:ext cx="8861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Для изготовления игрушек из этого материала нам так же понадобятся: иголка с ниткой, клей, ножницы, выкрой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"/>
          <p:cNvPicPr/>
          <p:nvPr/>
        </p:nvPicPr>
        <p:blipFill>
          <a:blip r:embed="rId2"/>
          <a:stretch/>
        </p:blipFill>
        <p:spPr>
          <a:xfrm>
            <a:off x="5924520" y="2822400"/>
            <a:ext cx="2973240" cy="1811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3"/>
          <a:stretch/>
        </p:blipFill>
        <p:spPr>
          <a:xfrm rot="21052800">
            <a:off x="2436840" y="3129120"/>
            <a:ext cx="3449520" cy="2935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/>
          <p:cNvPicPr/>
          <p:nvPr/>
        </p:nvPicPr>
        <p:blipFill>
          <a:blip r:embed="rId4"/>
          <a:stretch/>
        </p:blipFill>
        <p:spPr>
          <a:xfrm>
            <a:off x="204840" y="3668760"/>
            <a:ext cx="2333520" cy="2784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9" descr=""/>
          <p:cNvPicPr/>
          <p:nvPr/>
        </p:nvPicPr>
        <p:blipFill>
          <a:blip r:embed="rId5"/>
          <a:stretch/>
        </p:blipFill>
        <p:spPr>
          <a:xfrm>
            <a:off x="5891040" y="4664160"/>
            <a:ext cx="3076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210960" y="276120"/>
            <a:ext cx="4380120" cy="3981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2"/>
          <a:stretch/>
        </p:blipFill>
        <p:spPr>
          <a:xfrm>
            <a:off x="5033880" y="277920"/>
            <a:ext cx="3899160" cy="25956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"/>
          <p:cNvPicPr/>
          <p:nvPr/>
        </p:nvPicPr>
        <p:blipFill>
          <a:blip r:embed="rId3"/>
          <a:stretch/>
        </p:blipFill>
        <p:spPr>
          <a:xfrm>
            <a:off x="4178160" y="3149640"/>
            <a:ext cx="46231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2:04:25Z</dcterms:created>
  <dc:creator>Metodist</dc:creator>
  <dc:description/>
  <dc:language>en-US</dc:language>
  <cp:lastModifiedBy>Малышка</cp:lastModifiedBy>
  <dcterms:modified xsi:type="dcterms:W3CDTF">2017-02-14T20:06:17Z</dcterms:modified>
  <cp:revision>53</cp:revision>
  <dc:subject/>
  <dc:title>Слайд 1</dc:title>
</cp:coreProperties>
</file>