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A4E-BA1E-4B6C-8FD7-49D5D59C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366-795F-4F2D-9EC9-1B1D70F3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984-8478-44A0-A5FF-285C349F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5EF-071F-4CC6-A6EB-4545887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CDB-230E-4F8A-901C-10DA9497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E11-C5C4-4330-8937-F4DD2A69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0D8-73F7-46B8-BFFC-594B9BD9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6E40-66D2-434C-AAAA-AD95FE75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4DD-14C9-41DE-9855-05545668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39C0-F5A0-40FD-8B9D-96F655EC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66B-B6F2-44AF-B156-93BBD9B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7CF-D7EB-4A96-9626-3666457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563E-8FC6-4579-9E9D-DAFC8B7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29E9-D82C-48A2-AD01-E636F78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B3C-D835-44B6-A630-7B8959E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D340-2E40-468A-AD2F-6CD3F0D0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507-8C97-4961-83D6-28567F9A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0CF-F3DB-43EB-AD6F-E8A62A1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3CD-0C86-4F78-8183-F95A34F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AE1-3F37-445E-958D-8B08A65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4BD-C37E-4F17-BA76-84D7310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343-BCA9-4918-9AA8-5AE5AFD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953-8CD6-49CA-ACA6-816D643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295-C97C-40D6-8D5C-7FB82CA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9E3B-0A27-49AA-BA1B-B447B85EAE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F297-D145-49C7-8172-AB318030A7D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596880"/>
            <a:ext cx="8291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абличная форма написания плана на один день 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ма недели «Осень»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85560" y="5000760"/>
            <a:ext cx="7350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Денисова Татьяна Николаевна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оспитатель подготовительной к школе группы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МДОУ д/с №4 «Солнышко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тр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ОД (непосредственно-образовательная деятельность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гу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ч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черняя прогул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Содержимое 3" descr=""/>
          <p:cNvPicPr/>
          <p:nvPr/>
        </p:nvPicPr>
        <p:blipFill>
          <a:blip r:embed="rId1"/>
          <a:stretch/>
        </p:blipFill>
        <p:spPr>
          <a:xfrm>
            <a:off x="384120" y="785880"/>
            <a:ext cx="83757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9:31:11Z</dcterms:created>
  <dc:creator>Пользователь</dc:creator>
  <dc:description/>
  <dc:language>en-US</dc:language>
  <cp:lastModifiedBy>admin</cp:lastModifiedBy>
  <dcterms:modified xsi:type="dcterms:W3CDTF">2014-08-28T09:30:20Z</dcterms:modified>
  <cp:revision>13</cp:revision>
  <dc:subject/>
  <dc:title>Табличная форма написания плана на один день</dc:title>
</cp:coreProperties>
</file>