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CC8-A6EE-482F-9F95-F9D708D4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D7A-24DA-4CC0-A539-CB93A2A1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918-F338-412F-AE8E-E7ECFCBD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A5A-0796-4174-A341-02286D3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E0E0-F627-4753-9839-F08BE295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F0A8-629A-46C0-B099-DD5AAF62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663-CB2B-4D5C-8562-186EBF2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6D1-47DE-48AE-B4DF-E47A3D7E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C28E-7D6D-4CB8-9624-FA96ADF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73A-2A6D-4AFD-B3EB-2D0CB783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A50-AFB0-41E0-BE71-DBF1720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615-148E-44FB-B2F4-551B9C40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D91-1512-4405-B5A5-403637D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126-E798-4350-BE42-A9E8EC8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1DD-A3F1-4BD0-8BF1-546DE7A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E386-5782-4640-8CED-F50FB897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ABE-E26C-4F79-A325-62F13517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26B-00E0-4F1B-8A52-3665D4A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F27-0901-46F5-B0AB-A0405546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2FD-B088-416D-8C9B-6512C7B2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2E2-AC35-444F-AF40-0A54ED8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065-0240-4320-800B-67D397C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2AE-BB61-4055-BD89-30322B2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EA0-98D5-48FD-80E3-C9CC968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8679-1B7C-4EF1-AB53-2754FF67F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DAB7-867D-4213-A08A-C77F5964B65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596880"/>
            <a:ext cx="8291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абличная форма написания плана на один день 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ма недели «Осень»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85560" y="5000760"/>
            <a:ext cx="7350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енисова Татьяна Николаевна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оспитатель подготовительной к школе группы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МДОУ д/с №4 «Солнышко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тр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ОД (непосредственно-образовательная деятельность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гу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ч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черняя прогу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9:31:11Z</dcterms:created>
  <dc:creator>Пользователь</dc:creator>
  <dc:description/>
  <dc:language>en-US</dc:language>
  <cp:lastModifiedBy>admin</cp:lastModifiedBy>
  <dcterms:modified xsi:type="dcterms:W3CDTF">2014-08-28T09:30:20Z</dcterms:modified>
  <cp:revision>13</cp:revision>
  <dc:subject/>
  <dc:title>Табличная форма написания плана на один день</dc:title>
</cp:coreProperties>
</file>