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71D8D-237B-49AA-ADF4-40554EB57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2d2d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BE3A3-DEAF-44CE-A944-C48EFF126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2d2d2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C4F2F-241C-4607-B287-E164C4F49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2d2d2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3ABD2-3C84-4DC5-82D0-7C4ECD44F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F23A5-9448-4A04-98A5-3D479C6BB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2d2d2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9A224-8167-463C-8C47-E834DDA19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2d2d2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5F073-7737-4102-8CE5-8F1EC01FA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2d2d2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66D12-DBAD-4C70-9043-91B7463CF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2d2d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17BBB-4E43-48D2-9571-62E74219F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99DBD-3D00-4B30-89A0-6E5211E88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2d2d2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D6838-C091-4767-8E51-4D4E4064E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2d2d2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57CB2-CCCF-4441-AE4E-3E09F9A08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2d2d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1D325-354C-4A4A-93A7-21A5D1898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2d2d2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E4303-4EE1-4B3E-8724-68D6AF63E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2d2d2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78CFB-DD66-4626-9D5A-EF9093036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2d2d2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92DD1-206C-4D09-A5C8-1FCC3358D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2d2d2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19FCF-BDBC-4DC4-A445-35A8FC698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2d2d2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A2B8D-83FD-446D-9BCE-72B086C17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2d2d2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73FC6-AF6C-4B49-BE7F-21758265D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2d2d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E5102-6EF6-48A0-AB17-201FF3B78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8CE29-4CD9-432B-A0D5-56907879D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2d2d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26FB5-A7CF-44AA-AB34-473C43E5B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2d2d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EB5F5-2763-4BA3-BAEA-246CA1EC0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2d2d2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0F7C6-CF69-453A-BE1E-BFB893D22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66"/>
            </a:gs>
            <a:gs pos="100000">
              <a:srgbClr val="9e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666666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2d2d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2d2d2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A3F8D-44BC-4F4C-B424-3B3A64B98671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7bbfd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d2d2d2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79c2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66"/>
            </a:gs>
            <a:gs pos="100000">
              <a:srgbClr val="9e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666666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2d2d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2d2d2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7bbfd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d2d2d2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79c2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8B381-79D8-4486-B420-E690C7F0863B}" type="slidenum">
              <a:rPr b="0" lang="ru-RU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4000" y="333360"/>
            <a:ext cx="8002440" cy="1295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2d2d2"/>
                </a:solidFill>
                <a:latin typeface="Arial"/>
              </a:rPr>
              <a:t>Now I want to tell you about the Tower of London. It is a very old building which has a long and cruel history. It was a fortress, a royal palace and later a prison. </a:t>
            </a: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d2d2d2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90000"/>
              </a:solidFill>
              <a:latin typeface="Verdana"/>
            </a:endParaRPr>
          </a:p>
        </p:txBody>
      </p:sp>
      <p:pic>
        <p:nvPicPr>
          <p:cNvPr id="116" name="Picture 5" descr="http://idealdestination.net/wp-content/uploads/2015/07/Tower-of-London-10-Reasons-To-Visit-London.jpg"/>
          <p:cNvPicPr/>
          <p:nvPr/>
        </p:nvPicPr>
        <p:blipFill>
          <a:blip r:embed="rId1"/>
          <a:stretch/>
        </p:blipFill>
        <p:spPr>
          <a:xfrm>
            <a:off x="422280" y="1341360"/>
            <a:ext cx="8721720" cy="654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3T16:34:32Z</dcterms:created>
  <dc:creator>Стерх</dc:creator>
  <dc:description/>
  <dc:language>en-US</dc:language>
  <cp:lastModifiedBy>Сирена Фаритовна</cp:lastModifiedBy>
  <dcterms:modified xsi:type="dcterms:W3CDTF">2016-03-01T10:19:07Z</dcterms:modified>
  <cp:revision>29</cp:revision>
  <dc:subject/>
  <dc:title>10 класс</dc:title>
</cp:coreProperties>
</file>