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5681-5A70-4D25-94A8-0AAE6F9E7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4E73-EE5E-4626-AB66-AF7EE335B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403B-E9BB-4F64-9F62-CC8A34D0E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C4B3-643F-4CE7-B8D9-5178C4190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05C80-BC38-4407-A7EF-81464BAEB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067E3-CA4E-479E-AB6A-14AFFF1D2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969F2-15F1-4DE5-94F3-AF3EE42E9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88769-E642-4DE4-91B3-6CE6C1759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1F6F7-2CF2-4CFC-BDEF-CC6E9E954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2F838-F5C4-494C-8E81-5BC48565C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52F4D-A093-41DE-AE38-85C53D54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2DEB-5565-477C-8569-064EA8470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DB238-3611-4E85-8EA3-687E3CFA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24C80-4FC3-4A89-B5AD-3760A9FC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025FA-DB0F-4A83-8251-1A31E2354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230B4-690E-4A3C-B6F6-79A2ADC4C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F38B6-714D-4D15-A880-84EFBB44B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6EB3-4624-4CD4-907C-A6701A89D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DCC7-DF9C-40CC-B97E-E3F423673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9B96-2048-480E-AEAD-D7A5E1097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FF44-07D5-45CF-9BDB-065DE3067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6E9C-0A79-45CC-8422-618591B8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3738-9AB1-4181-B242-2E3BB5A2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B816-DEEE-498C-87E7-51EF9869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66"/>
            </a:gs>
            <a:gs pos="100000">
              <a:srgbClr val="9e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666666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2d2d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C9232-58FE-469F-9C2E-7A0FAD342A2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7bbfd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2d2d2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79c2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66"/>
            </a:gs>
            <a:gs pos="100000">
              <a:srgbClr val="9e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666666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2d2d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7bbfd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2d2d2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79c2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E3782-2554-4FAA-8FC4-DC06B189B67D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8002440" cy="129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2d2d2"/>
                </a:solidFill>
                <a:latin typeface="Arial"/>
              </a:rPr>
              <a:t>Now I want to tell you about the Tower of London. It is a very old building which has a long and cruel history. It was a fortress, a royal palace and later a prison. 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Verdana"/>
            </a:endParaRPr>
          </a:p>
        </p:txBody>
      </p:sp>
      <p:pic>
        <p:nvPicPr>
          <p:cNvPr id="116" name="Picture 5" descr="http://idealdestination.net/wp-content/uploads/2015/07/Tower-of-London-10-Reasons-To-Visit-London.jpg"/>
          <p:cNvPicPr/>
          <p:nvPr/>
        </p:nvPicPr>
        <p:blipFill>
          <a:blip r:embed="rId1"/>
          <a:stretch/>
        </p:blipFill>
        <p:spPr>
          <a:xfrm>
            <a:off x="422280" y="1341360"/>
            <a:ext cx="8721720" cy="654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16:34:32Z</dcterms:created>
  <dc:creator>Стерх</dc:creator>
  <dc:description/>
  <dc:language>en-US</dc:language>
  <cp:lastModifiedBy>Сирена Фаритовна</cp:lastModifiedBy>
  <dcterms:modified xsi:type="dcterms:W3CDTF">2016-03-01T10:19:07Z</dcterms:modified>
  <cp:revision>29</cp:revision>
  <dc:subject/>
  <dc:title>10 класс</dc:title>
</cp:coreProperties>
</file>