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AFE1C0-6748-4876-9BBD-759DF00E8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7873C3-3692-4208-B429-5AF132E3706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BC10B0-2541-48ED-BEAE-05ED750A64C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99882D-BED9-4554-9F34-D679C9857F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45FADE-CDB0-4338-9B9A-CDD5D6EC8C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C030D5-CF47-494F-BFB4-3496A9E6C4C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2E1DFA-A750-4537-9251-7471817D1B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29B3E-9AD7-4C49-9661-10741554361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0806CE-55C8-4D7B-AA11-7568AD79BD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8D6FA-2B31-413B-8295-D63D6D15A5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D2541A-6EF8-45C7-96E8-8491500CBD2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1D3D37-0CA4-47DC-ADFB-09BE92753CE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9C07E2-3161-4FEA-B634-6073A14B0AB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AF8BAC-F0A1-433B-A232-B8CD5CC5F11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9DD96-2B22-496A-94B0-C3B12ACD880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A570-1A63-4E7F-9B72-5019F0245C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F6F8-D1CB-44F9-B8FF-E8C474A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D630-247A-458D-A210-6700464B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29A1-2949-4D1B-9C04-B0213A78A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6D1C-13DE-4D4C-82E8-2C0BA9B4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62C6-03FC-4C7D-9D0C-EB056415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2DE1-CC9D-4B59-A29A-140E139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2C30-1948-44BB-B592-6C0A4203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8191-1FA4-46D4-A521-6EF74A68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C4F3-A34D-41C1-BFB6-67DDAA8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86D1-9691-46D6-8F73-6AFBA570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5D03-81A1-4C99-A54E-0F3116D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409680">
              <a:lnSpc>
                <a:spcPct val="9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84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1080" indent="-18252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8072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80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80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FD8814-6A05-4930-9C65-45B16BB6E2E1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dmila2362030@gmail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7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СОШ № 24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ралтейского р-на Санкт-Петербурга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0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Я НА ТЕМУ:</a:t>
            </a:r>
            <a:br>
              <a:rPr sz="24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Всенощная»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.Рахманино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000" y="4436640"/>
            <a:ext cx="82278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ель: учитель музы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йжмак Людмил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udmila2362030@gmail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У СОШ № 245 СП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 - 20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32400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с неоглядным раздольем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полей и лесов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199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68360" y="47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с иконостасом, где  запечатлены  лики  и  деяния  святых – лучших  сынов  ее,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71600" y="1700280"/>
            <a:ext cx="45403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40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с  добрым, умным, красивым  народо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7552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395280" y="404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Эта  музыка  объединяет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прошлое  с  настоящи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  с  будущ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67260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Объединяет  и  нас  – в  любви  и  преданности  Земле  сво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039680" y="1600200"/>
            <a:ext cx="70628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39640" y="90792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Озвученный облик Родины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так  можно  определить  художественную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дею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«Всенощной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59280" cy="57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195640" y="2416320"/>
            <a:ext cx="50403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АС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87520" y="836280"/>
            <a:ext cx="8353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аждый человек в глубине д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ш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тянется к чему-то прекрасному и совершенному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что дает смысл жизн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лександр Мен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Нечто высшее, прекрасное, совершенное предстаёт в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«Всенощной»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ергея Васильевича Рахманино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264960" y="5759280"/>
            <a:ext cx="8161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придите поклонимся.wav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396720" y="460440"/>
            <a:ext cx="8242560" cy="1158840"/>
            <a:chOff x="396720" y="460440"/>
            <a:chExt cx="8242560" cy="115884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460440"/>
              <a:ext cx="8242560" cy="11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3"/>
          <p:cNvGrpSpPr/>
          <p:nvPr/>
        </p:nvGrpSpPr>
        <p:grpSpPr>
          <a:xfrm>
            <a:off x="3276720" y="2276640"/>
            <a:ext cx="2460600" cy="2977920"/>
            <a:chOff x="3276720" y="2276640"/>
            <a:chExt cx="2460600" cy="2977920"/>
          </a:xfrm>
        </p:grpSpPr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3276720" y="2276640"/>
              <a:ext cx="2460600" cy="29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3276720" y="2276640"/>
              <a:ext cx="2460600" cy="29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268360" y="2844720"/>
            <a:ext cx="482472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7000"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НОЩНОЕ БД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НОЩ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ослужение,  совершаемое вечером накануне особо чтимых праздничны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евности оно начиналось поздно вечером и продолжалось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ю ноч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до расс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87280" y="5516640"/>
            <a:ext cx="6769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исполнение ВСЕНОЩНОЙ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15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835280" y="692280"/>
            <a:ext cx="5445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https://www.mariinsky.ru/images/cms/data/concerts/chorus.jpg"/>
          <p:cNvPicPr/>
          <p:nvPr/>
        </p:nvPicPr>
        <p:blipFill>
          <a:blip r:embed="rId1"/>
          <a:stretch/>
        </p:blipFill>
        <p:spPr>
          <a:xfrm>
            <a:off x="1332000" y="404640"/>
            <a:ext cx="643572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5084280"/>
            <a:ext cx="747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УЗЫКА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НОЩНО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ПИСАНА ДЛЯ 12-ТИ ГОЛОСНО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ОРА  И ИСПОЛНЯЕТС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APPELL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БЕЗ СОПРОВОЖД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16360" cy="5032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5003640" y="429264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НОЩНАЯ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оздан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для хра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84360" y="189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А  храм  этот, по  словам  известног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дирижера 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В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ЕРНУШЕНКО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Вся  Россия,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 лазурным куполом неба,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fjdf</dc:creator>
  <dc:description/>
  <dc:language>en-US</dc:language>
  <cp:lastModifiedBy>User</cp:lastModifiedBy>
  <dcterms:modified xsi:type="dcterms:W3CDTF">2017-02-14T20:01:59Z</dcterms:modified>
  <cp:revision>21</cp:revision>
  <dc:subject/>
  <dc:title>С.В.Рахманинов(1873-1943)</dc:title>
</cp:coreProperties>
</file>