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64245F-DC11-4527-8996-2040D7281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08027-E049-4538-9144-AF06130A2FB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969D8F-9DF4-43D0-BD31-B4DD091E974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51E0EC-C207-47E2-9D72-0168253D5CD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EE845B-91D4-4300-B946-937EEA2A32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6E3FB9-9CB1-4149-8739-6D9433A9C0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CEF117-2F1C-4638-8E39-D1D809C4C1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C5409-C13A-4132-B620-C8ADFC242A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84774-8F90-40B6-B908-32FACB1507E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7A47C6-AAA9-48BB-B82F-273EF3A79F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C85A52-AD2C-4E90-B347-AAAA0C2D52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CB118-50D5-4FE8-A9B4-FA136401B1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27F742-8DFA-4FCF-B727-FE4E9AEB766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7AD435-E148-474B-8209-A8458B8F26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4F8507-6869-4C61-8603-59FFF1AB9C1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F969-560E-4140-81DF-6B78F0BBC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6619-5A0A-453B-8D8A-8BF758A1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9BE2-6E60-4DB9-A3CD-9352EF4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0E40-D947-42E3-BA80-FD2536646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4608-2C07-4954-9186-6D4CDEF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54ED-CB74-43E3-820D-C356D753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93C3-3FFC-4DD0-9845-218D9CF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0318-5614-477F-B2CF-0018CF19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4945-BC77-412D-A41B-706D1683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BB56-13A1-4DF6-B308-0439A3ED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CDAC-07FE-4BE7-B6CE-742E451A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83C8-AF9F-45CB-9434-F74AE2E1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409680">
              <a:lnSpc>
                <a:spcPct val="9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84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1080" indent="-18252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indent="-18072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 indent="-180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 indent="-180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922143-E20E-4BA0-BC30-C377A37EAD33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dmila2362030@gmail.co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7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СОШ № 24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ралтейского р-на Санкт-Петербурга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0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br>
              <a:rPr sz="24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Всенощная»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.Рахманино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4436640"/>
            <a:ext cx="82278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ель: учитель музы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йжмак Людмил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udmila2362030@gmail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У СОШ № 245 СП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 - 20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32400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неоглядным раздольем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полей и лесо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99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68360" y="47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иконостасом, где  запечатлены  лики  и  деяния  святых – лучших  сынов  ее,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71600" y="1700280"/>
            <a:ext cx="45403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40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с  добрым, умным, красивым  наро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7552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395280" y="404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Эта  музыка  объединяет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прошлое  с  настоящи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  с  будущ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67260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Объединяет  и  нас  – в  любви  и  преданности  Земле  сво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039680" y="1600200"/>
            <a:ext cx="70628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39640" y="90792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Озвученный облик Родины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так  можно  определить  художественную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дею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  <a:ea typeface="Arial"/>
              </a:rPr>
              <a:t>«Всенощной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9280" cy="57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195640" y="2416320"/>
            <a:ext cx="50403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АС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87520" y="836280"/>
            <a:ext cx="8353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аждый человек в глубине д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ш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тянется к чему-то прекрасному и совершенному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что дает смысл жизн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лександр Мен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Нечто высшее, прекрасное, совершенное предстаёт в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«Всенощной»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ергея Васильевича Рахманино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264960" y="5759280"/>
            <a:ext cx="816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придите поклонимся.wav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396720" y="460440"/>
            <a:ext cx="8242560" cy="1158840"/>
            <a:chOff x="396720" y="460440"/>
            <a:chExt cx="8242560" cy="115884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460440"/>
              <a:ext cx="8242560" cy="11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3"/>
          <p:cNvGrpSpPr/>
          <p:nvPr/>
        </p:nvGrpSpPr>
        <p:grpSpPr>
          <a:xfrm>
            <a:off x="3276720" y="2276640"/>
            <a:ext cx="2460600" cy="2977920"/>
            <a:chOff x="3276720" y="2276640"/>
            <a:chExt cx="2460600" cy="2977920"/>
          </a:xfrm>
        </p:grpSpPr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3276720" y="2276640"/>
              <a:ext cx="2460600" cy="29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3276720" y="2276640"/>
              <a:ext cx="2460600" cy="29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68360" y="2844720"/>
            <a:ext cx="482472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7000"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НОЩНОЕ БД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НОЩ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ослужение,  совершаемое вечером накануне особо чтимых праздничны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евности оно начиналось поздно вечером и продолжалось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ю ноч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до рас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87280" y="5516640"/>
            <a:ext cx="6769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исполнение ВСЕНОЩНОЙ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15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835280" y="692280"/>
            <a:ext cx="5445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https://www.mariinsky.ru/images/cms/data/concerts/chorus.jpg"/>
          <p:cNvPicPr/>
          <p:nvPr/>
        </p:nvPicPr>
        <p:blipFill>
          <a:blip r:embed="rId1"/>
          <a:stretch/>
        </p:blipFill>
        <p:spPr>
          <a:xfrm>
            <a:off x="1332000" y="404640"/>
            <a:ext cx="643572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5084280"/>
            <a:ext cx="747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УЗЫКА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НОЩНО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ПИСАНА ДЛЯ 12-ТИ ГОЛОСНО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ОРА  И ИСПОЛНЯЕТС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CAPPELLA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БЕЗ СОПРОВОЖД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5032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5003640" y="4292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НОЩНАЯ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оздан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для хра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84360" y="189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А  храм  этот, по  словам  известног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дирижера 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В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РНУШЕНКО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Вся  Россия,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 лазурным куполом неба,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fjdf</dc:creator>
  <dc:description/>
  <dc:language>en-US</dc:language>
  <cp:lastModifiedBy>User</cp:lastModifiedBy>
  <dcterms:modified xsi:type="dcterms:W3CDTF">2017-02-14T20:01:59Z</dcterms:modified>
  <cp:revision>21</cp:revision>
  <dc:subject/>
  <dc:title>С.В.Рахманинов(1873-1943)</dc:title>
</cp:coreProperties>
</file>