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6.jpeg" ContentType="image/jpeg"/>
  <Override PartName="/ppt/media/image35.wmf" ContentType="image/x-wmf"/>
  <Override PartName="/ppt/media/image15.png" ContentType="image/png"/>
  <Override PartName="/ppt/media/image14.png" ContentType="image/png"/>
  <Override PartName="/ppt/media/image58.gif" ContentType="image/gif"/>
  <Override PartName="/ppt/media/image28.png" ContentType="image/png"/>
  <Override PartName="/ppt/media/image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17.jpeg" ContentType="image/jpeg"/>
  <Override PartName="/ppt/media/image45.wmf" ContentType="image/x-wmf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37.wmf" ContentType="image/x-wmf"/>
  <Override PartName="/ppt/media/image54.png" ContentType="image/png"/>
  <Override PartName="/ppt/media/image44.wmf" ContentType="image/x-wmf"/>
  <Override PartName="/ppt/media/image46.png" ContentType="image/png"/>
  <Override PartName="/ppt/media/image38.wmf" ContentType="image/x-wmf"/>
  <Override PartName="/ppt/media/image55.png" ContentType="image/png"/>
  <Override PartName="/ppt/media/image50.png" ContentType="image/png"/>
  <Override PartName="/ppt/media/image11.png" ContentType="image/png"/>
  <Override PartName="/ppt/media/image48.png" ContentType="image/png"/>
  <Override PartName="/ppt/media/image39.wmf" ContentType="image/x-wmf"/>
  <Override PartName="/ppt/media/image56.png" ContentType="image/png"/>
  <Override PartName="/ppt/media/image51.png" ContentType="image/png"/>
  <Override PartName="/ppt/media/image34.wmf" ContentType="image/x-wmf"/>
  <Override PartName="/ppt/media/image52.png" ContentType="image/png"/>
  <Override PartName="/ppt/media/image53.png" ContentType="image/png"/>
  <Override PartName="/ppt/media/image43.wmf" ContentType="image/x-wmf"/>
  <Override PartName="/ppt/media/image32.jpeg" ContentType="image/jpeg"/>
  <Override PartName="/ppt/media/image31.jpeg" ContentType="image/jpeg"/>
  <Override PartName="/ppt/media/image13.png" ContentType="image/png"/>
  <Override PartName="/ppt/media/image57.gif" ContentType="image/gif"/>
  <Override PartName="/ppt/media/image30.png" ContentType="image/png"/>
  <Override PartName="/ppt/media/image42.wmf" ContentType="image/x-wmf"/>
  <Override PartName="/ppt/media/image9.png" ContentType="image/png"/>
  <Override PartName="/ppt/media/image41.wmf" ContentType="image/x-wmf"/>
  <Override PartName="/ppt/media/image8.png" ContentType="image/png"/>
  <Override PartName="/ppt/media/image49.png" ContentType="image/png"/>
  <Override PartName="/ppt/media/image12.png" ContentType="image/png"/>
  <Override PartName="/ppt/media/image40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0D5A1-F38E-49F2-AFD1-7432FD7089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89208-3B74-489B-875E-96D2AC4936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C740D-7A5C-4830-AEAC-183593157C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820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976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628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820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976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D47E1-FDC3-41C2-8107-F72B2A3992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71040" y="634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DC96A-CD3E-4E66-B3FA-55BEB2A713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2820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0976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628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2820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0976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4D402-7F42-4B4E-826F-10FA8D37C3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53DB3-5489-4AB5-BDE9-4A6D02C998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DDB82-565A-4077-8A62-3714F75BCD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634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421F0-5F69-4105-ACB7-05AB442E78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39121-0F44-413B-9652-6EE656A62E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62E31-5EF0-49B4-BA34-ABD3F64F2C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18AC7-E05D-4E4C-B201-8E4ED0D065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27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893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A293E-EDB7-412C-AA61-4924659A3E8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1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slide" Target="slide2.xml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image" Target="../media/image49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7.gi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8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png"/><Relationship Id="rId9" Type="http://schemas.openxmlformats.org/officeDocument/2006/relationships/image" Target="../media/image34.wmf"/><Relationship Id="rId10" Type="http://schemas.openxmlformats.org/officeDocument/2006/relationships/image" Target="../media/image35.wmf"/><Relationship Id="rId11" Type="http://schemas.openxmlformats.org/officeDocument/2006/relationships/slide" Target="slide2.xml"/><Relationship Id="rId12" Type="http://schemas.openxmlformats.org/officeDocument/2006/relationships/image" Target="../media/image36.png"/><Relationship Id="rId13" Type="http://schemas.openxmlformats.org/officeDocument/2006/relationships/image" Target="../media/image37.wmf"/><Relationship Id="rId1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" Target="slide2.xml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" Target="slide2.xml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slide" Target="slide2.xml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5320" y="4777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9080" y="114300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14840" y="1143000"/>
            <a:ext cx="42840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14840" y="428760"/>
            <a:ext cx="42840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24480" y="785880"/>
            <a:ext cx="42840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71920" y="785880"/>
            <a:ext cx="42876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71960" y="12859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71960" y="3571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708360" y="476280"/>
            <a:ext cx="1187640" cy="1015920"/>
            <a:chOff x="3708360" y="476280"/>
            <a:chExt cx="1187640" cy="101592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3708360" y="476280"/>
              <a:ext cx="118764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011480" y="743040"/>
              <a:ext cx="54792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А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690560" y="835200"/>
            <a:ext cx="428760" cy="4284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14680" y="1500120"/>
            <a:ext cx="42840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00080" y="150012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00080" y="785880"/>
            <a:ext cx="428760" cy="4284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85960" y="114300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57160" y="114300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57200" y="164304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57200" y="64296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006560" y="817560"/>
            <a:ext cx="1138320" cy="1009800"/>
            <a:chOff x="1006560" y="817560"/>
            <a:chExt cx="1138320" cy="100980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006560" y="817560"/>
              <a:ext cx="1138320" cy="10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282680" y="1081080"/>
              <a:ext cx="54756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Р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8405640" y="140652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429760" y="2071800"/>
            <a:ext cx="42840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15160" y="207180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715160" y="135720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501040" y="171468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72240" y="171468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072280" y="221472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072280" y="121428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589880" y="1420920"/>
            <a:ext cx="1351080" cy="1015920"/>
            <a:chOff x="7589880" y="1420920"/>
            <a:chExt cx="1351080" cy="1015920"/>
          </a:xfrm>
        </p:grpSpPr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7589880" y="1420920"/>
              <a:ext cx="135108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7974000" y="1685880"/>
              <a:ext cx="5475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Ю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 rot="2580000">
            <a:off x="6347880" y="1188720"/>
            <a:ext cx="169920" cy="46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57960" y="1357200"/>
            <a:ext cx="46080" cy="2476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9920000">
            <a:off x="6690960" y="1206360"/>
            <a:ext cx="46080" cy="3304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rot="19200000">
            <a:off x="5409360" y="1699920"/>
            <a:ext cx="455760" cy="871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rot="2340000">
            <a:off x="5320080" y="1399680"/>
            <a:ext cx="454320" cy="615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86280" y="157176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178596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15000" y="128592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86240" y="157176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2580000">
            <a:off x="2965320" y="477720"/>
            <a:ext cx="169920" cy="44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75040" y="646200"/>
            <a:ext cx="46080" cy="24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9920000">
            <a:off x="3309840" y="493200"/>
            <a:ext cx="44640" cy="331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580000">
            <a:off x="213840" y="1758600"/>
            <a:ext cx="169920" cy="442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3920" y="1927080"/>
            <a:ext cx="46080" cy="2462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9920000">
            <a:off x="558720" y="1774440"/>
            <a:ext cx="44640" cy="3319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2580000">
            <a:off x="8678880" y="1330200"/>
            <a:ext cx="169920" cy="44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929800" y="1071720"/>
            <a:ext cx="46080" cy="24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9920000">
            <a:off x="9021240" y="1345680"/>
            <a:ext cx="46080" cy="331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580000">
            <a:off x="3000240" y="1830240"/>
            <a:ext cx="169920" cy="44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09960" y="1998720"/>
            <a:ext cx="46080" cy="245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9920000">
            <a:off x="3344760" y="1844280"/>
            <a:ext cx="44640" cy="331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rot="19200000">
            <a:off x="7985880" y="866520"/>
            <a:ext cx="455760" cy="87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rot="2340000">
            <a:off x="7896600" y="566280"/>
            <a:ext cx="454320" cy="615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64600" y="73836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92960" y="952560"/>
            <a:ext cx="7164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92960" y="452520"/>
            <a:ext cx="7164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864560" y="73836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rot="19200000">
            <a:off x="123480" y="651960"/>
            <a:ext cx="455760" cy="87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rot="2340000">
            <a:off x="34560" y="35208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0040" y="523800"/>
            <a:ext cx="285840" cy="716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8760" y="738360"/>
            <a:ext cx="71280" cy="285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8760" y="23796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23800"/>
            <a:ext cx="285840" cy="716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rot="19200000">
            <a:off x="2487240" y="1580760"/>
            <a:ext cx="455760" cy="87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rot="2340000">
            <a:off x="2398320" y="128088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63800" y="1452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92520" y="166680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92520" y="116676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63760" y="1452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rot="19200000">
            <a:off x="4987440" y="698040"/>
            <a:ext cx="455760" cy="8748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rot="3780000">
            <a:off x="4964760" y="380160"/>
            <a:ext cx="453960" cy="6336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64000" y="569880"/>
            <a:ext cx="285840" cy="716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92720" y="784080"/>
            <a:ext cx="71280" cy="2858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92720" y="284040"/>
            <a:ext cx="71280" cy="2858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380000">
            <a:off x="4939920" y="552600"/>
            <a:ext cx="285840" cy="7128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20040" y="47772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43800" y="114300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29200" y="1143000"/>
            <a:ext cx="42876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29200" y="42876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715080" y="78588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86280" y="78588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86680" y="128592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286680" y="285840"/>
            <a:ext cx="42840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810400" y="493560"/>
            <a:ext cx="1344600" cy="1009800"/>
            <a:chOff x="5810400" y="493560"/>
            <a:chExt cx="1344600" cy="1009800"/>
          </a:xfrm>
        </p:grpSpPr>
        <p:pic>
          <p:nvPicPr>
            <p:cNvPr id="167" name="" descr=""/>
            <p:cNvPicPr/>
            <p:nvPr/>
          </p:nvPicPr>
          <p:blipFill>
            <a:blip r:embed="rId4"/>
            <a:stretch/>
          </p:blipFill>
          <p:spPr>
            <a:xfrm>
              <a:off x="5810400" y="493560"/>
              <a:ext cx="1344600" cy="10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6186600" y="757080"/>
              <a:ext cx="5475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Ш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7143840" y="1500120"/>
            <a:ext cx="46080" cy="2476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3400" y="219240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57160" y="285768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2920" y="285768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2920" y="214308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28800" y="2500200"/>
            <a:ext cx="42840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50020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0040" y="300024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0040" y="200016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6600" y="2206800"/>
            <a:ext cx="1254240" cy="1015920"/>
            <a:chOff x="66600" y="2206800"/>
            <a:chExt cx="1254240" cy="1015920"/>
          </a:xfrm>
        </p:grpSpPr>
        <p:pic>
          <p:nvPicPr>
            <p:cNvPr id="179" name="" descr=""/>
            <p:cNvPicPr/>
            <p:nvPr/>
          </p:nvPicPr>
          <p:blipFill>
            <a:blip r:embed="rId5"/>
            <a:stretch/>
          </p:blipFill>
          <p:spPr>
            <a:xfrm>
              <a:off x="66600" y="2206800"/>
              <a:ext cx="125424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399960" y="2471760"/>
              <a:ext cx="5479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Ф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116000" y="2141640"/>
            <a:ext cx="46080" cy="2458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rot="19200000">
            <a:off x="1485000" y="2509920"/>
            <a:ext cx="455400" cy="874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rot="2340000">
            <a:off x="1398960" y="2209320"/>
            <a:ext cx="454320" cy="615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63720" y="238140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92440" y="259560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92440" y="209556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63680" y="238140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rot="19200000">
            <a:off x="7059240" y="2580840"/>
            <a:ext cx="455760" cy="874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 rot="2340000">
            <a:off x="6970320" y="2280960"/>
            <a:ext cx="453960" cy="619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435800" y="2452680"/>
            <a:ext cx="28584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364520" y="266688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64520" y="216684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35760" y="2452680"/>
            <a:ext cx="28584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8300000">
            <a:off x="5200200" y="2394000"/>
            <a:ext cx="16992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5720000">
            <a:off x="5217120" y="2561400"/>
            <a:ext cx="46080" cy="247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4040000">
            <a:off x="5549400" y="2398680"/>
            <a:ext cx="46080" cy="331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rot="13320000">
            <a:off x="4696200" y="2134800"/>
            <a:ext cx="455760" cy="87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rot="18060000">
            <a:off x="4615560" y="1821960"/>
            <a:ext cx="453960" cy="615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5720000">
            <a:off x="5080320" y="199944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5720000">
            <a:off x="5001120" y="2221200"/>
            <a:ext cx="7164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15720000">
            <a:off x="5001480" y="172116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5720000">
            <a:off x="4580280" y="199944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rot="2160000">
            <a:off x="1870200" y="712440"/>
            <a:ext cx="455400" cy="874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rot="6900000">
            <a:off x="2109240" y="552600"/>
            <a:ext cx="453960" cy="619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4500000">
            <a:off x="2593080" y="710280"/>
            <a:ext cx="28548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71760" y="67140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4500000">
            <a:off x="2507040" y="432720"/>
            <a:ext cx="71640" cy="2854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4500000">
            <a:off x="2093040" y="710280"/>
            <a:ext cx="28548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484360" y="404640"/>
            <a:ext cx="534960" cy="546120"/>
            <a:chOff x="2484360" y="404640"/>
            <a:chExt cx="534960" cy="546120"/>
          </a:xfrm>
        </p:grpSpPr>
        <p:pic>
          <p:nvPicPr>
            <p:cNvPr id="210" name="" descr=""/>
            <p:cNvPicPr/>
            <p:nvPr/>
          </p:nvPicPr>
          <p:blipFill>
            <a:blip r:embed="rId6"/>
            <a:stretch/>
          </p:blipFill>
          <p:spPr>
            <a:xfrm>
              <a:off x="2484360" y="404640"/>
              <a:ext cx="534960" cy="5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2608200" y="506520"/>
              <a:ext cx="29376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076720" y="1197000"/>
            <a:ext cx="533520" cy="541440"/>
            <a:chOff x="5076720" y="1197000"/>
            <a:chExt cx="533520" cy="541440"/>
          </a:xfrm>
        </p:grpSpPr>
        <p:pic>
          <p:nvPicPr>
            <p:cNvPr id="213" name="" descr=""/>
            <p:cNvPicPr/>
            <p:nvPr/>
          </p:nvPicPr>
          <p:blipFill>
            <a:blip r:embed="rId7"/>
            <a:stretch/>
          </p:blipFill>
          <p:spPr>
            <a:xfrm>
              <a:off x="5076720" y="1197000"/>
              <a:ext cx="53352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99120" y="1297080"/>
              <a:ext cx="29376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52280" y="1249200"/>
            <a:ext cx="534960" cy="541440"/>
            <a:chOff x="152280" y="1249200"/>
            <a:chExt cx="534960" cy="541440"/>
          </a:xfrm>
        </p:grpSpPr>
        <p:pic>
          <p:nvPicPr>
            <p:cNvPr id="216" name="" descr=""/>
            <p:cNvPicPr/>
            <p:nvPr/>
          </p:nvPicPr>
          <p:blipFill>
            <a:blip r:embed="rId8"/>
            <a:stretch/>
          </p:blipFill>
          <p:spPr>
            <a:xfrm>
              <a:off x="152280" y="1249200"/>
              <a:ext cx="53496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277920" y="1349280"/>
              <a:ext cx="29376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510760" y="390600"/>
            <a:ext cx="539640" cy="546120"/>
            <a:chOff x="8510760" y="390600"/>
            <a:chExt cx="539640" cy="546120"/>
          </a:xfrm>
        </p:grpSpPr>
        <p:pic>
          <p:nvPicPr>
            <p:cNvPr id="219" name="" descr=""/>
            <p:cNvPicPr/>
            <p:nvPr/>
          </p:nvPicPr>
          <p:blipFill>
            <a:blip r:embed="rId9"/>
            <a:stretch/>
          </p:blipFill>
          <p:spPr>
            <a:xfrm>
              <a:off x="8510760" y="390600"/>
              <a:ext cx="539640" cy="5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8636040" y="492120"/>
              <a:ext cx="29376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7156440" y="1036800"/>
            <a:ext cx="534960" cy="539640"/>
            <a:chOff x="7156440" y="1036800"/>
            <a:chExt cx="534960" cy="539640"/>
          </a:xfrm>
        </p:grpSpPr>
        <p:pic>
          <p:nvPicPr>
            <p:cNvPr id="222" name="" descr=""/>
            <p:cNvPicPr/>
            <p:nvPr/>
          </p:nvPicPr>
          <p:blipFill>
            <a:blip r:embed="rId10"/>
            <a:stretch/>
          </p:blipFill>
          <p:spPr>
            <a:xfrm>
              <a:off x="7156440" y="1036800"/>
              <a:ext cx="534960" cy="5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7278840" y="1135080"/>
              <a:ext cx="29340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3651120" y="1749600"/>
            <a:ext cx="541440" cy="541080"/>
            <a:chOff x="3651120" y="1749600"/>
            <a:chExt cx="541440" cy="541080"/>
          </a:xfrm>
        </p:grpSpPr>
        <p:pic>
          <p:nvPicPr>
            <p:cNvPr id="225" name="" descr=""/>
            <p:cNvPicPr/>
            <p:nvPr/>
          </p:nvPicPr>
          <p:blipFill>
            <a:blip r:embed="rId11"/>
            <a:stretch/>
          </p:blipFill>
          <p:spPr>
            <a:xfrm>
              <a:off x="3651120" y="1749600"/>
              <a:ext cx="541440" cy="54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3778200" y="1849320"/>
              <a:ext cx="29376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 rot="2160000">
            <a:off x="4646160" y="1991880"/>
            <a:ext cx="357120" cy="3571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7460000">
            <a:off x="6563880" y="1937880"/>
            <a:ext cx="357120" cy="357120"/>
          </a:xfrm>
          <a:prstGeom prst="rect">
            <a:avLst/>
          </a:prstGeom>
          <a:solidFill>
            <a:srgbClr val="ac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800000">
            <a:off x="3215880" y="1350720"/>
            <a:ext cx="357120" cy="357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260000">
            <a:off x="936720" y="350640"/>
            <a:ext cx="357120" cy="357120"/>
          </a:xfrm>
          <a:prstGeom prst="rect">
            <a:avLst/>
          </a:prstGeom>
          <a:solidFill>
            <a:srgbClr val="ac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9620000">
            <a:off x="3063960" y="2072880"/>
            <a:ext cx="357120" cy="357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476360" y="2060640"/>
            <a:ext cx="6696000" cy="194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Звук и буква С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2"/>
          <a:stretch/>
        </p:blipFill>
        <p:spPr>
          <a:xfrm>
            <a:off x="7074000" y="3716280"/>
            <a:ext cx="2070000" cy="29656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3"/>
          <a:stretch/>
        </p:blipFill>
        <p:spPr>
          <a:xfrm>
            <a:off x="0" y="3429000"/>
            <a:ext cx="205092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57200" y="620640"/>
            <a:ext cx="4038480" cy="55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5160" algn="ctr"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Arial"/>
                <a:ea typeface="Arial Unicode MS"/>
              </a:rPr>
              <a:t>мокр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648320" y="620640"/>
            <a:ext cx="4038480" cy="55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5160" algn="ctr"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Arial"/>
                <a:ea typeface="Arial Unicode MS"/>
              </a:rPr>
              <a:t>сух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4032360" cy="37623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5940360" y="1700280"/>
            <a:ext cx="2097000" cy="3887640"/>
          </a:xfrm>
          <a:prstGeom prst="rect">
            <a:avLst/>
          </a:prstGeom>
          <a:ln w="0">
            <a:noFill/>
          </a:ln>
        </p:spPr>
      </p:pic>
      <p:sp>
        <p:nvSpPr>
          <p:cNvPr id="318" name="">
            <a:hlinkClick r:id="rId3" action="ppaction://hlinksldjump"/>
          </p:cNvPr>
          <p:cNvSpPr/>
          <p:nvPr/>
        </p:nvSpPr>
        <p:spPr>
          <a:xfrm>
            <a:off x="8317080" y="6021360"/>
            <a:ext cx="539640" cy="61128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611280"/>
              <a:gd name="textAreaBottom" fmla="*/ 576360 h 611280"/>
            </a:gdLst>
            <a:ahLst/>
            <a:rect l="textAreaLeft" t="textAreaTop" r="textAreaRight" b="textAreaBottom"/>
            <a:pathLst>
              <a:path w="21600" h="24466">
                <a:moveTo>
                  <a:pt x="0" y="0"/>
                </a:moveTo>
                <a:lnTo>
                  <a:pt x="21600" y="0"/>
                </a:lnTo>
                <a:lnTo>
                  <a:pt x="21600" y="24466"/>
                </a:lnTo>
                <a:lnTo>
                  <a:pt x="0" y="24466"/>
                </a:lnTo>
                <a:close/>
              </a:path>
              <a:path fill="lightenLess" w="21600" h="244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66">
                <a:moveTo>
                  <a:pt x="21600" y="0"/>
                </a:moveTo>
                <a:lnTo>
                  <a:pt x="21600" y="24466"/>
                </a:lnTo>
                <a:lnTo>
                  <a:pt x="20200" y="23066"/>
                </a:lnTo>
                <a:lnTo>
                  <a:pt x="20200" y="1400"/>
                </a:lnTo>
                <a:close/>
              </a:path>
              <a:path fill="darkenLess" w="21600" h="24466">
                <a:moveTo>
                  <a:pt x="21600" y="24466"/>
                </a:moveTo>
                <a:lnTo>
                  <a:pt x="0" y="24466"/>
                </a:lnTo>
                <a:lnTo>
                  <a:pt x="1400" y="23066"/>
                </a:lnTo>
                <a:lnTo>
                  <a:pt x="20200" y="23066"/>
                </a:lnTo>
                <a:close/>
              </a:path>
              <a:path fill="lighten" w="21600" h="24466">
                <a:moveTo>
                  <a:pt x="0" y="244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66"/>
                </a:lnTo>
                <a:close/>
              </a:path>
              <a:path fill="darken" w="21600" h="24466">
                <a:moveTo>
                  <a:pt x="10800" y="5270"/>
                </a:moveTo>
                <a:lnTo>
                  <a:pt x="13376" y="7881"/>
                </a:lnTo>
                <a:lnTo>
                  <a:pt x="13376" y="6140"/>
                </a:lnTo>
                <a:lnTo>
                  <a:pt x="15152" y="6140"/>
                </a:lnTo>
                <a:lnTo>
                  <a:pt x="15152" y="9657"/>
                </a:lnTo>
                <a:lnTo>
                  <a:pt x="17763" y="12233"/>
                </a:lnTo>
                <a:lnTo>
                  <a:pt x="16109" y="12233"/>
                </a:lnTo>
                <a:lnTo>
                  <a:pt x="16109" y="19422"/>
                </a:lnTo>
                <a:lnTo>
                  <a:pt x="5491" y="19422"/>
                </a:lnTo>
                <a:lnTo>
                  <a:pt x="5491" y="12233"/>
                </a:lnTo>
                <a:lnTo>
                  <a:pt x="3837" y="12233"/>
                </a:lnTo>
                <a:close/>
              </a:path>
              <a:path fill="darkenLess" w="21600" h="24466">
                <a:moveTo>
                  <a:pt x="13376" y="7881"/>
                </a:moveTo>
                <a:lnTo>
                  <a:pt x="13376" y="6140"/>
                </a:lnTo>
                <a:lnTo>
                  <a:pt x="15152" y="6140"/>
                </a:lnTo>
                <a:lnTo>
                  <a:pt x="15152" y="9657"/>
                </a:lnTo>
                <a:close/>
              </a:path>
              <a:path fill="darkenLess" w="21600" h="24466">
                <a:moveTo>
                  <a:pt x="9877" y="15732"/>
                </a:moveTo>
                <a:lnTo>
                  <a:pt x="11723" y="15732"/>
                </a:lnTo>
                <a:lnTo>
                  <a:pt x="11723" y="19422"/>
                </a:lnTo>
                <a:lnTo>
                  <a:pt x="16109" y="19422"/>
                </a:lnTo>
                <a:lnTo>
                  <a:pt x="16109" y="12233"/>
                </a:lnTo>
                <a:lnTo>
                  <a:pt x="5491" y="12233"/>
                </a:lnTo>
                <a:lnTo>
                  <a:pt x="5491" y="19422"/>
                </a:lnTo>
                <a:lnTo>
                  <a:pt x="9877" y="1942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142920" y="242892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6500880" y="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6643800" y="2857680"/>
            <a:ext cx="2500200" cy="25002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4"/>
          <a:stretch/>
        </p:blipFill>
        <p:spPr>
          <a:xfrm>
            <a:off x="4286160" y="1571760"/>
            <a:ext cx="2571840" cy="25714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5"/>
          <a:stretch/>
        </p:blipFill>
        <p:spPr>
          <a:xfrm>
            <a:off x="4357800" y="4000680"/>
            <a:ext cx="2571480" cy="25714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1763640" y="404640"/>
            <a:ext cx="4753080" cy="698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Один-много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wheel spokes="2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428760" y="2286000"/>
            <a:ext cx="2928960" cy="285768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5786280" y="35712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5643720" y="364320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dur="indefinite" fill="hold">
                      <p:stCondLst>
                        <p:cond delay="indefinite"/>
                      </p:stCondLst>
                      <p:childTnLst>
                        <p:par>
                          <p:cTn id="1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929200" y="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3929040" y="107172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6286680" y="335772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4000680" y="400068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5"/>
          <a:stretch/>
        </p:blipFill>
        <p:spPr>
          <a:xfrm>
            <a:off x="357120" y="2000160"/>
            <a:ext cx="292896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dur="indefinite" fill="hold">
                      <p:stCondLst>
                        <p:cond delay="indefinite"/>
                      </p:stCondLst>
                      <p:childTnLst>
                        <p:par>
                          <p:cTn id="2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6072120" y="28584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3571920" y="92880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6072120" y="314316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4"/>
          <a:stretch/>
        </p:blipFill>
        <p:spPr>
          <a:xfrm>
            <a:off x="3643200" y="400068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5"/>
          <a:stretch/>
        </p:blipFill>
        <p:spPr>
          <a:xfrm>
            <a:off x="214200" y="2000160"/>
            <a:ext cx="271476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dur="indefinite" fill="hold">
                      <p:stCondLst>
                        <p:cond delay="indefinite"/>
                      </p:stCondLst>
                      <p:childTnLst>
                        <p:par>
                          <p:cTn id="2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332000" y="189000"/>
            <a:ext cx="6286320" cy="62863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5962680" y="6267600"/>
            <a:ext cx="3303720" cy="9252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755640" y="0"/>
            <a:ext cx="7488360" cy="836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Ответь полным предложением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1500120" y="500040"/>
            <a:ext cx="5786640" cy="578664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4565520" y="6267600"/>
            <a:ext cx="4694400" cy="925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2340000" y="836640"/>
            <a:ext cx="4103640" cy="439272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4067280" y="5734080"/>
            <a:ext cx="406692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 чем сидит сова?</a:t>
            </a:r>
            <a:endParaRPr b="0" lang="en-US" sz="18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2771640" y="2492280"/>
            <a:ext cx="3168720" cy="316872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1619280" y="620640"/>
            <a:ext cx="5977080" cy="1728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МОЛОДЦЫ!!!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5160"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Arial Unicode MS"/>
              </a:rPr>
              <a:t>С кем Мороз играет в прятк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Arial Unicode MS"/>
              </a:rPr>
              <a:t>В белой шубке, в белой шапк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Arial Unicode MS"/>
              </a:rPr>
              <a:t>Знают все его дочурк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Arial Unicode MS"/>
              </a:rPr>
              <a:t>И зовут ее … «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  <a:ea typeface="Arial Unicode MS"/>
              </a:rPr>
              <a:t>Снегурочка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Arial Unicode MS"/>
              </a:rPr>
              <a:t>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8360" y="2238480"/>
            <a:ext cx="2067120" cy="2873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419640" y="1557360"/>
            <a:ext cx="2193840" cy="2879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cap="rnd" w="6336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635800" y="3500280"/>
            <a:ext cx="3190680" cy="273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cap="rnd" w="6336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17520" y="3429000"/>
            <a:ext cx="3190680" cy="27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cap="rnd" w="6336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74960" y="5086440"/>
            <a:ext cx="1662120" cy="1439640"/>
          </a:xfrm>
          <a:custGeom>
            <a:avLst/>
            <a:gdLst>
              <a:gd name="textAreaLeft" fmla="*/ 379440 w 1662120"/>
              <a:gd name="textAreaRight" fmla="*/ 1282680 w 166212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7040" y="5589720"/>
            <a:ext cx="531720" cy="503280"/>
          </a:xfrm>
          <a:custGeom>
            <a:avLst/>
            <a:gdLst>
              <a:gd name="textAreaLeft" fmla="*/ 121320 w 531720"/>
              <a:gd name="textAreaRight" fmla="*/ 410400 w 53172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443640" y="1484280"/>
            <a:ext cx="1662120" cy="1440000"/>
          </a:xfrm>
          <a:custGeom>
            <a:avLst/>
            <a:gdLst>
              <a:gd name="textAreaLeft" fmla="*/ 379440 w 1662120"/>
              <a:gd name="textAreaRight" fmla="*/ 1282680 w 166212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964200" y="1989000"/>
            <a:ext cx="532080" cy="503280"/>
          </a:xfrm>
          <a:custGeom>
            <a:avLst/>
            <a:gdLst>
              <a:gd name="textAreaLeft" fmla="*/ 121320 w 532080"/>
              <a:gd name="textAreaRight" fmla="*/ 410760 w 53208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00000" y="1413000"/>
            <a:ext cx="1662120" cy="1439640"/>
          </a:xfrm>
          <a:custGeom>
            <a:avLst/>
            <a:gdLst>
              <a:gd name="textAreaLeft" fmla="*/ 379440 w 1662120"/>
              <a:gd name="textAreaRight" fmla="*/ 1282680 w 166212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47920" y="1916280"/>
            <a:ext cx="531720" cy="502920"/>
          </a:xfrm>
          <a:custGeom>
            <a:avLst/>
            <a:gdLst>
              <a:gd name="textAreaLeft" fmla="*/ 121320 w 531720"/>
              <a:gd name="textAreaRight" fmla="*/ 410400 w 531720"/>
              <a:gd name="textAreaTop" fmla="*/ 114840 h 502920"/>
              <a:gd name="textAreaBottom" fmla="*/ 388080 h 50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0" y="1197000"/>
            <a:ext cx="1662120" cy="1440000"/>
          </a:xfrm>
          <a:custGeom>
            <a:avLst/>
            <a:gdLst>
              <a:gd name="textAreaLeft" fmla="*/ 379440 w 1662120"/>
              <a:gd name="textAreaRight" fmla="*/ 1282680 w 166212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481880" y="981000"/>
            <a:ext cx="1662120" cy="1440000"/>
          </a:xfrm>
          <a:custGeom>
            <a:avLst/>
            <a:gdLst>
              <a:gd name="textAreaLeft" fmla="*/ 379440 w 1662120"/>
              <a:gd name="textAreaRight" fmla="*/ 1282680 w 166212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388360" y="5877000"/>
            <a:ext cx="531720" cy="503280"/>
          </a:xfrm>
          <a:custGeom>
            <a:avLst/>
            <a:gdLst>
              <a:gd name="textAreaLeft" fmla="*/ 121320 w 531720"/>
              <a:gd name="textAreaRight" fmla="*/ 410400 w 53172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5418000"/>
            <a:ext cx="1662120" cy="1440000"/>
          </a:xfrm>
          <a:custGeom>
            <a:avLst/>
            <a:gdLst>
              <a:gd name="textAreaLeft" fmla="*/ 379440 w 1662120"/>
              <a:gd name="textAreaRight" fmla="*/ 1282680 w 166212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480000">
            <a:off x="545760" y="1620360"/>
            <a:ext cx="531720" cy="503280"/>
          </a:xfrm>
          <a:custGeom>
            <a:avLst/>
            <a:gdLst>
              <a:gd name="textAreaLeft" fmla="*/ 121320 w 531720"/>
              <a:gd name="textAreaRight" fmla="*/ 410400 w 53172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01080" y="1413000"/>
            <a:ext cx="531720" cy="503280"/>
          </a:xfrm>
          <a:custGeom>
            <a:avLst/>
            <a:gdLst>
              <a:gd name="textAreaLeft" fmla="*/ 121320 w 531720"/>
              <a:gd name="textAreaRight" fmla="*/ 410400 w 53172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9640" y="5877000"/>
            <a:ext cx="532080" cy="503280"/>
          </a:xfrm>
          <a:custGeom>
            <a:avLst/>
            <a:gdLst>
              <a:gd name="textAreaLeft" fmla="*/ 121320 w 532080"/>
              <a:gd name="textAreaRight" fmla="*/ 410760 w 53208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028000" y="5877000"/>
            <a:ext cx="531720" cy="503280"/>
          </a:xfrm>
          <a:custGeom>
            <a:avLst/>
            <a:gdLst>
              <a:gd name="textAreaLeft" fmla="*/ 121320 w 531720"/>
              <a:gd name="textAreaRight" fmla="*/ 410400 w 53172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81880" y="5418000"/>
            <a:ext cx="1662120" cy="1440000"/>
          </a:xfrm>
          <a:custGeom>
            <a:avLst/>
            <a:gdLst>
              <a:gd name="textAreaLeft" fmla="*/ 379440 w 1662120"/>
              <a:gd name="textAreaRight" fmla="*/ 1282680 w 166212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028000" y="5877000"/>
            <a:ext cx="531720" cy="503280"/>
          </a:xfrm>
          <a:custGeom>
            <a:avLst/>
            <a:gdLst>
              <a:gd name="textAreaLeft" fmla="*/ 121320 w 531720"/>
              <a:gd name="textAreaRight" fmla="*/ 410400 w 53172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68360" y="0"/>
            <a:ext cx="8280360" cy="1341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акой звук повторяется в этих словах?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wheel spokes="2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0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0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dur="indefinite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dur="indefinite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dur="indefinite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89" dur="indefinite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dur="indefinite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" dur="indefinite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1151280" cy="15130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2484360" y="1557360"/>
            <a:ext cx="1798560" cy="15397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6877080" y="1700280"/>
            <a:ext cx="1373040" cy="15127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4788000" y="1628640"/>
            <a:ext cx="1728720" cy="1467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2340000" y="260280"/>
            <a:ext cx="4537080" cy="698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Что лишнее?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1584000" cy="8985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2916360" y="2205000"/>
            <a:ext cx="1584360" cy="8175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6804000" y="2205000"/>
            <a:ext cx="1779480" cy="8780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4643280" y="2060640"/>
            <a:ext cx="2087640" cy="1150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0"/>
            <a:ext cx="892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йди недостающую фигур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979640" y="549360"/>
          <a:ext cx="5189040" cy="4608000"/>
        </p:xfrm>
        <a:graphic>
          <a:graphicData uri="http://schemas.openxmlformats.org/drawingml/2006/table">
            <a:tbl>
              <a:tblPr/>
              <a:tblGrid>
                <a:gridCol w="1729080"/>
                <a:gridCol w="1730880"/>
                <a:gridCol w="1729080"/>
              </a:tblGrid>
              <a:tr h="1576800">
                <a:tc>
                  <a:txBody>
                    <a:bodyPr lIns="90000" rIns="90000" tIns="37116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7116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7116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6320">
                <a:tc>
                  <a:txBody>
                    <a:bodyPr lIns="90000" rIns="90000" tIns="37116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7116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7116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4880">
                <a:tc>
                  <a:txBody>
                    <a:bodyPr lIns="90000" rIns="90000" tIns="37116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7116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7116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3995640" y="692280"/>
            <a:ext cx="1235160" cy="12967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5580000" y="692280"/>
            <a:ext cx="1278000" cy="13683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rcRect l="4628" t="5641" r="4628" b="9402"/>
          <a:stretch/>
        </p:blipFill>
        <p:spPr>
          <a:xfrm>
            <a:off x="3995640" y="5300640"/>
            <a:ext cx="1389240" cy="13143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rcRect l="0" t="10161" r="0" b="20321"/>
          <a:stretch/>
        </p:blipFill>
        <p:spPr>
          <a:xfrm>
            <a:off x="6084720" y="5445000"/>
            <a:ext cx="1584360" cy="11638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5"/>
          <a:srcRect l="10850" t="15684" r="10850" b="25094"/>
          <a:stretch/>
        </p:blipFill>
        <p:spPr>
          <a:xfrm>
            <a:off x="539640" y="5445000"/>
            <a:ext cx="1295640" cy="1214640"/>
          </a:xfrm>
          <a:prstGeom prst="rect">
            <a:avLst/>
          </a:prstGeom>
          <a:ln w="0">
            <a:noFill/>
          </a:ln>
        </p:spPr>
      </p:pic>
      <p:grpSp>
        <p:nvGrpSpPr>
          <p:cNvPr id="280" name=""/>
          <p:cNvGrpSpPr/>
          <p:nvPr/>
        </p:nvGrpSpPr>
        <p:grpSpPr>
          <a:xfrm>
            <a:off x="5508720" y="2060640"/>
            <a:ext cx="1503360" cy="1576440"/>
            <a:chOff x="5508720" y="2060640"/>
            <a:chExt cx="1503360" cy="1576440"/>
          </a:xfrm>
        </p:grpSpPr>
        <p:pic>
          <p:nvPicPr>
            <p:cNvPr id="281" name="" descr=""/>
            <p:cNvPicPr/>
            <p:nvPr/>
          </p:nvPicPr>
          <p:blipFill>
            <a:blip r:embed="rId6"/>
            <a:stretch/>
          </p:blipFill>
          <p:spPr>
            <a:xfrm>
              <a:off x="5580000" y="2276640"/>
              <a:ext cx="1432080" cy="12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5508720" y="2060640"/>
              <a:ext cx="1431720" cy="15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2050920" y="2060640"/>
            <a:ext cx="1505160" cy="1504800"/>
            <a:chOff x="2050920" y="2060640"/>
            <a:chExt cx="1505160" cy="1504800"/>
          </a:xfrm>
        </p:grpSpPr>
        <p:pic>
          <p:nvPicPr>
            <p:cNvPr id="284" name="" descr=""/>
            <p:cNvPicPr/>
            <p:nvPr/>
          </p:nvPicPr>
          <p:blipFill>
            <a:blip r:embed="rId7"/>
            <a:stretch/>
          </p:blipFill>
          <p:spPr>
            <a:xfrm>
              <a:off x="2201760" y="2198520"/>
              <a:ext cx="135252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2050920" y="2060640"/>
              <a:ext cx="150516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2124000" y="3645000"/>
            <a:ext cx="1360440" cy="1434960"/>
            <a:chOff x="2124000" y="3645000"/>
            <a:chExt cx="1360440" cy="1434960"/>
          </a:xfrm>
        </p:grpSpPr>
        <p:sp>
          <p:nvSpPr>
            <p:cNvPr id="287" name=""/>
            <p:cNvSpPr/>
            <p:nvPr/>
          </p:nvSpPr>
          <p:spPr>
            <a:xfrm>
              <a:off x="2124000" y="3645000"/>
              <a:ext cx="1360440" cy="14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8" name="" descr=""/>
            <p:cNvPicPr/>
            <p:nvPr/>
          </p:nvPicPr>
          <p:blipFill>
            <a:blip r:embed="rId8"/>
            <a:stretch/>
          </p:blipFill>
          <p:spPr>
            <a:xfrm>
              <a:off x="2192400" y="3733920"/>
              <a:ext cx="1292040" cy="123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9" name=""/>
          <p:cNvGrpSpPr/>
          <p:nvPr/>
        </p:nvGrpSpPr>
        <p:grpSpPr>
          <a:xfrm>
            <a:off x="3851280" y="3573360"/>
            <a:ext cx="1401840" cy="1506600"/>
            <a:chOff x="3851280" y="3573360"/>
            <a:chExt cx="1401840" cy="1506600"/>
          </a:xfrm>
        </p:grpSpPr>
        <p:pic>
          <p:nvPicPr>
            <p:cNvPr id="290" name="" descr=""/>
            <p:cNvPicPr/>
            <p:nvPr/>
          </p:nvPicPr>
          <p:blipFill>
            <a:blip r:embed="rId9"/>
            <a:stretch/>
          </p:blipFill>
          <p:spPr>
            <a:xfrm>
              <a:off x="3921120" y="3780000"/>
              <a:ext cx="1260360" cy="10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3851280" y="3573360"/>
              <a:ext cx="1401840" cy="15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5435640" y="3645000"/>
            <a:ext cx="1546200" cy="1506600"/>
            <a:chOff x="5435640" y="3645000"/>
            <a:chExt cx="1546200" cy="1506600"/>
          </a:xfrm>
        </p:grpSpPr>
        <p:pic>
          <p:nvPicPr>
            <p:cNvPr id="293" name="" descr=""/>
            <p:cNvPicPr/>
            <p:nvPr/>
          </p:nvPicPr>
          <p:blipFill>
            <a:blip r:embed="rId10"/>
            <a:stretch/>
          </p:blipFill>
          <p:spPr>
            <a:xfrm>
              <a:off x="5591160" y="3713040"/>
              <a:ext cx="1244520" cy="13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435640" y="3645000"/>
              <a:ext cx="1546200" cy="15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5" name="">
            <a:hlinkClick r:id="rId11" action="ppaction://hlinksldjump"/>
          </p:cNvPr>
          <p:cNvSpPr/>
          <p:nvPr/>
        </p:nvSpPr>
        <p:spPr>
          <a:xfrm>
            <a:off x="8317080" y="6021360"/>
            <a:ext cx="539640" cy="61128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611280"/>
              <a:gd name="textAreaBottom" fmla="*/ 576360 h 611280"/>
            </a:gdLst>
            <a:ahLst/>
            <a:rect l="textAreaLeft" t="textAreaTop" r="textAreaRight" b="textAreaBottom"/>
            <a:pathLst>
              <a:path w="21600" h="24466">
                <a:moveTo>
                  <a:pt x="0" y="0"/>
                </a:moveTo>
                <a:lnTo>
                  <a:pt x="21600" y="0"/>
                </a:lnTo>
                <a:lnTo>
                  <a:pt x="21600" y="24466"/>
                </a:lnTo>
                <a:lnTo>
                  <a:pt x="0" y="24466"/>
                </a:lnTo>
                <a:close/>
              </a:path>
              <a:path fill="lightenLess" w="21600" h="244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66">
                <a:moveTo>
                  <a:pt x="21600" y="0"/>
                </a:moveTo>
                <a:lnTo>
                  <a:pt x="21600" y="24466"/>
                </a:lnTo>
                <a:lnTo>
                  <a:pt x="20200" y="23066"/>
                </a:lnTo>
                <a:lnTo>
                  <a:pt x="20200" y="1400"/>
                </a:lnTo>
                <a:close/>
              </a:path>
              <a:path fill="darkenLess" w="21600" h="24466">
                <a:moveTo>
                  <a:pt x="21600" y="24466"/>
                </a:moveTo>
                <a:lnTo>
                  <a:pt x="0" y="24466"/>
                </a:lnTo>
                <a:lnTo>
                  <a:pt x="1400" y="23066"/>
                </a:lnTo>
                <a:lnTo>
                  <a:pt x="20200" y="23066"/>
                </a:lnTo>
                <a:close/>
              </a:path>
              <a:path fill="lighten" w="21600" h="24466">
                <a:moveTo>
                  <a:pt x="0" y="244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66"/>
                </a:lnTo>
                <a:close/>
              </a:path>
              <a:path fill="darken" w="21600" h="24466">
                <a:moveTo>
                  <a:pt x="10800" y="5270"/>
                </a:moveTo>
                <a:lnTo>
                  <a:pt x="13376" y="7881"/>
                </a:lnTo>
                <a:lnTo>
                  <a:pt x="13376" y="6140"/>
                </a:lnTo>
                <a:lnTo>
                  <a:pt x="15152" y="6140"/>
                </a:lnTo>
                <a:lnTo>
                  <a:pt x="15152" y="9657"/>
                </a:lnTo>
                <a:lnTo>
                  <a:pt x="17763" y="12233"/>
                </a:lnTo>
                <a:lnTo>
                  <a:pt x="16109" y="12233"/>
                </a:lnTo>
                <a:lnTo>
                  <a:pt x="16109" y="19422"/>
                </a:lnTo>
                <a:lnTo>
                  <a:pt x="5491" y="19422"/>
                </a:lnTo>
                <a:lnTo>
                  <a:pt x="5491" y="12233"/>
                </a:lnTo>
                <a:lnTo>
                  <a:pt x="3837" y="12233"/>
                </a:lnTo>
                <a:close/>
              </a:path>
              <a:path fill="darkenLess" w="21600" h="24466">
                <a:moveTo>
                  <a:pt x="13376" y="7881"/>
                </a:moveTo>
                <a:lnTo>
                  <a:pt x="13376" y="6140"/>
                </a:lnTo>
                <a:lnTo>
                  <a:pt x="15152" y="6140"/>
                </a:lnTo>
                <a:lnTo>
                  <a:pt x="15152" y="9657"/>
                </a:lnTo>
                <a:close/>
              </a:path>
              <a:path fill="darkenLess" w="21600" h="24466">
                <a:moveTo>
                  <a:pt x="9877" y="15732"/>
                </a:moveTo>
                <a:lnTo>
                  <a:pt x="11723" y="15732"/>
                </a:lnTo>
                <a:lnTo>
                  <a:pt x="11723" y="19422"/>
                </a:lnTo>
                <a:lnTo>
                  <a:pt x="16109" y="19422"/>
                </a:lnTo>
                <a:lnTo>
                  <a:pt x="16109" y="12233"/>
                </a:lnTo>
                <a:lnTo>
                  <a:pt x="5491" y="12233"/>
                </a:lnTo>
                <a:lnTo>
                  <a:pt x="5491" y="19422"/>
                </a:lnTo>
                <a:lnTo>
                  <a:pt x="9877" y="1942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2"/>
          <a:stretch/>
        </p:blipFill>
        <p:spPr>
          <a:xfrm>
            <a:off x="3780000" y="2276640"/>
            <a:ext cx="1512720" cy="12538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13"/>
          <a:stretch/>
        </p:blipFill>
        <p:spPr>
          <a:xfrm>
            <a:off x="2195640" y="5445000"/>
            <a:ext cx="1296720" cy="12668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103" dur="indefinite" restart="never" nodeType="tmRoot">
          <p:childTnLst>
            <p:par>
              <p:cTn id="104" dur="indefinite" nodeType="interactiveSeq" fill="hold">
                <p:childTnLst>
                  <p:par>
                    <p:cTn id="105" dur="indefinite" fill="hold"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68 -0.03264 L -0.19393 -0.67315 E">
                                      <p:cBhvr>
                                        <p:cTn id="108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09" dur="indefinite" nodeType="interactiveSeq" fill="hold">
                <p:childTnLst>
                  <p:par>
                    <p:cTn id="110" dur="indefinite" fill="hold">
                      <p:childTnLst>
                        <p:par>
                          <p:cTn id="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14" dur="indefinite" nodeType="interactiveSeq" fill="hold">
                <p:childTnLst>
                  <p:par>
                    <p:cTn id="115" dur="indefinite" fill="hold"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19" dur="indefinite" nodeType="interactiveSeq" fill="hold">
                <p:childTnLst>
                  <p:par>
                    <p:cTn id="120" dur="indefinite" fill="hold"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572000" y="1125360"/>
            <a:ext cx="4038480" cy="60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5160" algn="ctr"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  <a:ea typeface="Arial Unicode MS"/>
              </a:rPr>
              <a:t>Толст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11280" y="1125360"/>
            <a:ext cx="4038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5160" algn="ctr"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  <a:ea typeface="Arial Unicode MS"/>
              </a:rPr>
              <a:t>Худ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4932360" y="1628640"/>
            <a:ext cx="2943360" cy="41022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1547640" y="1628640"/>
            <a:ext cx="1630440" cy="4227480"/>
          </a:xfrm>
          <a:prstGeom prst="rect">
            <a:avLst/>
          </a:prstGeom>
          <a:ln w="0">
            <a:noFill/>
          </a:ln>
        </p:spPr>
      </p:pic>
      <p:sp>
        <p:nvSpPr>
          <p:cNvPr id="302" name="">
            <a:hlinkClick r:id="rId3" action="ppaction://hlinksldjump"/>
          </p:cNvPr>
          <p:cNvSpPr/>
          <p:nvPr/>
        </p:nvSpPr>
        <p:spPr>
          <a:xfrm>
            <a:off x="8459640" y="6021360"/>
            <a:ext cx="540000" cy="61128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611280"/>
              <a:gd name="textAreaBottom" fmla="*/ 576360 h 611280"/>
            </a:gdLst>
            <a:ahLst/>
            <a:rect l="textAreaLeft" t="textAreaTop" r="textAreaRight" b="textAreaBottom"/>
            <a:pathLst>
              <a:path w="21600" h="24449">
                <a:moveTo>
                  <a:pt x="0" y="0"/>
                </a:moveTo>
                <a:lnTo>
                  <a:pt x="21600" y="0"/>
                </a:lnTo>
                <a:lnTo>
                  <a:pt x="21600" y="24449"/>
                </a:lnTo>
                <a:lnTo>
                  <a:pt x="0" y="24449"/>
                </a:lnTo>
                <a:close/>
              </a:path>
              <a:path fill="lightenLess" w="21600" h="244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49">
                <a:moveTo>
                  <a:pt x="21600" y="0"/>
                </a:moveTo>
                <a:lnTo>
                  <a:pt x="21600" y="24449"/>
                </a:lnTo>
                <a:lnTo>
                  <a:pt x="20200" y="23049"/>
                </a:lnTo>
                <a:lnTo>
                  <a:pt x="20200" y="1400"/>
                </a:lnTo>
                <a:close/>
              </a:path>
              <a:path fill="darkenLess" w="21600" h="24449">
                <a:moveTo>
                  <a:pt x="21600" y="24449"/>
                </a:moveTo>
                <a:lnTo>
                  <a:pt x="0" y="24449"/>
                </a:lnTo>
                <a:lnTo>
                  <a:pt x="1400" y="23049"/>
                </a:lnTo>
                <a:lnTo>
                  <a:pt x="20200" y="23049"/>
                </a:lnTo>
                <a:close/>
              </a:path>
              <a:path fill="lighten" w="21600" h="24449">
                <a:moveTo>
                  <a:pt x="0" y="2444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49"/>
                </a:lnTo>
                <a:close/>
              </a:path>
              <a:path fill="darken" w="21600" h="24449">
                <a:moveTo>
                  <a:pt x="10800" y="5262"/>
                </a:moveTo>
                <a:lnTo>
                  <a:pt x="13376" y="7873"/>
                </a:lnTo>
                <a:lnTo>
                  <a:pt x="13376" y="6132"/>
                </a:lnTo>
                <a:lnTo>
                  <a:pt x="15152" y="6132"/>
                </a:lnTo>
                <a:lnTo>
                  <a:pt x="15152" y="9648"/>
                </a:lnTo>
                <a:lnTo>
                  <a:pt x="17763" y="12225"/>
                </a:lnTo>
                <a:lnTo>
                  <a:pt x="16109" y="12225"/>
                </a:lnTo>
                <a:lnTo>
                  <a:pt x="16109" y="19414"/>
                </a:lnTo>
                <a:lnTo>
                  <a:pt x="5491" y="19414"/>
                </a:lnTo>
                <a:lnTo>
                  <a:pt x="5491" y="12225"/>
                </a:lnTo>
                <a:lnTo>
                  <a:pt x="3837" y="12225"/>
                </a:lnTo>
                <a:close/>
              </a:path>
              <a:path fill="darkenLess" w="21600" h="24449">
                <a:moveTo>
                  <a:pt x="13376" y="7873"/>
                </a:moveTo>
                <a:lnTo>
                  <a:pt x="13376" y="6132"/>
                </a:lnTo>
                <a:lnTo>
                  <a:pt x="15152" y="6132"/>
                </a:lnTo>
                <a:lnTo>
                  <a:pt x="15152" y="9648"/>
                </a:lnTo>
                <a:close/>
              </a:path>
              <a:path fill="darkenLess" w="21600" h="24449">
                <a:moveTo>
                  <a:pt x="9877" y="15724"/>
                </a:moveTo>
                <a:lnTo>
                  <a:pt x="11723" y="15724"/>
                </a:lnTo>
                <a:lnTo>
                  <a:pt x="11723" y="19414"/>
                </a:lnTo>
                <a:lnTo>
                  <a:pt x="16109" y="19414"/>
                </a:lnTo>
                <a:lnTo>
                  <a:pt x="16109" y="12225"/>
                </a:lnTo>
                <a:lnTo>
                  <a:pt x="5491" y="12225"/>
                </a:lnTo>
                <a:lnTo>
                  <a:pt x="5491" y="19414"/>
                </a:lnTo>
                <a:lnTo>
                  <a:pt x="9877" y="1941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2268360" y="0"/>
            <a:ext cx="4824720" cy="1268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кажи наоборот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wheel spokes="2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68360" y="404640"/>
            <a:ext cx="4038480" cy="56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5160" algn="ctr"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  <a:ea typeface="Arial Unicode MS"/>
              </a:rPr>
              <a:t>Смел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643280" y="549360"/>
            <a:ext cx="4038840" cy="56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5160" algn="ctr"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  <a:ea typeface="Arial Unicode MS"/>
              </a:rPr>
              <a:t>Труслив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219640" y="2638440"/>
            <a:ext cx="3924360" cy="25876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179280" y="2492280"/>
            <a:ext cx="4897440" cy="3005280"/>
          </a:xfrm>
          <a:prstGeom prst="rect">
            <a:avLst/>
          </a:prstGeom>
          <a:ln w="0">
            <a:noFill/>
          </a:ln>
        </p:spPr>
      </p:pic>
      <p:sp>
        <p:nvSpPr>
          <p:cNvPr id="308" name="">
            <a:hlinkClick r:id="rId3" action="ppaction://hlinksldjump"/>
          </p:cNvPr>
          <p:cNvSpPr/>
          <p:nvPr/>
        </p:nvSpPr>
        <p:spPr>
          <a:xfrm>
            <a:off x="8244000" y="6021360"/>
            <a:ext cx="539640" cy="61128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611280"/>
              <a:gd name="textAreaBottom" fmla="*/ 576360 h 611280"/>
            </a:gdLst>
            <a:ahLst/>
            <a:rect l="textAreaLeft" t="textAreaTop" r="textAreaRight" b="textAreaBottom"/>
            <a:pathLst>
              <a:path w="21600" h="24466">
                <a:moveTo>
                  <a:pt x="0" y="0"/>
                </a:moveTo>
                <a:lnTo>
                  <a:pt x="21600" y="0"/>
                </a:lnTo>
                <a:lnTo>
                  <a:pt x="21600" y="24466"/>
                </a:lnTo>
                <a:lnTo>
                  <a:pt x="0" y="24466"/>
                </a:lnTo>
                <a:close/>
              </a:path>
              <a:path fill="lightenLess" w="21600" h="244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66">
                <a:moveTo>
                  <a:pt x="21600" y="0"/>
                </a:moveTo>
                <a:lnTo>
                  <a:pt x="21600" y="24466"/>
                </a:lnTo>
                <a:lnTo>
                  <a:pt x="20200" y="23066"/>
                </a:lnTo>
                <a:lnTo>
                  <a:pt x="20200" y="1400"/>
                </a:lnTo>
                <a:close/>
              </a:path>
              <a:path fill="darkenLess" w="21600" h="24466">
                <a:moveTo>
                  <a:pt x="21600" y="24466"/>
                </a:moveTo>
                <a:lnTo>
                  <a:pt x="0" y="24466"/>
                </a:lnTo>
                <a:lnTo>
                  <a:pt x="1400" y="23066"/>
                </a:lnTo>
                <a:lnTo>
                  <a:pt x="20200" y="23066"/>
                </a:lnTo>
                <a:close/>
              </a:path>
              <a:path fill="lighten" w="21600" h="24466">
                <a:moveTo>
                  <a:pt x="0" y="244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66"/>
                </a:lnTo>
                <a:close/>
              </a:path>
              <a:path fill="darken" w="21600" h="24466">
                <a:moveTo>
                  <a:pt x="10800" y="5270"/>
                </a:moveTo>
                <a:lnTo>
                  <a:pt x="13376" y="7881"/>
                </a:lnTo>
                <a:lnTo>
                  <a:pt x="13376" y="6140"/>
                </a:lnTo>
                <a:lnTo>
                  <a:pt x="15152" y="6140"/>
                </a:lnTo>
                <a:lnTo>
                  <a:pt x="15152" y="9657"/>
                </a:lnTo>
                <a:lnTo>
                  <a:pt x="17763" y="12233"/>
                </a:lnTo>
                <a:lnTo>
                  <a:pt x="16109" y="12233"/>
                </a:lnTo>
                <a:lnTo>
                  <a:pt x="16109" y="19422"/>
                </a:lnTo>
                <a:lnTo>
                  <a:pt x="5491" y="19422"/>
                </a:lnTo>
                <a:lnTo>
                  <a:pt x="5491" y="12233"/>
                </a:lnTo>
                <a:lnTo>
                  <a:pt x="3837" y="12233"/>
                </a:lnTo>
                <a:close/>
              </a:path>
              <a:path fill="darkenLess" w="21600" h="24466">
                <a:moveTo>
                  <a:pt x="13376" y="7881"/>
                </a:moveTo>
                <a:lnTo>
                  <a:pt x="13376" y="6140"/>
                </a:lnTo>
                <a:lnTo>
                  <a:pt x="15152" y="6140"/>
                </a:lnTo>
                <a:lnTo>
                  <a:pt x="15152" y="9657"/>
                </a:lnTo>
                <a:close/>
              </a:path>
              <a:path fill="darkenLess" w="21600" h="24466">
                <a:moveTo>
                  <a:pt x="9877" y="15732"/>
                </a:moveTo>
                <a:lnTo>
                  <a:pt x="11723" y="15732"/>
                </a:lnTo>
                <a:lnTo>
                  <a:pt x="11723" y="19422"/>
                </a:lnTo>
                <a:lnTo>
                  <a:pt x="16109" y="19422"/>
                </a:lnTo>
                <a:lnTo>
                  <a:pt x="16109" y="12233"/>
                </a:lnTo>
                <a:lnTo>
                  <a:pt x="5491" y="12233"/>
                </a:lnTo>
                <a:lnTo>
                  <a:pt x="5491" y="19422"/>
                </a:lnTo>
                <a:lnTo>
                  <a:pt x="9877" y="1942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dur="indefinite" fill="hold">
                      <p:stCondLst>
                        <p:cond delay="indefinite"/>
                      </p:stCondLst>
                      <p:childTnLst>
                        <p:par>
                          <p:cTn id="1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57200" y="549360"/>
            <a:ext cx="403848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5160" algn="ctr"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  <a:ea typeface="Arial Unicode MS"/>
              </a:rPr>
              <a:t>Гряз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648320" y="549360"/>
            <a:ext cx="403848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5160" algn="ctr"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  <a:ea typeface="Arial Unicode MS"/>
              </a:rPr>
              <a:t>Чист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2854440" cy="370044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5580000" y="1773360"/>
            <a:ext cx="3073320" cy="4039920"/>
          </a:xfrm>
          <a:prstGeom prst="rect">
            <a:avLst/>
          </a:prstGeom>
          <a:ln w="0">
            <a:noFill/>
          </a:ln>
        </p:spPr>
      </p:pic>
      <p:sp>
        <p:nvSpPr>
          <p:cNvPr id="313" name="">
            <a:hlinkClick r:id="rId3" action="ppaction://hlinksldjump"/>
          </p:cNvPr>
          <p:cNvSpPr/>
          <p:nvPr/>
        </p:nvSpPr>
        <p:spPr>
          <a:xfrm>
            <a:off x="8388360" y="6165720"/>
            <a:ext cx="431640" cy="4669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920"/>
              <a:gd name="textAreaBottom" fmla="*/ 439200 h 466920"/>
            </a:gdLst>
            <a:ahLst/>
            <a:rect l="textAreaLeft" t="textAreaTop" r="textAreaRight" b="textAreaBottom"/>
            <a:pathLst>
              <a:path w="21600" h="23364">
                <a:moveTo>
                  <a:pt x="0" y="0"/>
                </a:moveTo>
                <a:lnTo>
                  <a:pt x="21600" y="0"/>
                </a:lnTo>
                <a:lnTo>
                  <a:pt x="21600" y="23364"/>
                </a:lnTo>
                <a:lnTo>
                  <a:pt x="0" y="23364"/>
                </a:lnTo>
                <a:close/>
              </a:path>
              <a:path fill="lightenLess" w="21600" h="233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64">
                <a:moveTo>
                  <a:pt x="21600" y="0"/>
                </a:moveTo>
                <a:lnTo>
                  <a:pt x="21600" y="23364"/>
                </a:lnTo>
                <a:lnTo>
                  <a:pt x="20200" y="21964"/>
                </a:lnTo>
                <a:lnTo>
                  <a:pt x="20200" y="1400"/>
                </a:lnTo>
                <a:close/>
              </a:path>
              <a:path fill="darkenLess" w="21600" h="23364">
                <a:moveTo>
                  <a:pt x="21600" y="23364"/>
                </a:moveTo>
                <a:lnTo>
                  <a:pt x="0" y="23364"/>
                </a:lnTo>
                <a:lnTo>
                  <a:pt x="1400" y="21964"/>
                </a:lnTo>
                <a:lnTo>
                  <a:pt x="20200" y="21964"/>
                </a:lnTo>
                <a:close/>
              </a:path>
              <a:path fill="lighten" w="21600" h="23364">
                <a:moveTo>
                  <a:pt x="0" y="233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64"/>
                </a:lnTo>
                <a:close/>
              </a:path>
              <a:path fill="darken" w="21600" h="23364">
                <a:moveTo>
                  <a:pt x="10800" y="4719"/>
                </a:moveTo>
                <a:lnTo>
                  <a:pt x="13376" y="7330"/>
                </a:lnTo>
                <a:lnTo>
                  <a:pt x="13376" y="5589"/>
                </a:lnTo>
                <a:lnTo>
                  <a:pt x="15152" y="5589"/>
                </a:lnTo>
                <a:lnTo>
                  <a:pt x="15152" y="9106"/>
                </a:lnTo>
                <a:lnTo>
                  <a:pt x="17763" y="11682"/>
                </a:lnTo>
                <a:lnTo>
                  <a:pt x="16109" y="11682"/>
                </a:lnTo>
                <a:lnTo>
                  <a:pt x="16109" y="18871"/>
                </a:lnTo>
                <a:lnTo>
                  <a:pt x="5491" y="18871"/>
                </a:lnTo>
                <a:lnTo>
                  <a:pt x="5491" y="11682"/>
                </a:lnTo>
                <a:lnTo>
                  <a:pt x="3837" y="11682"/>
                </a:lnTo>
                <a:close/>
              </a:path>
              <a:path fill="darkenLess" w="21600" h="23364">
                <a:moveTo>
                  <a:pt x="13376" y="7330"/>
                </a:moveTo>
                <a:lnTo>
                  <a:pt x="13376" y="5589"/>
                </a:lnTo>
                <a:lnTo>
                  <a:pt x="15152" y="5589"/>
                </a:lnTo>
                <a:lnTo>
                  <a:pt x="15152" y="9106"/>
                </a:lnTo>
                <a:close/>
              </a:path>
              <a:path fill="darkenLess" w="21600" h="23364">
                <a:moveTo>
                  <a:pt x="9877" y="15181"/>
                </a:moveTo>
                <a:lnTo>
                  <a:pt x="11723" y="15181"/>
                </a:lnTo>
                <a:lnTo>
                  <a:pt x="11723" y="18871"/>
                </a:lnTo>
                <a:lnTo>
                  <a:pt x="16109" y="18871"/>
                </a:lnTo>
                <a:lnTo>
                  <a:pt x="16109" y="11682"/>
                </a:lnTo>
                <a:lnTo>
                  <a:pt x="5491" y="11682"/>
                </a:lnTo>
                <a:lnTo>
                  <a:pt x="5491" y="18871"/>
                </a:lnTo>
                <a:lnTo>
                  <a:pt x="9877" y="1887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dur="indefinite" fill="hold">
                      <p:stCondLst>
                        <p:cond delay="indefinite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dur="indefinite" fill="hold">
                      <p:stCondLst>
                        <p:cond delay="indefinite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12:36:50Z</dcterms:created>
  <dc:creator>1</dc:creator>
  <dc:description/>
  <dc:language>en-US</dc:language>
  <cp:lastModifiedBy>Учитель</cp:lastModifiedBy>
  <dcterms:modified xsi:type="dcterms:W3CDTF">2016-11-24T07:27:10Z</dcterms:modified>
  <cp:revision>16</cp:revision>
  <dc:subject/>
  <dc:title>Артикуляция звуков</dc:title>
</cp:coreProperties>
</file>