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ED00-75FB-4AF2-8118-956626AB1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6C85-F252-4C80-9C47-9B58C9883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598-28B9-4348-8A37-F6211994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095-FA70-4B61-A60A-E4D7E531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66C-8948-425D-9FCC-C77C7220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63E-A46F-498D-8532-ECD6CADF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CB47-DA77-4B28-83FF-1331AEDE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598D-378F-4B09-AC47-FB264B32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99C0-5ED8-4D7C-8AF7-50B52C64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7DA3-2317-4A90-B57A-390853E7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66FD-4939-4863-9B37-51131060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6B39-6729-464D-AB8D-A29E5413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A0F6-25E9-4C9C-A1C7-C49936D1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370-46E2-4620-AA0B-87E25D22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0E48-6757-4BC2-B2B5-DB90AD3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B78-06F7-4261-8CE8-7F2F0499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3E00-F973-49BC-A79D-9249D58F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50DB-96AD-401E-9A7E-B7DC5DAA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DF85-1898-476D-AE67-E61E33A9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1D0-D279-4050-AA4D-4BDDCF43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4D3-5D58-4847-A669-CB190192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7E5-AADF-4138-B79A-0D5DEA42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EDB-2A15-47B8-B108-4227080D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4B6-42AE-46C7-B2BA-995C390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970-A2A6-4F23-9A8A-02AE825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902-634C-4381-ACBC-ECE1CB5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02BE-3DFD-437D-A1B4-56685003062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791D-A8E4-4E12-B6F0-75BD2D3B049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5668920" cy="367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entury Gothic"/>
              </a:rPr>
              <a:t>Окружающий мир</a:t>
            </a:r>
            <a:br>
              <a:rPr sz="6000"/>
            </a:br>
            <a:br>
              <a:rPr sz="6000"/>
            </a:br>
            <a:r>
              <a:rPr b="1" i="1" lang="ru-RU" sz="3600" spc="-1" strike="noStrike">
                <a:solidFill>
                  <a:srgbClr val="000099"/>
                </a:solidFill>
                <a:latin typeface="Century Gothic"/>
              </a:rPr>
              <a:t>Человек и человечеств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5"/>
          <p:cNvSpPr/>
          <p:nvPr/>
        </p:nvSpPr>
        <p:spPr>
          <a:xfrm>
            <a:off x="5219640" y="2637000"/>
            <a:ext cx="259236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4716360" y="981000"/>
            <a:ext cx="3168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Спортивное      общество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 Общество     охраны природ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 Россиян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4.Человечеств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403280" y="620640"/>
            <a:ext cx="56898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меть знаком «+» правильное утвержд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 состоит из людей, которые имеют общие интересы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, входящие в общество действуют каждый сам по себе, ничем друг с другом не связаны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о – это не только общие интересы, но и общие заботы, общие проблемы, которые члены общества решают вместе сообща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ы живём в человеческом обществе и должны уважать интересы друг друг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116000" y="2637000"/>
            <a:ext cx="287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116000" y="3860640"/>
            <a:ext cx="287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116000" y="5373720"/>
            <a:ext cx="287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116000" y="1700280"/>
            <a:ext cx="287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минутка +-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7134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Lepold"/>
          <p:cNvPicPr/>
          <p:nvPr/>
        </p:nvPicPr>
        <p:blipFill>
          <a:blip r:embed="rId1"/>
          <a:stretch/>
        </p:blipFill>
        <p:spPr>
          <a:xfrm>
            <a:off x="1116000" y="2359080"/>
            <a:ext cx="4094280" cy="40910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/>
          <p:cNvSpPr/>
          <p:nvPr/>
        </p:nvSpPr>
        <p:spPr>
          <a:xfrm>
            <a:off x="3276720" y="907920"/>
            <a:ext cx="4824360" cy="1584360"/>
          </a:xfrm>
          <a:prstGeom prst="wedgeRoundRectCallout">
            <a:avLst>
              <a:gd name="adj1" fmla="val -49800"/>
              <a:gd name="adj2" fmla="val 101504"/>
              <a:gd name="adj3" fmla="val 16667"/>
            </a:avLst>
          </a:prstGeom>
          <a:solidFill>
            <a:srgbClr val="fd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203640" y="1071720"/>
            <a:ext cx="5761080" cy="2471400"/>
          </a:xfrm>
          <a:prstGeom prst="wedgeRoundRectCallout">
            <a:avLst>
              <a:gd name="adj1" fmla="val -7624"/>
              <a:gd name="adj2" fmla="val -3179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801a7"/>
                </a:solidFill>
                <a:uFillTx/>
                <a:latin typeface="Monotype Corsiva"/>
              </a:rPr>
              <a:t>Мир</a:t>
            </a:r>
            <a:r>
              <a:rPr b="1" lang="ru-RU" sz="3600" spc="-1" strike="noStrike">
                <a:solidFill>
                  <a:srgbClr val="6801a7"/>
                </a:solidFill>
                <a:latin typeface="Monotype Corsiva"/>
              </a:rPr>
              <a:t> не без добрых людей</a:t>
            </a:r>
            <a:br>
              <a:rPr sz="3600"/>
            </a:br>
            <a:r>
              <a:rPr b="1" lang="ru-RU" sz="3600" spc="-1" strike="noStrike" u="sng">
                <a:solidFill>
                  <a:srgbClr val="6801a7"/>
                </a:solidFill>
                <a:uFillTx/>
                <a:latin typeface="Monotype Corsiva"/>
              </a:rPr>
              <a:t>Свет</a:t>
            </a:r>
            <a:r>
              <a:rPr b="1" lang="ru-RU" sz="3600" spc="-1" strike="noStrike">
                <a:solidFill>
                  <a:srgbClr val="6801a7"/>
                </a:solidFill>
                <a:latin typeface="Monotype Corsiva"/>
              </a:rPr>
              <a:t> не без добрых люде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Безымянный"/>
          <p:cNvPicPr/>
          <p:nvPr/>
        </p:nvPicPr>
        <p:blipFill>
          <a:blip r:embed="rId1"/>
          <a:stretch/>
        </p:blipFill>
        <p:spPr>
          <a:xfrm>
            <a:off x="1020600" y="2781360"/>
            <a:ext cx="3695760" cy="35528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/>
          <p:cNvSpPr/>
          <p:nvPr/>
        </p:nvSpPr>
        <p:spPr>
          <a:xfrm>
            <a:off x="3276720" y="620640"/>
            <a:ext cx="5327640" cy="2016360"/>
          </a:xfrm>
          <a:prstGeom prst="wedgeRoundRectCallout">
            <a:avLst>
              <a:gd name="adj1" fmla="val -36828"/>
              <a:gd name="adj2" fmla="val 107009"/>
              <a:gd name="adj3" fmla="val 16667"/>
            </a:avLst>
          </a:prstGeom>
          <a:solidFill>
            <a:srgbClr val="fd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419640" y="8668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группа людей, у которых есть общие интерес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ishi-leopolda-1"/>
          <p:cNvPicPr/>
          <p:nvPr/>
        </p:nvPicPr>
        <p:blipFill>
          <a:blip r:embed="rId1"/>
          <a:stretch/>
        </p:blipFill>
        <p:spPr>
          <a:xfrm>
            <a:off x="5003640" y="692280"/>
            <a:ext cx="2532240" cy="2662200"/>
          </a:xfrm>
          <a:prstGeom prst="rect">
            <a:avLst/>
          </a:prstGeom>
          <a:ln w="0">
            <a:noFill/>
          </a:ln>
        </p:spPr>
      </p:pic>
      <p:sp>
        <p:nvSpPr>
          <p:cNvPr id="125" name="Заголовок 1"/>
          <p:cNvSpPr/>
          <p:nvPr/>
        </p:nvSpPr>
        <p:spPr>
          <a:xfrm>
            <a:off x="1403280" y="1987560"/>
            <a:ext cx="6048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Конфликт – </a:t>
            </a:r>
            <a:r>
              <a:rPr b="0" lang="ru-RU" sz="3600" spc="-1" strike="noStrike">
                <a:solidFill>
                  <a:srgbClr val="000099"/>
                </a:solidFill>
                <a:latin typeface="Century Gothic"/>
              </a:rPr>
              <a:t>столкновение интересов людей, из-за которого возникает серьёзный спор, соперничество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49032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Если возникнет конфликт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1640" y="1987560"/>
            <a:ext cx="5616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пробуйте «сесть за стол переговоров», сделать друг другу уступки. Не допускайте усиления конфликта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 отступайте от своих интересов, стойте за них до конца, и кто-нибудь обязательно победит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 допускайте конфликта. Договоритесь, найдите разумную середину в ваших интересах, и тогда общество будет успешно развиваться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Text Box 9"/>
          <p:cNvSpPr/>
          <p:nvPr/>
        </p:nvSpPr>
        <p:spPr>
          <a:xfrm rot="21374400">
            <a:off x="684360" y="17226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Symbol"/>
                <a:ea typeface="Symbol"/>
              </a:rPr>
              <a:t>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 rot="21374400">
            <a:off x="684360" y="4581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Symbol"/>
                <a:ea typeface="Symbol"/>
              </a:rPr>
              <a:t>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154160" y="1700280"/>
            <a:ext cx="4497480" cy="4681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1042920" y="5335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мпромисс –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это соглашение на основе взаимных уступок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a894de36ea5dt"/>
          <p:cNvPicPr/>
          <p:nvPr/>
        </p:nvPicPr>
        <p:blipFill>
          <a:blip r:embed="rId1"/>
          <a:stretch/>
        </p:blipFill>
        <p:spPr>
          <a:xfrm>
            <a:off x="4140360" y="2887560"/>
            <a:ext cx="2703240" cy="3494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09045ee9dc8079b5c24eb067d79412ee"/>
          <p:cNvPicPr/>
          <p:nvPr/>
        </p:nvPicPr>
        <p:blipFill>
          <a:blip r:embed="rId2"/>
          <a:stretch/>
        </p:blipFill>
        <p:spPr>
          <a:xfrm>
            <a:off x="971640" y="4525920"/>
            <a:ext cx="2232000" cy="18558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8"/>
          <p:cNvSpPr txBox="1"/>
          <p:nvPr/>
        </p:nvSpPr>
        <p:spPr>
          <a:xfrm>
            <a:off x="1476360" y="549360"/>
            <a:ext cx="655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5356"/>
                <a:gd name="adj2" fmla="val 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вайте жить дружно!!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1916280"/>
            <a:ext cx="7632720" cy="13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Сегодня на уроке я узнал(а) 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42920" y="2205000"/>
            <a:ext cx="763272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Сегодня на уроке я научился (ась)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042920" y="191628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Самым интересным было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042920" y="1916280"/>
            <a:ext cx="76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Осталось непонятным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9192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ОБЩЕСТВ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55640" y="2204640"/>
            <a:ext cx="264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бщество охотнико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Объект 4"/>
          <p:cNvSpPr/>
          <p:nvPr/>
        </p:nvSpPr>
        <p:spPr>
          <a:xfrm>
            <a:off x="1114560" y="2060640"/>
            <a:ext cx="288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бщество охраны живот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5002470"/>
          <p:cNvPicPr/>
          <p:nvPr/>
        </p:nvPicPr>
        <p:blipFill>
          <a:blip r:embed="rId1"/>
          <a:stretch/>
        </p:blipFill>
        <p:spPr>
          <a:xfrm>
            <a:off x="3995640" y="3716280"/>
            <a:ext cx="2714760" cy="241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3419504-young-girl-with-umbrella-and-cat-silhouettes-on-a-blue-background"/>
          <p:cNvPicPr/>
          <p:nvPr/>
        </p:nvPicPr>
        <p:blipFill>
          <a:blip r:embed="rId2"/>
          <a:stretch/>
        </p:blipFill>
        <p:spPr>
          <a:xfrm>
            <a:off x="1316160" y="3645000"/>
            <a:ext cx="17431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entury Gothic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Стр. 28 – 3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entury Gothic"/>
              </a:rPr>
              <a:t>Задания по выбору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нарисовать эмблему какого-либо обществ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entury Gothic"/>
              </a:rPr>
              <a:t>стр. 15 – 17 тетрадь (одно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207468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Что такое общество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095480" y="63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Сегодня на уроке мы узнаем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3680" y="2465280"/>
            <a:ext cx="5133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такое общест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116000" y="356220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бъединяет нас с людьми нашего обще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830160"/>
            <a:ext cx="703764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Сегодня на уроке мы научимся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6920" y="2287080"/>
            <a:ext cx="69138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заимодействовать друг с другом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ысли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аботать в групп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ценивать себя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5535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46846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4859280" y="907920"/>
            <a:ext cx="288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0640" indent="-620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Что такое                                    общество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5076720" y="2205000"/>
            <a:ext cx="2590920" cy="216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932360" y="20718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тели одной стра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тели одной плане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020600" y="2781360"/>
            <a:ext cx="3695760" cy="35528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/>
          <p:cNvSpPr/>
          <p:nvPr/>
        </p:nvSpPr>
        <p:spPr>
          <a:xfrm>
            <a:off x="3276720" y="620640"/>
            <a:ext cx="5327640" cy="2016360"/>
          </a:xfrm>
          <a:prstGeom prst="wedgeRoundRectCallout">
            <a:avLst>
              <a:gd name="adj1" fmla="val -36828"/>
              <a:gd name="adj2" fmla="val 107009"/>
              <a:gd name="adj3" fmla="val 16667"/>
            </a:avLst>
          </a:prstGeom>
          <a:solidFill>
            <a:srgbClr val="fdea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419640" y="8668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группа людей, у которых есть общие интерес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08:59:56Z</dcterms:created>
  <dc:creator>учитель</dc:creator>
  <dc:description/>
  <dc:language>en-US</dc:language>
  <cp:lastModifiedBy>Лидия</cp:lastModifiedBy>
  <dcterms:modified xsi:type="dcterms:W3CDTF">2011-12-23T06:58:55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159440</vt:lpwstr>
  </property>
  <property fmtid="{D5CDD505-2E9C-101B-9397-08002B2CF9AE}" pid="6" name="AssetType">
    <vt:lpwstr>TP</vt:lpwstr>
  </property>
  <property fmtid="{D5CDD505-2E9C-101B-9397-08002B2CF9AE}" pid="7" name="AuthoringAssetId">
    <vt:lpwstr>TP001159440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School books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Contains image from Hemera. Uses Hemera photos from CAM site which can only be used on Office Online. These templates cannot be distributed in a CD or in the box with any software application.. SEO Pilot 2008</vt:lpwstr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