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CD7-292C-4237-82CA-3955211C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331-C66A-451E-8E4A-DFE8BE2F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B1C-1FA0-4839-977A-B21D19EF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81C-4FCF-4512-A6CD-5DCD1623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34AC-C036-4E32-993A-87625953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95FB-505C-429E-9C76-7F6C74D1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556-8221-4B79-A4F0-0D983C3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DC5A-502A-49CE-9FC0-CA6A1EA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CF3-08B4-4FB2-A5D8-218025D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3E1-5643-4B0E-97A6-D41E477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857-C3D0-446E-BD05-B083909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9F7-7A81-46ED-A9B0-F864CA6E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158-AD0E-4517-AB21-1027C02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2275-E9AD-4AE6-893E-CC89772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FC8B-8DD0-4441-9735-66CB653C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D893-EEEC-4F90-970B-27027A3A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0FF-9DB1-4D14-B670-FD3CA747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37016-8735-422C-A4F0-B013E4A9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6D062-FA74-4EFE-AB6A-4E62F82B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2AF97-FE3A-49FF-90AF-A39531B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B406B-36E7-47C9-A82E-681387F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7662F-BEC4-41FE-9A32-C716576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513-7CBE-40E3-AFD8-CE7ADC4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F6702-2935-456D-AAE6-E5B6AE49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151D3-91D6-4829-94BE-22E26E2A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9B17C-A74F-4DD4-BCE4-C20470C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DAE3D-D3B3-4F3C-B697-35B09A6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71599-9C65-49A4-AD99-8E80FA27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BEFF-4428-486C-99D9-74B17FB6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7E16-1895-4D5E-AB8E-F036D2BC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D121B-1FAF-4DF0-A090-DD452463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6125-D08C-47A2-A09F-3037232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2037-E392-4167-B7B1-EFEA563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632-C92F-4084-9801-D55134F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0C48-9B00-480A-A88D-18515F8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95A7-6861-47FF-A38C-4AAE9AB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1594-08D2-47C4-9550-5932A591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5116-55D3-4F95-BFB4-96C966C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1EFA-7292-453D-994E-CE1F358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6EA5-34EC-4F45-8C23-91DE5D6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2DD1-C21B-4DBD-9837-6D5992AD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310E-9EDA-4E04-ABBD-FF19D2F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FBA6-77D3-4638-9843-C1683E13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07635-F2E3-4CE9-AD00-C0C4D64E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16E-4F5D-4BA7-930B-9D03BFD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F4B78-1F8D-40E8-85CA-4E8A1AC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9F503-A8EE-452E-B45C-8BA491C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2B5FA-7EA8-4353-909E-2A7AF517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4A0D1-C526-4D71-8121-3E3D558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DBCE6-CF5A-4B9B-A965-09D3E20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BEF88-F003-4118-A9F0-ACD840A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A5AB-7D8E-4BA9-B779-1D9FD4A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2B8E8-0863-4A1B-B3A6-C113A8F6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C4011-6491-44E3-90F5-9977A965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D78ED-BFC6-4C51-AE49-FC6E9ADE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54D-6513-4D6D-AEE4-D91CA65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D51F1-470B-40CD-B350-A958AA6A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59C28-D090-4F6D-82E3-8B9F3D9B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1F81A-15A8-4BE1-BA63-5076D5AC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68E45-9DE6-4440-B0D1-BEC0835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1E2B5-E0CD-4E90-A3B1-2BB75F90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625C3-9E31-4983-8543-78C697F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B01A6-F1EA-4C49-A669-45DC019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CE702-5598-4A1F-B6FA-4998E3B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22192-4DB9-48D6-A330-03F90FD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F1B13-BD38-47DB-A5E4-C814DF6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FD0-6E87-4D7A-8377-DBCAC63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9BFF4-D9E5-4EF8-A1CF-31A8624C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BA6C8-11B3-4BE0-B0F1-923EFD20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6018B-DE5F-43DA-A3A4-536A7A9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B2AAF-42DB-46BF-8241-34F1F85B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9D55E-7984-41E4-A471-13365455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AF67E-EC46-4965-9A6E-FA65344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1A925-ED87-4070-8FC2-53A492C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AECF1-1E84-4E43-9C45-A6BDB7C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9CEBC-6928-4D8D-8AC0-3744ED0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58F9A-BC3D-4EDE-A9AD-1034152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751-348A-4913-ADA2-79E338A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F0164-2AC8-428F-B4A0-2F70AFF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77F69-A33F-45D6-9DCA-8A62CCA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5C41B-B4BF-469B-A439-88D12DE9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264B9-C583-4F26-97F6-FE18CB6B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46019-7FFD-4D37-BC4F-0AE65770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AA2-391C-43FF-BB59-8BF3193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AE16-D6C9-4196-852D-B299502E8C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7C7E-42E6-4A84-8096-644C33B369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974-9A13-4B54-8699-20926365C0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1ED0-7028-438A-AE1E-2168A20707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257-C920-4D68-BE60-F71E1B4666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0562-03A0-42AC-A895-D77E9B3A99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146-3FE2-4DC5-99C6-1EA4C80353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ЕХНИКА: ОБЪЕМНАЯ АППЛИКАЦИЯ ИЗ ЯИЧНОЙ СКОРЛУПЫ «ЦВЕТОЧНАЯ ФАНТАЗИЯ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Содержимое 3" descr="DSC_4184.JPG"/>
          <p:cNvPicPr/>
          <p:nvPr/>
        </p:nvPicPr>
        <p:blipFill>
          <a:blip r:embed="rId1"/>
          <a:stretch/>
        </p:blipFill>
        <p:spPr>
          <a:xfrm>
            <a:off x="1928880" y="1928880"/>
            <a:ext cx="48736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ЫРЕЗАЕМ ИЗ ЯИЧНОЙ УПАКОВКИ ЯЧЕЙ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Содержимое 3" descr="DSC_4189.JPG"/>
          <p:cNvPicPr/>
          <p:nvPr/>
        </p:nvPicPr>
        <p:blipFill>
          <a:blip r:embed="rId1"/>
          <a:stretch/>
        </p:blipFill>
        <p:spPr>
          <a:xfrm>
            <a:off x="1754280" y="1357200"/>
            <a:ext cx="487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ЫРЕЗАЕМ ИЗ ЯЧЕЕК ЦВЕ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6" descr="DSC_4190.JPG"/>
          <p:cNvPicPr/>
          <p:nvPr/>
        </p:nvPicPr>
        <p:blipFill>
          <a:blip r:embed="rId1"/>
          <a:stretch/>
        </p:blipFill>
        <p:spPr>
          <a:xfrm>
            <a:off x="500040" y="1571760"/>
            <a:ext cx="3429000" cy="464328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7" descr="DSC_4188.JPG"/>
          <p:cNvPicPr/>
          <p:nvPr/>
        </p:nvPicPr>
        <p:blipFill>
          <a:blip r:embed="rId2"/>
          <a:stretch/>
        </p:blipFill>
        <p:spPr>
          <a:xfrm>
            <a:off x="4270320" y="1571760"/>
            <a:ext cx="3657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ЗАКРУГЛЯЕМ У ЛЕПЕСТКОВ УГОЛ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6" descr="DSC_4193.JPG"/>
          <p:cNvPicPr/>
          <p:nvPr/>
        </p:nvPicPr>
        <p:blipFill>
          <a:blip r:embed="rId1"/>
          <a:stretch/>
        </p:blipFill>
        <p:spPr>
          <a:xfrm>
            <a:off x="457200" y="1643040"/>
            <a:ext cx="3657600" cy="45007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7" descr="DSC_4194.JPG"/>
          <p:cNvPicPr/>
          <p:nvPr/>
        </p:nvPicPr>
        <p:blipFill>
          <a:blip r:embed="rId2"/>
          <a:stretch/>
        </p:blipFill>
        <p:spPr>
          <a:xfrm>
            <a:off x="4270320" y="1643040"/>
            <a:ext cx="365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ИЗГОТАВЛИВАЕМ НЕСКОЛЬКО ЦВЕТОВ И ВКЛАДЫВАЕМ ДРУГ В ДРУГ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6" descr="DSC_4199.JPG"/>
          <p:cNvPicPr/>
          <p:nvPr/>
        </p:nvPicPr>
        <p:blipFill>
          <a:blip r:embed="rId1"/>
          <a:stretch/>
        </p:blipFill>
        <p:spPr>
          <a:xfrm>
            <a:off x="457200" y="200016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7" descr="DSC_4200.JPG"/>
          <p:cNvPicPr/>
          <p:nvPr/>
        </p:nvPicPr>
        <p:blipFill>
          <a:blip r:embed="rId2"/>
          <a:stretch/>
        </p:blipFill>
        <p:spPr>
          <a:xfrm>
            <a:off x="4270320" y="2000160"/>
            <a:ext cx="3657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РАСКРАШИВАЕМ ПОЛУЧЕННЫЙ ЦВЕТОК ГУАШЬЮ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DSC_4202.JPG"/>
          <p:cNvPicPr/>
          <p:nvPr/>
        </p:nvPicPr>
        <p:blipFill>
          <a:blip r:embed="rId1"/>
          <a:stretch/>
        </p:blipFill>
        <p:spPr>
          <a:xfrm>
            <a:off x="1754280" y="1500120"/>
            <a:ext cx="487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2c16"/>
                </a:solidFill>
                <a:latin typeface="Century Schoolbook"/>
              </a:rPr>
              <a:t>ПОЛУЧАЮТСЯ КРАСИВЫЕ ЦВЕТ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DSC_4196.JPG"/>
          <p:cNvPicPr/>
          <p:nvPr/>
        </p:nvPicPr>
        <p:blipFill>
          <a:blip r:embed="rId1"/>
          <a:stretch/>
        </p:blipFill>
        <p:spPr>
          <a:xfrm>
            <a:off x="511200" y="1600200"/>
            <a:ext cx="7359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35720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05:59Z</dcterms:created>
  <dc:creator>Людмила</dc:creator>
  <dc:description/>
  <dc:language>en-US</dc:language>
  <cp:lastModifiedBy>Людмила</cp:lastModifiedBy>
  <dcterms:modified xsi:type="dcterms:W3CDTF">2015-11-15T13:29:28Z</dcterms:modified>
  <cp:revision>3</cp:revision>
  <dc:subject/>
  <dc:title>Техника: объемная аппликация из яичной скорлупы</dc:title>
</cp:coreProperties>
</file>