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A3E-BCB5-40EF-9078-D19D3B09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32F-4D20-4001-9E2B-14BDAE06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E43-EF78-484B-8B56-73F020C3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B73-51E5-4FD1-A972-183CF7BD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3584-E663-45F4-A53F-6BECE5EF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FC61-D7BA-4747-8203-A66111C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E72-CC8A-414B-96BA-A5F8F68F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53F-0888-427E-ACCF-4A7A8997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AA30-0B4E-4E07-B38B-EEFCEA35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DDC0-9BF9-4692-8936-769B1F7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EAAB-1CCC-4A53-9907-9808AA4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951-DB74-4470-A4EE-845887A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9F65-9C40-4866-9523-F920554B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9C9C-0F05-4E8D-96FC-556870C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6124-4E74-40C9-AF4E-34039FA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B51A-F659-46A9-9354-C2F9B216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E870-FC64-4714-BB22-9E5B4591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5ACB4-771D-46E4-96F1-52825338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05A08-25C0-4ADB-99B9-C56E7583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E183D-70C8-46DB-AB86-B97D1DC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E3092-E477-4797-9109-C4AC669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4ED13-D3B4-4681-B8B6-2BB7252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91A-C898-4FAE-9643-81763C7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91DB4-4EF3-46A6-8AAB-2275E627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ABA9C-F0A7-4850-810D-D271775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176F9-E9D6-4472-AB4B-1D1C8E8F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D8736-2AF3-4D77-87B7-575985C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023B3-1637-442E-9A94-110945C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E4C40-5095-4658-8D6B-1D1FD21D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76E68-46DD-46FB-A939-10F9FBBF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367F-2D57-425F-B237-EBC93435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E5DF-A72D-408C-8D77-761BDD0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0070-FF72-4539-A21F-7171D3F6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2C0-321F-430A-895A-8821878F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F3A67-523D-4D66-9FBA-70063EB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9CC9C-EE6C-40B8-A3AA-44B57171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FB63-DFAA-49DE-B5CA-F4EAC699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690F-5CCC-465E-910B-63F12A0B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E6D17-11B3-4CF9-AE9A-AD2C71EF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20CA-8EC6-41B1-BFFB-0191D4B5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41AD-143C-428F-AB32-C50F26A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48E7C-742A-493A-B390-CDC14003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5836-7ED4-4CB0-846F-A07266FA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0CFE5-8B3D-4BB0-8E1E-99638DA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C15-D481-4477-A09B-97F42D9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C94EF-D64A-45DE-BC57-1EA9C491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8E76F-C143-4DF2-83C6-C08A9BF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AA841-3B94-411C-8FF0-EC76B34D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51987-DD24-4B44-927B-8892C8CD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E05FD-2CDF-4B48-BD86-36E3260B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B462A-21A0-4846-A5FE-92FBD49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4AA7C-72A0-4143-962F-0975A62E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236E3-16C0-447C-9D9A-BACF671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E7E32-5222-4F6C-8A66-607AF5A9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294C4-B4C2-4D7E-9421-26AD465C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C74-56C8-4192-993D-CC5F8699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822C6-AACF-4B5D-BA07-D8F5659F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B136F-C930-4BC3-BB1D-CA1E6887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33984-2128-4951-836C-C2BB75B4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041A6-3CFF-44B6-B095-98B2BE8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6C54C-7E5A-4B8F-8F22-E5A3CEF1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2F87D-2ADE-4849-BD25-38FEBC2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C5069-900C-4FB9-9E24-665E5593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22BA3D-EE05-46E7-9690-DD87A015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02F0D-7F8C-4BB7-866D-890AC41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B397F-306D-4E14-9E5E-7D6DCAF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890-90A4-4CAD-BB1E-31BCB039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668CA-7A10-48EC-A207-45D1D25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CFB93-E627-4407-9E1C-2E9BB67E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48213-2E24-4CB3-8899-876CDE8B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75FE3-66E2-42CF-8373-70DB7BC7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EC2BA-3132-484F-B1C1-AB346CCF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B303B-97C8-4BBE-8866-54939B43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B880F-A387-4EE3-8D35-0AFFB68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10F2C-F8E0-437F-AF6F-D6B5BCF1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CFC8C-1F26-4DD4-A35D-FCCBDF41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1D74D-89FC-48F6-AB58-14174A9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EA3-4E6E-4B3F-9DA3-8F10D80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B92B5-055F-4124-A3A1-9A5D4979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AB735-3904-4616-9DA2-B72D70E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A580E-EA8B-4BAC-BF09-7B6D9213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A5A6E-33A3-4DEC-AEEC-ED23B7D7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6C831-54CB-411B-A6C1-1C77D9A3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B15-5EA8-4066-B538-FD66D89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AED8-3DCF-4650-8986-F08647A91C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0E71-C166-40F7-86E3-94BBA9C64C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4DA3-5A56-4FAA-A66C-8B7C827C2CB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11E7-AB61-4053-B901-964ACED06F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3E1-6B03-4479-A499-230E6237589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3397-879C-4D03-961C-E40C6B795E4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DCC-11B1-4459-8A21-91EBE8F58D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ТЕХНИКА: ОБЪЕМНАЯ АППЛИКАЦИЯ ИЗ ЯИЧНОЙ СКОРЛУПЫ «ЦВЕТОЧНАЯ ФАНТАЗИЯ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Содержимое 3" descr="DSC_4184.JPG"/>
          <p:cNvPicPr/>
          <p:nvPr/>
        </p:nvPicPr>
        <p:blipFill>
          <a:blip r:embed="rId1"/>
          <a:stretch/>
        </p:blipFill>
        <p:spPr>
          <a:xfrm>
            <a:off x="1928880" y="1928880"/>
            <a:ext cx="48736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ЫРЕЗАЕМ ИЗ ЯИЧНОЙ УПАКОВКИ ЯЧЕЙ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Содержимое 3" descr="DSC_4189.JPG"/>
          <p:cNvPicPr/>
          <p:nvPr/>
        </p:nvPicPr>
        <p:blipFill>
          <a:blip r:embed="rId1"/>
          <a:stretch/>
        </p:blipFill>
        <p:spPr>
          <a:xfrm>
            <a:off x="1754280" y="1357200"/>
            <a:ext cx="487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ЫРЕЗАЕМ ИЗ ЯЧЕЕК ЦВЕТ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6" descr="DSC_4190.JPG"/>
          <p:cNvPicPr/>
          <p:nvPr/>
        </p:nvPicPr>
        <p:blipFill>
          <a:blip r:embed="rId1"/>
          <a:stretch/>
        </p:blipFill>
        <p:spPr>
          <a:xfrm>
            <a:off x="500040" y="1571760"/>
            <a:ext cx="3429000" cy="464328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7" descr="DSC_4188.JPG"/>
          <p:cNvPicPr/>
          <p:nvPr/>
        </p:nvPicPr>
        <p:blipFill>
          <a:blip r:embed="rId2"/>
          <a:stretch/>
        </p:blipFill>
        <p:spPr>
          <a:xfrm>
            <a:off x="4270320" y="1571760"/>
            <a:ext cx="3657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ЗАКРУГЛЯЕМ У ЛЕПЕСТКОВ УГОЛК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6" descr="DSC_4193.JPG"/>
          <p:cNvPicPr/>
          <p:nvPr/>
        </p:nvPicPr>
        <p:blipFill>
          <a:blip r:embed="rId1"/>
          <a:stretch/>
        </p:blipFill>
        <p:spPr>
          <a:xfrm>
            <a:off x="457200" y="1643040"/>
            <a:ext cx="3657600" cy="450072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7" descr="DSC_4194.JPG"/>
          <p:cNvPicPr/>
          <p:nvPr/>
        </p:nvPicPr>
        <p:blipFill>
          <a:blip r:embed="rId2"/>
          <a:stretch/>
        </p:blipFill>
        <p:spPr>
          <a:xfrm>
            <a:off x="4270320" y="1643040"/>
            <a:ext cx="365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ИЗГОТАВЛИВАЕМ НЕСКОЛЬКО ЦВЕТОВ И ВКЛАДЫВАЕМ ДРУГ В ДРУГ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6" descr="DSC_4199.JPG"/>
          <p:cNvPicPr/>
          <p:nvPr/>
        </p:nvPicPr>
        <p:blipFill>
          <a:blip r:embed="rId1"/>
          <a:stretch/>
        </p:blipFill>
        <p:spPr>
          <a:xfrm>
            <a:off x="457200" y="2000160"/>
            <a:ext cx="3657600" cy="464364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7" descr="DSC_4200.JPG"/>
          <p:cNvPicPr/>
          <p:nvPr/>
        </p:nvPicPr>
        <p:blipFill>
          <a:blip r:embed="rId2"/>
          <a:stretch/>
        </p:blipFill>
        <p:spPr>
          <a:xfrm>
            <a:off x="4270320" y="2000160"/>
            <a:ext cx="3657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РАСКРАШИВАЕМ ПОЛУЧЕННЫЙ ЦВЕТОК ГУАШЬЮ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DSC_4202.JPG"/>
          <p:cNvPicPr/>
          <p:nvPr/>
        </p:nvPicPr>
        <p:blipFill>
          <a:blip r:embed="rId1"/>
          <a:stretch/>
        </p:blipFill>
        <p:spPr>
          <a:xfrm>
            <a:off x="1754280" y="1500120"/>
            <a:ext cx="487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2c16"/>
                </a:solidFill>
                <a:latin typeface="Century Schoolbook"/>
              </a:rPr>
              <a:t>ПОЛУЧАЮТСЯ КРАСИВЫЕ ЦВЕТ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Содержимое 3" descr="DSC_4196.JPG"/>
          <p:cNvPicPr/>
          <p:nvPr/>
        </p:nvPicPr>
        <p:blipFill>
          <a:blip r:embed="rId1"/>
          <a:stretch/>
        </p:blipFill>
        <p:spPr>
          <a:xfrm>
            <a:off x="511200" y="1600200"/>
            <a:ext cx="7359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357200"/>
            <a:ext cx="74674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3:05:59Z</dcterms:created>
  <dc:creator>Людмила</dc:creator>
  <dc:description/>
  <dc:language>en-US</dc:language>
  <cp:lastModifiedBy>Людмила</cp:lastModifiedBy>
  <dcterms:modified xsi:type="dcterms:W3CDTF">2015-11-15T13:29:28Z</dcterms:modified>
  <cp:revision>3</cp:revision>
  <dc:subject/>
  <dc:title>Техника: объемная аппликация из яичной скорлупы</dc:title>
</cp:coreProperties>
</file>