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337-694C-4E93-9242-25DA6E07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B28-B9BD-45E5-887C-9B8042F6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9B9-B379-4DF6-A8C2-06A667FE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56D-D57E-472C-B4AD-915E1823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F37-775E-456A-B925-2EA6B1CC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E1B-0498-449B-9D7B-B6385627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86C-E4FA-4708-A88A-5E7C251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89E-1881-43EC-8AAE-5284375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B2F-6DB6-4807-A0CB-8109AF40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D2C-AAEB-4857-BE22-1317483B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E8D-1E9A-4E8A-B6E6-F466FA9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A32-CD2F-4F48-97A0-8C56498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84D-A6FA-4713-84BF-1C910BA89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oshkin_dom_(Отрывок).mp4" descr=""/>
          <p:cNvPicPr/>
          <p:nvPr/>
        </p:nvPicPr>
        <p:blipFill>
          <a:blip r:embed="rId1"/>
          <a:stretch/>
        </p:blipFill>
        <p:spPr>
          <a:xfrm>
            <a:off x="0" y="-27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-20520" y="-184320"/>
            <a:ext cx="4305240" cy="3678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206960" y="-334800"/>
            <a:ext cx="4937040" cy="399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3"/>
          <a:stretch/>
        </p:blipFill>
        <p:spPr>
          <a:xfrm>
            <a:off x="-36360" y="3484440"/>
            <a:ext cx="4227480" cy="3446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4"/>
          <a:stretch/>
        </p:blipFill>
        <p:spPr>
          <a:xfrm>
            <a:off x="4191120" y="3519360"/>
            <a:ext cx="49003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-217440" y="-100080"/>
            <a:ext cx="9361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-217440" y="-100080"/>
            <a:ext cx="9361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30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4591080" y="189000"/>
            <a:ext cx="401652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880920" y="1125360"/>
            <a:ext cx="29671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-227160" y="-171360"/>
            <a:ext cx="9552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50920" y="-366840"/>
            <a:ext cx="8353440" cy="7224840"/>
          </a:xfrm>
          <a:prstGeom prst="rect">
            <a:avLst/>
          </a:prstGeom>
          <a:ln w="0">
            <a:noFill/>
          </a:ln>
        </p:spPr>
      </p:pic>
      <p:pic>
        <p:nvPicPr>
          <p:cNvPr id="57" name="Пожарная сирена.mp3" descr=""/>
          <p:cNvPicPr/>
          <p:nvPr/>
        </p:nvPicPr>
        <p:blipFill>
          <a:blip r:embed="rId2"/>
          <a:stretch/>
        </p:blipFill>
        <p:spPr>
          <a:xfrm>
            <a:off x="468360" y="570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66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227160" y="-171360"/>
            <a:ext cx="9552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7:23:50Z</dcterms:created>
  <dc:creator>Жуков</dc:creator>
  <dc:description/>
  <dc:language>en-US</dc:language>
  <cp:lastModifiedBy>Ольга</cp:lastModifiedBy>
  <dcterms:modified xsi:type="dcterms:W3CDTF">2016-03-29T11:47:54Z</dcterms:modified>
  <cp:revision>19</cp:revision>
  <dc:subject/>
  <dc:title>Слайд 1</dc:title>
</cp:coreProperties>
</file>