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6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5.png" ContentType="image/png"/>
  <Override PartName="/ppt/media/image19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CBCF-8D51-4210-96AD-1E38D923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2A6F-CAE7-4981-B781-24AD592C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5806-B89A-40D7-95A0-E990DDE8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55C8-B865-4085-B767-062AE781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9EF7-2408-4680-849A-E743F9A8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1720-21C9-4427-BD40-35BC8015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6DB1-E274-4A28-9935-0778F6B8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29ED-4B82-4D20-B73A-DEE7D0D5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3739-8396-43A9-8772-B63C8986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6B12-F592-421F-8EB7-5E2C10B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E20C-9624-41B5-89D9-283810B8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36949-95F1-4BEF-B4FE-E4DE8088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B8A0-942B-49DE-BD94-C1211AE6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3511-3093-4255-9799-827BED6B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7744-0E8E-45D0-B0E0-CCCEABB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14D1-B60D-49AB-B1DC-91F9F484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2A77-604B-4E8A-8FC2-F95D25B1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E369-E853-447B-B843-56F54319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5366-8EFD-48C4-A4D4-8F25EC72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8436-6D02-4DDB-B9F0-23F90D22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2B37-DDFA-4178-8D78-61BDEB8B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F3AD-8389-4E59-8BBB-7065C258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80B6-BE99-40D6-8838-941F5100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ED76-EF81-437E-A0AC-0B0C3EE7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1602-ED4B-48AA-9C7F-6CD84527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0080C-2B1C-40BD-B8F2-AD865D6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B0AC-1AB1-4A29-A990-D4BEFCE2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AC93-7989-47F1-8C3A-9B26E77C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24D9-2F2B-40DD-937D-F76A75B9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E1EE-D5A1-4A7B-9E83-AB91F1C2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F3F9-F79B-4445-8F1A-3E6CD9A2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6010-5E0B-4592-8054-AB32B74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59EA2-2DEE-420A-A9BD-E3CEB94C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F69D-06C9-4868-B7E0-6ED55F7C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E0B69-1C94-4B67-9FD4-3C54F24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172D4-8333-4DF7-96C1-4618AA6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6BDF-3AC8-48E0-93DF-4D0CEA37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BF7A-F6E1-4F24-885C-F6567A86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4B89-681A-4D8E-AD5A-8BBA110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8B7F-EF43-4C50-A0DD-47CA4C95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4725-3FAA-4652-B888-E522877A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CBC7-AC7B-42FD-9009-03AC6AF4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C070-F16D-4469-A072-7E07BD83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D5C8-7941-4F5A-80FA-7749D34E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C6E2-7DD2-4BB5-81AC-2727EFCA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FFBB-64F4-43C4-847F-36A28354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AEA8-0047-4E1B-B1D2-4F69BC4B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A3A2-78EC-4AA8-919A-5CDDD092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E217-A47E-45D1-A31B-2B5A1014A2C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D8E0-0417-443D-83A7-8CC0F6D05D0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DDA8-0AE8-4836-B139-E6F7C0966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538D-198B-4EF5-8E4A-08375AABDB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212" name="Rectangle 13" descr=""/>
          <p:cNvPicPr/>
          <p:nvPr/>
        </p:nvPicPr>
        <p:blipFill>
          <a:blip r:embed="rId1"/>
          <a:stretch/>
        </p:blipFill>
        <p:spPr>
          <a:xfrm>
            <a:off x="895320" y="2249640"/>
            <a:ext cx="7900920" cy="2298600"/>
          </a:xfrm>
          <a:prstGeom prst="rect">
            <a:avLst/>
          </a:prstGeom>
          <a:ln w="0">
            <a:noFill/>
          </a:ln>
        </p:spPr>
      </p:pic>
      <p:pic>
        <p:nvPicPr>
          <p:cNvPr id="213" name="ВСТУПЛЕНИЕ.wav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90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СУДЕБНАЯ ВЛАСТЬ В РФ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2843280" y="1628640"/>
            <a:ext cx="3672000" cy="1152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СУДО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5580000" y="3068640"/>
            <a:ext cx="316872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5076720" y="386064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ГОЛО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8"/>
          <p:cNvSpPr/>
          <p:nvPr/>
        </p:nvSpPr>
        <p:spPr>
          <a:xfrm>
            <a:off x="900000" y="3860640"/>
            <a:ext cx="3529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ДМИНИСТРА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395280" y="306864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5dfd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ИТУЦИО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468360" y="5013360"/>
            <a:ext cx="2232000" cy="11304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f6fc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ЫСШ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СУДЕБ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ОРГАН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AutoShape 11"/>
          <p:cNvCxnSpPr>
            <a:stCxn id="294" idx="1"/>
            <a:endCxn id="298" idx="0"/>
          </p:cNvCxnSpPr>
          <p:nvPr/>
        </p:nvCxnSpPr>
        <p:spPr>
          <a:xfrm flipV="1" rot="10800000">
            <a:off x="2052000" y="2203920"/>
            <a:ext cx="791280" cy="86436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12"/>
          <p:cNvCxnSpPr>
            <a:stCxn id="294" idx="3"/>
            <a:endCxn id="295" idx="0"/>
          </p:cNvCxnSpPr>
          <p:nvPr/>
        </p:nvCxnSpPr>
        <p:spPr>
          <a:xfrm>
            <a:off x="6514920" y="2204640"/>
            <a:ext cx="649800" cy="86436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Line 13"/>
          <p:cNvSpPr/>
          <p:nvPr/>
        </p:nvSpPr>
        <p:spPr>
          <a:xfrm flipH="1">
            <a:off x="4211640" y="2781360"/>
            <a:ext cx="50472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4716360" y="2781360"/>
            <a:ext cx="576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4211640" y="4653000"/>
            <a:ext cx="4321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f6fc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СТИТУЦИОННЫЙ С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211640" y="5373720"/>
            <a:ext cx="4321080" cy="576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f6fc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ХОВНЫЙ С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17"/>
          <p:cNvSpPr/>
          <p:nvPr/>
        </p:nvSpPr>
        <p:spPr>
          <a:xfrm>
            <a:off x="4211640" y="6093000"/>
            <a:ext cx="4321080" cy="576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f6fc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СШИЙ АРБИТРАЖНЫЙ С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2700360" y="4941720"/>
            <a:ext cx="151128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2700360" y="5589720"/>
            <a:ext cx="151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2700360" y="5589720"/>
            <a:ext cx="151128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>
            <a:hlinkClick r:id="rId1" action="ppaction://hlinksldjump"/>
          </p:cNvPr>
          <p:cNvSpPr/>
          <p:nvPr/>
        </p:nvSpPr>
        <p:spPr>
          <a:xfrm>
            <a:off x="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10800"/>
                </a:moveTo>
                <a:lnTo>
                  <a:pt x="22665" y="3794"/>
                </a:lnTo>
                <a:lnTo>
                  <a:pt x="22665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 федерализма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250920" y="1628640"/>
            <a:ext cx="863640" cy="1079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79640"/>
              <a:gd name="textAreaBottom" fmla="*/ 1023840 h 10796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116000" y="1574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федер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их статьях Конституции РФ определе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тивное устройство государ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3276720" y="4005360"/>
            <a:ext cx="2449440" cy="1008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Россий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Федер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6516720" y="3213000"/>
            <a:ext cx="2303280" cy="79056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3132000" y="5445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дера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324000" y="5157720"/>
            <a:ext cx="2376360" cy="86364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ла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9"/>
          <p:cNvSpPr/>
          <p:nvPr/>
        </p:nvSpPr>
        <p:spPr>
          <a:xfrm>
            <a:off x="3348000" y="2781360"/>
            <a:ext cx="2303640" cy="79200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324000" y="3213000"/>
            <a:ext cx="2303280" cy="79236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спуб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6516720" y="5157720"/>
            <a:ext cx="2303280" cy="863640"/>
          </a:xfrm>
          <a:prstGeom prst="roundRect">
            <a:avLst>
              <a:gd name="adj" fmla="val 1666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ру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4500720" y="501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3"/>
          <p:cNvSpPr/>
          <p:nvPr/>
        </p:nvSpPr>
        <p:spPr>
          <a:xfrm flipV="1">
            <a:off x="4500720" y="357336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 flipH="1" flipV="1">
            <a:off x="2627280" y="3644640"/>
            <a:ext cx="649440" cy="93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 flipH="1">
            <a:off x="2700000" y="4581360"/>
            <a:ext cx="57636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16"/>
          <p:cNvSpPr/>
          <p:nvPr/>
        </p:nvSpPr>
        <p:spPr>
          <a:xfrm flipV="1">
            <a:off x="5724360" y="3644640"/>
            <a:ext cx="792360" cy="863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5724360" y="4508640"/>
            <a:ext cx="79236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569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ция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о  государство,  составными частями которого являются относительно самостоятельные государственные образования (штаты, земли, республики, области и т.д.); форма государственно-территориального устройства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AutoShape 29">
            <a:hlinkClick r:id="rId1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d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Главные принципы </a:t>
            </a:r>
            <a:br>
              <a:rPr sz="3800"/>
            </a:b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федеративного устройства РФ: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6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ноправие субъектов Российской Федер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сударственная целост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о народов на самоопредел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50920" y="3573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250920" y="472428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25092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257480" y="3573360"/>
            <a:ext cx="65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Конституции РФ определе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шеперечисленные принцип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262160" y="4797360"/>
            <a:ext cx="74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беспечивается государственная целост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1262520" y="5805360"/>
            <a:ext cx="628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во современное понимание принцип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определения народ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5" descr="СКраснодар"/>
          <p:cNvPicPr/>
          <p:nvPr/>
        </p:nvPicPr>
        <p:blipFill>
          <a:blip r:embed="rId1"/>
          <a:srcRect l="0" t="0" r="0" b="72613"/>
          <a:stretch/>
        </p:blipFill>
        <p:spPr>
          <a:xfrm>
            <a:off x="7380360" y="4292640"/>
            <a:ext cx="1533600" cy="18003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38" name="Picture 13" descr="Кабарда"/>
          <p:cNvPicPr/>
          <p:nvPr/>
        </p:nvPicPr>
        <p:blipFill>
          <a:blip r:embed="rId2"/>
          <a:srcRect l="0" t="0" r="0" b="72613"/>
          <a:stretch/>
        </p:blipFill>
        <p:spPr>
          <a:xfrm>
            <a:off x="5003640" y="4292640"/>
            <a:ext cx="1597320" cy="182700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39" name="Picture 12" descr="ингушетия"/>
          <p:cNvPicPr/>
          <p:nvPr/>
        </p:nvPicPr>
        <p:blipFill>
          <a:blip r:embed="rId3"/>
          <a:srcRect l="0" t="0" r="0" b="72613"/>
          <a:stretch/>
        </p:blipFill>
        <p:spPr>
          <a:xfrm>
            <a:off x="2627280" y="4365720"/>
            <a:ext cx="1531800" cy="175392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40" name="Picture 9" descr="Адыгея"/>
          <p:cNvPicPr/>
          <p:nvPr/>
        </p:nvPicPr>
        <p:blipFill>
          <a:blip r:embed="rId4"/>
          <a:srcRect l="0" t="0" r="0" b="72613"/>
          <a:stretch/>
        </p:blipFill>
        <p:spPr>
          <a:xfrm>
            <a:off x="179280" y="4365720"/>
            <a:ext cx="1533600" cy="175572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Гарантии </a:t>
            </a:r>
            <a:br>
              <a:rPr sz="3800"/>
            </a:b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местного самоуправления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24000" y="1989000"/>
            <a:ext cx="863280" cy="100836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360"/>
              <a:gd name="textAreaBottom" fmla="*/ 952560 h 1008360"/>
            </a:gdLst>
            <a:ahLst/>
            <a:rect l="textAreaLeft" t="textAreaTop" r="textAreaRight" b="textAreaBottom"/>
            <a:pathLst>
              <a:path w="21600" h="25229">
                <a:moveTo>
                  <a:pt x="0" y="0"/>
                </a:moveTo>
                <a:lnTo>
                  <a:pt x="21600" y="0"/>
                </a:lnTo>
                <a:lnTo>
                  <a:pt x="21600" y="25229"/>
                </a:lnTo>
                <a:lnTo>
                  <a:pt x="0" y="25229"/>
                </a:lnTo>
                <a:close/>
              </a:path>
              <a:path fill="lightenLess" w="21600" h="252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9">
                <a:moveTo>
                  <a:pt x="21600" y="0"/>
                </a:moveTo>
                <a:lnTo>
                  <a:pt x="21600" y="25229"/>
                </a:lnTo>
                <a:lnTo>
                  <a:pt x="20200" y="23829"/>
                </a:lnTo>
                <a:lnTo>
                  <a:pt x="20200" y="1400"/>
                </a:lnTo>
                <a:close/>
              </a:path>
              <a:path fill="darkenLess" w="21600" h="25229">
                <a:moveTo>
                  <a:pt x="21600" y="25229"/>
                </a:moveTo>
                <a:lnTo>
                  <a:pt x="0" y="25229"/>
                </a:lnTo>
                <a:lnTo>
                  <a:pt x="1400" y="23829"/>
                </a:lnTo>
                <a:lnTo>
                  <a:pt x="20200" y="23829"/>
                </a:lnTo>
                <a:close/>
              </a:path>
              <a:path fill="lighten" w="21600" h="25229">
                <a:moveTo>
                  <a:pt x="0" y="252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9"/>
                </a:lnTo>
                <a:close/>
              </a:path>
              <a:path fill="darken" w="21600" h="25229">
                <a:moveTo>
                  <a:pt x="10800" y="1661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29">
                <a:moveTo>
                  <a:pt x="11905" y="16096"/>
                </a:moveTo>
                <a:lnTo>
                  <a:pt x="11905" y="14137"/>
                </a:lnTo>
                <a:cubicBezTo>
                  <a:pt x="11905" y="13311"/>
                  <a:pt x="12236" y="12614"/>
                  <a:pt x="12837" y="12614"/>
                </a:cubicBezTo>
                <a:cubicBezTo>
                  <a:pt x="13968" y="12614"/>
                  <a:pt x="14865" y="11248"/>
                  <a:pt x="14865" y="9664"/>
                </a:cubicBezTo>
                <a:cubicBezTo>
                  <a:pt x="14865" y="7349"/>
                  <a:pt x="13011" y="5608"/>
                  <a:pt x="10800" y="5608"/>
                </a:cubicBezTo>
                <a:cubicBezTo>
                  <a:pt x="8589" y="5608"/>
                  <a:pt x="6918" y="7349"/>
                  <a:pt x="6918" y="9664"/>
                </a:cubicBezTo>
                <a:lnTo>
                  <a:pt x="8772" y="9664"/>
                </a:lnTo>
                <a:cubicBezTo>
                  <a:pt x="8772" y="8524"/>
                  <a:pt x="9695" y="7636"/>
                  <a:pt x="10800" y="7636"/>
                </a:cubicBezTo>
                <a:cubicBezTo>
                  <a:pt x="11905" y="7636"/>
                  <a:pt x="12837" y="8524"/>
                  <a:pt x="12837" y="9664"/>
                </a:cubicBezTo>
                <a:cubicBezTo>
                  <a:pt x="12837" y="10404"/>
                  <a:pt x="12367" y="11135"/>
                  <a:pt x="11905" y="11135"/>
                </a:cubicBezTo>
                <a:cubicBezTo>
                  <a:pt x="10800" y="11135"/>
                  <a:pt x="9695" y="12614"/>
                  <a:pt x="9695" y="14137"/>
                </a:cubicBezTo>
                <a:lnTo>
                  <a:pt x="9695" y="1609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183320" y="1916280"/>
            <a:ext cx="77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«местное самоуправление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 главы 1 Конституции РФ говорится 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рантиях местного самоуправл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324000" y="3213000"/>
            <a:ext cx="863280" cy="100800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20">
                <a:moveTo>
                  <a:pt x="0" y="0"/>
                </a:moveTo>
                <a:lnTo>
                  <a:pt x="21600" y="0"/>
                </a:lnTo>
                <a:lnTo>
                  <a:pt x="21600" y="25220"/>
                </a:lnTo>
                <a:lnTo>
                  <a:pt x="0" y="25220"/>
                </a:lnTo>
                <a:close/>
              </a:path>
              <a:path fill="lightenLess" w="21600" h="25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0">
                <a:moveTo>
                  <a:pt x="21600" y="0"/>
                </a:moveTo>
                <a:lnTo>
                  <a:pt x="21600" y="25220"/>
                </a:lnTo>
                <a:lnTo>
                  <a:pt x="20200" y="23820"/>
                </a:lnTo>
                <a:lnTo>
                  <a:pt x="20200" y="1400"/>
                </a:lnTo>
                <a:close/>
              </a:path>
              <a:path fill="darkenLess" w="21600" h="25220">
                <a:moveTo>
                  <a:pt x="21600" y="25220"/>
                </a:moveTo>
                <a:lnTo>
                  <a:pt x="0" y="25220"/>
                </a:lnTo>
                <a:lnTo>
                  <a:pt x="1400" y="23820"/>
                </a:lnTo>
                <a:lnTo>
                  <a:pt x="20200" y="23820"/>
                </a:lnTo>
                <a:close/>
              </a:path>
              <a:path fill="lighten" w="21600" h="25220">
                <a:moveTo>
                  <a:pt x="0" y="25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0"/>
                </a:lnTo>
                <a:close/>
              </a:path>
              <a:path fill="darken" w="21600" h="25220">
                <a:moveTo>
                  <a:pt x="10800" y="166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20">
                <a:moveTo>
                  <a:pt x="11905" y="16091"/>
                </a:moveTo>
                <a:lnTo>
                  <a:pt x="11905" y="14133"/>
                </a:lnTo>
                <a:cubicBezTo>
                  <a:pt x="11905" y="13306"/>
                  <a:pt x="12236" y="12610"/>
                  <a:pt x="12837" y="12610"/>
                </a:cubicBezTo>
                <a:cubicBezTo>
                  <a:pt x="13968" y="12610"/>
                  <a:pt x="14865" y="11243"/>
                  <a:pt x="14865" y="9659"/>
                </a:cubicBezTo>
                <a:cubicBezTo>
                  <a:pt x="14865" y="7344"/>
                  <a:pt x="13011" y="5603"/>
                  <a:pt x="10800" y="5603"/>
                </a:cubicBezTo>
                <a:cubicBezTo>
                  <a:pt x="8589" y="5603"/>
                  <a:pt x="6918" y="7344"/>
                  <a:pt x="6918" y="9659"/>
                </a:cubicBezTo>
                <a:lnTo>
                  <a:pt x="8772" y="9659"/>
                </a:lnTo>
                <a:cubicBezTo>
                  <a:pt x="8772" y="8519"/>
                  <a:pt x="9695" y="7631"/>
                  <a:pt x="10800" y="7631"/>
                </a:cubicBezTo>
                <a:cubicBezTo>
                  <a:pt x="11905" y="7631"/>
                  <a:pt x="12837" y="8519"/>
                  <a:pt x="12837" y="9659"/>
                </a:cubicBezTo>
                <a:cubicBezTo>
                  <a:pt x="12837" y="10399"/>
                  <a:pt x="12367" y="11130"/>
                  <a:pt x="11905" y="11130"/>
                </a:cubicBezTo>
                <a:cubicBezTo>
                  <a:pt x="10800" y="11130"/>
                  <a:pt x="9695" y="12610"/>
                  <a:pt x="9695" y="14133"/>
                </a:cubicBezTo>
                <a:lnTo>
                  <a:pt x="9695" y="1609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330920" y="3141720"/>
            <a:ext cx="76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органы местного самоуправ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траханской области. Что вы знаете о способах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10" descr="Астрахань"/>
          <p:cNvPicPr/>
          <p:nvPr/>
        </p:nvPicPr>
        <p:blipFill>
          <a:blip r:embed="rId5"/>
          <a:srcRect l="4901" t="0" r="3513" b="71178"/>
          <a:stretch/>
        </p:blipFill>
        <p:spPr>
          <a:xfrm>
            <a:off x="3870360" y="4653000"/>
            <a:ext cx="1422360" cy="18003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47" name="Picture 11" descr="Дагестан"/>
          <p:cNvPicPr/>
          <p:nvPr/>
        </p:nvPicPr>
        <p:blipFill>
          <a:blip r:embed="rId6"/>
          <a:srcRect l="0" t="0" r="0" b="72613"/>
          <a:stretch/>
        </p:blipFill>
        <p:spPr>
          <a:xfrm>
            <a:off x="1476360" y="4653000"/>
            <a:ext cx="1479600" cy="18003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348" name="Picture 14" descr="Карачаево-черк"/>
          <p:cNvPicPr/>
          <p:nvPr/>
        </p:nvPicPr>
        <p:blipFill>
          <a:blip r:embed="rId7"/>
          <a:srcRect l="4635" t="0" r="3838" b="72613"/>
          <a:stretch/>
        </p:blipFill>
        <p:spPr>
          <a:xfrm>
            <a:off x="6300720" y="4653000"/>
            <a:ext cx="1440000" cy="18003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</p:spTree>
  </p:cSld>
  <p:transition>
    <p:diamond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2" descr="25967_20001010013330"/>
          <p:cNvPicPr/>
          <p:nvPr/>
        </p:nvPicPr>
        <p:blipFill>
          <a:blip r:embed="rId1"/>
          <a:stretch/>
        </p:blipFill>
        <p:spPr>
          <a:xfrm rot="332400">
            <a:off x="3995640" y="4220640"/>
            <a:ext cx="1800360" cy="13446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Политическое и идеологическое многообразие, многопартийность (ст.13)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1" name="Picture 6" descr="img366"/>
          <p:cNvPicPr/>
          <p:nvPr/>
        </p:nvPicPr>
        <p:blipFill>
          <a:blip r:embed="rId2"/>
          <a:srcRect l="6090" t="6712" r="14143" b="8272"/>
          <a:stretch/>
        </p:blipFill>
        <p:spPr>
          <a:xfrm>
            <a:off x="3492360" y="1700280"/>
            <a:ext cx="2374920" cy="2520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108607"/>
          <p:cNvPicPr/>
          <p:nvPr/>
        </p:nvPicPr>
        <p:blipFill>
          <a:blip r:embed="rId3"/>
          <a:srcRect l="0" t="15754" r="0" b="15929"/>
          <a:stretch/>
        </p:blipFill>
        <p:spPr>
          <a:xfrm rot="21273000">
            <a:off x="826920" y="3428640"/>
            <a:ext cx="259092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39593813"/>
          <p:cNvPicPr/>
          <p:nvPr/>
        </p:nvPicPr>
        <p:blipFill>
          <a:blip r:embed="rId4"/>
          <a:stretch/>
        </p:blipFill>
        <p:spPr>
          <a:xfrm>
            <a:off x="755640" y="1844640"/>
            <a:ext cx="2495520" cy="15336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354" name="Picture 10" descr="39593818"/>
          <p:cNvPicPr/>
          <p:nvPr/>
        </p:nvPicPr>
        <p:blipFill>
          <a:blip r:embed="rId5"/>
          <a:srcRect l="20167" t="0" r="22144" b="0"/>
          <a:stretch/>
        </p:blipFill>
        <p:spPr>
          <a:xfrm>
            <a:off x="6084720" y="1916280"/>
            <a:ext cx="1960560" cy="20890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179280" y="5661000"/>
            <a:ext cx="720720" cy="1008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1008000"/>
              <a:gd name="textAreaBottom" fmla="*/ 961560 h 1008000"/>
            </a:gdLst>
            <a:ahLst/>
            <a:rect l="textAreaLeft" t="textAreaTop" r="textAreaRight" b="textAreaBottom"/>
            <a:pathLst>
              <a:path w="21600" h="30205">
                <a:moveTo>
                  <a:pt x="0" y="0"/>
                </a:moveTo>
                <a:lnTo>
                  <a:pt x="21600" y="0"/>
                </a:lnTo>
                <a:lnTo>
                  <a:pt x="21600" y="30205"/>
                </a:lnTo>
                <a:lnTo>
                  <a:pt x="0" y="30205"/>
                </a:lnTo>
                <a:close/>
              </a:path>
              <a:path fill="lightenLess" w="21600" h="302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05">
                <a:moveTo>
                  <a:pt x="21600" y="0"/>
                </a:moveTo>
                <a:lnTo>
                  <a:pt x="21600" y="30205"/>
                </a:lnTo>
                <a:lnTo>
                  <a:pt x="20200" y="28805"/>
                </a:lnTo>
                <a:lnTo>
                  <a:pt x="20200" y="1400"/>
                </a:lnTo>
                <a:close/>
              </a:path>
              <a:path fill="darkenLess" w="21600" h="30205">
                <a:moveTo>
                  <a:pt x="21600" y="30205"/>
                </a:moveTo>
                <a:lnTo>
                  <a:pt x="0" y="30205"/>
                </a:lnTo>
                <a:lnTo>
                  <a:pt x="1400" y="28805"/>
                </a:lnTo>
                <a:lnTo>
                  <a:pt x="20200" y="28805"/>
                </a:lnTo>
                <a:close/>
              </a:path>
              <a:path fill="lighten" w="21600" h="30205">
                <a:moveTo>
                  <a:pt x="0" y="302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05"/>
                </a:lnTo>
                <a:close/>
              </a:path>
              <a:path fill="darken" w="21600" h="30205">
                <a:moveTo>
                  <a:pt x="10800" y="191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205">
                <a:moveTo>
                  <a:pt x="11905" y="18584"/>
                </a:moveTo>
                <a:lnTo>
                  <a:pt x="11905" y="16626"/>
                </a:lnTo>
                <a:cubicBezTo>
                  <a:pt x="11905" y="15799"/>
                  <a:pt x="12236" y="15103"/>
                  <a:pt x="12837" y="15103"/>
                </a:cubicBezTo>
                <a:cubicBezTo>
                  <a:pt x="13968" y="15103"/>
                  <a:pt x="14865" y="13736"/>
                  <a:pt x="14865" y="12152"/>
                </a:cubicBezTo>
                <a:cubicBezTo>
                  <a:pt x="14865" y="9837"/>
                  <a:pt x="13011" y="8096"/>
                  <a:pt x="10800" y="8096"/>
                </a:cubicBezTo>
                <a:cubicBezTo>
                  <a:pt x="8589" y="8096"/>
                  <a:pt x="6918" y="9837"/>
                  <a:pt x="6918" y="12152"/>
                </a:cubicBezTo>
                <a:lnTo>
                  <a:pt x="8772" y="12152"/>
                </a:lnTo>
                <a:cubicBezTo>
                  <a:pt x="8772" y="11012"/>
                  <a:pt x="9695" y="10124"/>
                  <a:pt x="10800" y="10124"/>
                </a:cubicBezTo>
                <a:cubicBezTo>
                  <a:pt x="11905" y="10124"/>
                  <a:pt x="12837" y="11012"/>
                  <a:pt x="12837" y="12152"/>
                </a:cubicBezTo>
                <a:cubicBezTo>
                  <a:pt x="12837" y="12892"/>
                  <a:pt x="12367" y="13623"/>
                  <a:pt x="11905" y="13623"/>
                </a:cubicBezTo>
                <a:cubicBezTo>
                  <a:pt x="10800" y="13623"/>
                  <a:pt x="9695" y="15103"/>
                  <a:pt x="9695" y="16626"/>
                </a:cubicBezTo>
                <a:lnTo>
                  <a:pt x="9695" y="18584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15" descr="ЯБЛОко"/>
          <p:cNvPicPr/>
          <p:nvPr/>
        </p:nvPicPr>
        <p:blipFill>
          <a:blip r:embed="rId6"/>
          <a:srcRect l="10673" t="12169" r="4671" b="12169"/>
          <a:stretch/>
        </p:blipFill>
        <p:spPr>
          <a:xfrm rot="1013400">
            <a:off x="6084720" y="4005360"/>
            <a:ext cx="2305080" cy="16477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6"/>
          <p:cNvSpPr/>
          <p:nvPr/>
        </p:nvSpPr>
        <p:spPr>
          <a:xfrm>
            <a:off x="924120" y="5516640"/>
            <a:ext cx="82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их случаях согласно Конституции РФ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ственного объединения или политической па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ет быть запреще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868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Принцип социального государства</a:t>
            </a: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250920" y="1773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166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09">
                <a:moveTo>
                  <a:pt x="11905" y="16086"/>
                </a:moveTo>
                <a:lnTo>
                  <a:pt x="11905" y="14128"/>
                </a:lnTo>
                <a:cubicBezTo>
                  <a:pt x="11905" y="13301"/>
                  <a:pt x="12236" y="12605"/>
                  <a:pt x="12837" y="12605"/>
                </a:cubicBezTo>
                <a:cubicBezTo>
                  <a:pt x="13968" y="12605"/>
                  <a:pt x="14865" y="11238"/>
                  <a:pt x="14865" y="9654"/>
                </a:cubicBezTo>
                <a:cubicBezTo>
                  <a:pt x="14865" y="7339"/>
                  <a:pt x="13011" y="5598"/>
                  <a:pt x="10800" y="5598"/>
                </a:cubicBezTo>
                <a:cubicBezTo>
                  <a:pt x="8589" y="5598"/>
                  <a:pt x="6918" y="7339"/>
                  <a:pt x="6918" y="9654"/>
                </a:cubicBezTo>
                <a:lnTo>
                  <a:pt x="8772" y="9654"/>
                </a:lnTo>
                <a:cubicBezTo>
                  <a:pt x="8772" y="8514"/>
                  <a:pt x="9695" y="7626"/>
                  <a:pt x="10800" y="7626"/>
                </a:cubicBezTo>
                <a:cubicBezTo>
                  <a:pt x="11905" y="7626"/>
                  <a:pt x="12837" y="8514"/>
                  <a:pt x="12837" y="9654"/>
                </a:cubicBezTo>
                <a:cubicBezTo>
                  <a:pt x="12837" y="10394"/>
                  <a:pt x="12367" y="11125"/>
                  <a:pt x="11905" y="11125"/>
                </a:cubicBezTo>
                <a:cubicBezTo>
                  <a:pt x="10800" y="11125"/>
                  <a:pt x="9695" y="12605"/>
                  <a:pt x="9695" y="14128"/>
                </a:cubicBezTo>
                <a:lnTo>
                  <a:pt x="9695" y="1608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116000" y="170028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 главы 1 Конституции РФ говорится об этом принципе? Что значит фраза: «Россия – социальное государство»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8172360" y="3213000"/>
            <a:ext cx="576360" cy="3097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50920" y="4292640"/>
            <a:ext cx="2952720" cy="863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ГОСУДАР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3" name="AutoShape 10"/>
          <p:cNvCxnSpPr>
            <a:stCxn id="362" idx="2"/>
            <a:endCxn id="361" idx="2"/>
          </p:cNvCxnSpPr>
          <p:nvPr/>
        </p:nvCxnSpPr>
        <p:spPr>
          <a:xfrm flipH="1" rot="16200000">
            <a:off x="4517280" y="2365920"/>
            <a:ext cx="1154880" cy="6734880"/>
          </a:xfrm>
          <a:prstGeom prst="bentConnector3">
            <a:avLst>
              <a:gd name="adj1" fmla="val 119644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AutoShape 11"/>
          <p:cNvCxnSpPr>
            <a:stCxn id="362" idx="0"/>
            <a:endCxn id="361" idx="0"/>
          </p:cNvCxnSpPr>
          <p:nvPr/>
        </p:nvCxnSpPr>
        <p:spPr>
          <a:xfrm flipH="1" flipV="1" rot="5400000">
            <a:off x="4554360" y="385200"/>
            <a:ext cx="1080360" cy="6734880"/>
          </a:xfrm>
          <a:prstGeom prst="bentConnector3">
            <a:avLst>
              <a:gd name="adj1" fmla="val 121166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12"/>
          <p:cNvSpPr/>
          <p:nvPr/>
        </p:nvSpPr>
        <p:spPr>
          <a:xfrm>
            <a:off x="3132360" y="2924280"/>
            <a:ext cx="41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храна труда и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3"/>
          <p:cNvSpPr/>
          <p:nvPr/>
        </p:nvSpPr>
        <p:spPr>
          <a:xfrm>
            <a:off x="3203640" y="4437000"/>
            <a:ext cx="496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03640" y="3645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ддержка семь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валидов, пожилых граж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1830240" y="5734080"/>
            <a:ext cx="65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арантия минимального разм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платы труда, пенсий, пособий и т.д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3203640" y="5013360"/>
            <a:ext cx="496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3350880" y="501336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а социальных служ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     </a:t>
            </a:r>
            <a:br>
              <a:rPr sz="3800"/>
            </a:br>
            <a:br>
              <a:rPr sz="3800"/>
            </a:br>
            <a:r>
              <a:rPr b="1" lang="ru-RU" sz="3000" spc="-1" strike="noStrike">
                <a:solidFill>
                  <a:srgbClr val="04617b"/>
                </a:solidFill>
                <a:latin typeface="Arial"/>
              </a:rPr>
              <a:t>Единство экономического пространства, многообразие и равенство форм собственности (статья 8).</a:t>
            </a:r>
            <a:br>
              <a:rPr sz="3400"/>
            </a:b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059280" y="2205000"/>
            <a:ext cx="2952720" cy="936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9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Форм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собств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50920" y="3357720"/>
            <a:ext cx="345744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9dd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2556000" y="4221000"/>
            <a:ext cx="3816360" cy="719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dd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сударств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5292720" y="3357720"/>
            <a:ext cx="360036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dd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ницип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" name="AutoShape 11"/>
          <p:cNvCxnSpPr>
            <a:stCxn id="372" idx="1"/>
            <a:endCxn id="373" idx="0"/>
          </p:cNvCxnSpPr>
          <p:nvPr/>
        </p:nvCxnSpPr>
        <p:spPr>
          <a:xfrm flipV="1" rot="10800000">
            <a:off x="1978920" y="2672280"/>
            <a:ext cx="1080360" cy="68508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12"/>
          <p:cNvCxnSpPr>
            <a:stCxn id="372" idx="3"/>
            <a:endCxn id="375" idx="0"/>
          </p:cNvCxnSpPr>
          <p:nvPr/>
        </p:nvCxnSpPr>
        <p:spPr>
          <a:xfrm>
            <a:off x="6011640" y="2673000"/>
            <a:ext cx="1081800" cy="68508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Line 13"/>
          <p:cNvSpPr/>
          <p:nvPr/>
        </p:nvSpPr>
        <p:spPr>
          <a:xfrm>
            <a:off x="4500720" y="3141720"/>
            <a:ext cx="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4"/>
          <p:cNvSpPr/>
          <p:nvPr/>
        </p:nvSpPr>
        <p:spPr>
          <a:xfrm rot="5400000">
            <a:off x="4391280" y="2097720"/>
            <a:ext cx="287280" cy="6118200"/>
          </a:xfrm>
          <a:custGeom>
            <a:avLst/>
            <a:gdLst>
              <a:gd name="textAreaLeft" fmla="*/ 0 w 287280"/>
              <a:gd name="textAreaRight" fmla="*/ 103680 w 287280"/>
              <a:gd name="textAreaTop" fmla="*/ 159480 h 6118200"/>
              <a:gd name="textAreaBottom" fmla="*/ 5958720 h 611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1764360" y="5229360"/>
            <a:ext cx="61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Все формы собственности одинако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защищаются государ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1105200" y="5950080"/>
            <a:ext cx="76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жно ли говорить о создании условий для разви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ыночной экономики на основании ст. 8 Конституции РФ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8"/>
          <p:cNvSpPr/>
          <p:nvPr/>
        </p:nvSpPr>
        <p:spPr>
          <a:xfrm>
            <a:off x="25092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1297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46" h="21600">
                <a:moveTo>
                  <a:pt x="14078" y="14281"/>
                </a:moveTo>
                <a:lnTo>
                  <a:pt x="14078" y="12323"/>
                </a:lnTo>
                <a:cubicBezTo>
                  <a:pt x="14078" y="11496"/>
                  <a:pt x="14409" y="10800"/>
                  <a:pt x="15010" y="10800"/>
                </a:cubicBezTo>
                <a:cubicBezTo>
                  <a:pt x="16141" y="10800"/>
                  <a:pt x="17038" y="9434"/>
                  <a:pt x="17038" y="7849"/>
                </a:cubicBezTo>
                <a:cubicBezTo>
                  <a:pt x="17038" y="5534"/>
                  <a:pt x="15184" y="3794"/>
                  <a:pt x="12973" y="3794"/>
                </a:cubicBezTo>
                <a:cubicBezTo>
                  <a:pt x="10762" y="3794"/>
                  <a:pt x="9091" y="5534"/>
                  <a:pt x="9091" y="7849"/>
                </a:cubicBezTo>
                <a:lnTo>
                  <a:pt x="10945" y="7849"/>
                </a:lnTo>
                <a:cubicBezTo>
                  <a:pt x="10945" y="6709"/>
                  <a:pt x="11868" y="5821"/>
                  <a:pt x="12973" y="5821"/>
                </a:cubicBezTo>
                <a:cubicBezTo>
                  <a:pt x="14078" y="5821"/>
                  <a:pt x="15010" y="6709"/>
                  <a:pt x="15010" y="7849"/>
                </a:cubicBezTo>
                <a:cubicBezTo>
                  <a:pt x="15010" y="8589"/>
                  <a:pt x="14540" y="9320"/>
                  <a:pt x="14078" y="9320"/>
                </a:cubicBezTo>
                <a:cubicBezTo>
                  <a:pt x="12973" y="9320"/>
                  <a:pt x="11868" y="10800"/>
                  <a:pt x="11868" y="12323"/>
                </a:cubicBezTo>
                <a:lnTo>
                  <a:pt x="11868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светского государства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179280" y="1413000"/>
            <a:ext cx="792360" cy="9698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969840"/>
              <a:gd name="textAreaBottom" fmla="*/ 918720 h 969840"/>
            </a:gdLst>
            <a:ahLst/>
            <a:rect l="textAreaLeft" t="textAreaTop" r="textAreaRight" b="textAreaBottom"/>
            <a:pathLst>
              <a:path w="21600" h="26436">
                <a:moveTo>
                  <a:pt x="0" y="0"/>
                </a:moveTo>
                <a:lnTo>
                  <a:pt x="21600" y="0"/>
                </a:lnTo>
                <a:lnTo>
                  <a:pt x="21600" y="26436"/>
                </a:lnTo>
                <a:lnTo>
                  <a:pt x="0" y="26436"/>
                </a:lnTo>
                <a:close/>
              </a:path>
              <a:path fill="lightenLess" w="21600" h="26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36">
                <a:moveTo>
                  <a:pt x="21600" y="0"/>
                </a:moveTo>
                <a:lnTo>
                  <a:pt x="21600" y="26436"/>
                </a:lnTo>
                <a:lnTo>
                  <a:pt x="20200" y="25036"/>
                </a:lnTo>
                <a:lnTo>
                  <a:pt x="20200" y="1400"/>
                </a:lnTo>
                <a:close/>
              </a:path>
              <a:path fill="darkenLess" w="21600" h="26436">
                <a:moveTo>
                  <a:pt x="21600" y="26436"/>
                </a:moveTo>
                <a:lnTo>
                  <a:pt x="0" y="26436"/>
                </a:lnTo>
                <a:lnTo>
                  <a:pt x="1400" y="25036"/>
                </a:lnTo>
                <a:lnTo>
                  <a:pt x="20200" y="25036"/>
                </a:lnTo>
                <a:close/>
              </a:path>
              <a:path fill="lighten" w="21600" h="26436">
                <a:moveTo>
                  <a:pt x="0" y="26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36"/>
                </a:lnTo>
                <a:close/>
              </a:path>
              <a:path fill="darken" w="21600" h="26436">
                <a:moveTo>
                  <a:pt x="10800" y="172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436">
                <a:moveTo>
                  <a:pt x="11905" y="16699"/>
                </a:moveTo>
                <a:lnTo>
                  <a:pt x="11905" y="14741"/>
                </a:lnTo>
                <a:cubicBezTo>
                  <a:pt x="11905" y="13914"/>
                  <a:pt x="12236" y="13218"/>
                  <a:pt x="12837" y="13218"/>
                </a:cubicBezTo>
                <a:cubicBezTo>
                  <a:pt x="13968" y="13218"/>
                  <a:pt x="14865" y="11852"/>
                  <a:pt x="14865" y="10267"/>
                </a:cubicBezTo>
                <a:cubicBezTo>
                  <a:pt x="14865" y="7952"/>
                  <a:pt x="13011" y="6212"/>
                  <a:pt x="10800" y="6212"/>
                </a:cubicBezTo>
                <a:cubicBezTo>
                  <a:pt x="8589" y="6212"/>
                  <a:pt x="6918" y="7952"/>
                  <a:pt x="6918" y="10267"/>
                </a:cubicBezTo>
                <a:lnTo>
                  <a:pt x="8772" y="10267"/>
                </a:lnTo>
                <a:cubicBezTo>
                  <a:pt x="8772" y="9127"/>
                  <a:pt x="9695" y="8239"/>
                  <a:pt x="10800" y="8239"/>
                </a:cubicBezTo>
                <a:cubicBezTo>
                  <a:pt x="11905" y="8239"/>
                  <a:pt x="12837" y="9127"/>
                  <a:pt x="12837" y="10267"/>
                </a:cubicBezTo>
                <a:cubicBezTo>
                  <a:pt x="12837" y="11007"/>
                  <a:pt x="12367" y="11738"/>
                  <a:pt x="11905" y="11738"/>
                </a:cubicBezTo>
                <a:cubicBezTo>
                  <a:pt x="10800" y="11738"/>
                  <a:pt x="9695" y="13218"/>
                  <a:pt x="9695" y="14741"/>
                </a:cubicBezTo>
                <a:lnTo>
                  <a:pt x="9695" y="16699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71640" y="141300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мировые религии исповедуются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и РФ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8" descr="православие"/>
          <p:cNvPicPr/>
          <p:nvPr/>
        </p:nvPicPr>
        <p:blipFill>
          <a:blip r:embed="rId1"/>
          <a:stretch/>
        </p:blipFill>
        <p:spPr>
          <a:xfrm>
            <a:off x="468360" y="2637000"/>
            <a:ext cx="4065480" cy="304776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pic>
        <p:nvPicPr>
          <p:cNvPr id="387" name="Picture 9" descr="католичество"/>
          <p:cNvPicPr/>
          <p:nvPr/>
        </p:nvPicPr>
        <p:blipFill>
          <a:blip r:embed="rId2"/>
          <a:stretch/>
        </p:blipFill>
        <p:spPr>
          <a:xfrm>
            <a:off x="4788000" y="2637000"/>
            <a:ext cx="4065480" cy="304776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pic>
        <p:nvPicPr>
          <p:cNvPr id="388" name="Picture 14" descr="буддизм2"/>
          <p:cNvPicPr/>
          <p:nvPr/>
        </p:nvPicPr>
        <p:blipFill>
          <a:blip r:embed="rId3"/>
          <a:stretch/>
        </p:blipFill>
        <p:spPr>
          <a:xfrm>
            <a:off x="4788000" y="2565360"/>
            <a:ext cx="4065480" cy="3048120"/>
          </a:xfrm>
          <a:prstGeom prst="rect">
            <a:avLst/>
          </a:prstGeom>
          <a:ln w="76320">
            <a:solidFill>
              <a:srgbClr val="e2d700"/>
            </a:solidFill>
            <a:miter/>
          </a:ln>
        </p:spPr>
      </p:pic>
      <p:pic>
        <p:nvPicPr>
          <p:cNvPr id="389" name="Picture 13" descr="буддизм"/>
          <p:cNvPicPr/>
          <p:nvPr/>
        </p:nvPicPr>
        <p:blipFill>
          <a:blip r:embed="rId4"/>
          <a:stretch/>
        </p:blipFill>
        <p:spPr>
          <a:xfrm>
            <a:off x="395280" y="2565360"/>
            <a:ext cx="4032360" cy="3292560"/>
          </a:xfrm>
          <a:prstGeom prst="rect">
            <a:avLst/>
          </a:prstGeom>
          <a:ln w="76320">
            <a:solidFill>
              <a:srgbClr val="e2d700"/>
            </a:solidFill>
            <a:miter/>
          </a:ln>
        </p:spPr>
      </p:pic>
      <p:sp>
        <p:nvSpPr>
          <p:cNvPr id="390" name="AutoShape 19"/>
          <p:cNvSpPr/>
          <p:nvPr/>
        </p:nvSpPr>
        <p:spPr>
          <a:xfrm>
            <a:off x="179280" y="6021360"/>
            <a:ext cx="863640" cy="836640"/>
          </a:xfrm>
          <a:custGeom>
            <a:avLst/>
            <a:gdLst>
              <a:gd name="textAreaLeft" fmla="*/ 54000 w 863640"/>
              <a:gd name="textAreaRight" fmla="*/ 809640 w 863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2297" h="21600">
                <a:moveTo>
                  <a:pt x="0" y="0"/>
                </a:moveTo>
                <a:lnTo>
                  <a:pt x="22297" y="0"/>
                </a:lnTo>
                <a:lnTo>
                  <a:pt x="22297" y="21600"/>
                </a:lnTo>
                <a:lnTo>
                  <a:pt x="0" y="21600"/>
                </a:lnTo>
                <a:close/>
              </a:path>
              <a:path fill="lightenLess" w="22297" h="21600">
                <a:moveTo>
                  <a:pt x="0" y="0"/>
                </a:moveTo>
                <a:lnTo>
                  <a:pt x="22297" y="0"/>
                </a:lnTo>
                <a:lnTo>
                  <a:pt x="20897" y="1400"/>
                </a:lnTo>
                <a:lnTo>
                  <a:pt x="1400" y="1400"/>
                </a:lnTo>
                <a:close/>
              </a:path>
              <a:path fill="darken" w="22297" h="21600">
                <a:moveTo>
                  <a:pt x="22297" y="0"/>
                </a:moveTo>
                <a:lnTo>
                  <a:pt x="22297" y="21600"/>
                </a:lnTo>
                <a:lnTo>
                  <a:pt x="20897" y="20200"/>
                </a:lnTo>
                <a:lnTo>
                  <a:pt x="20897" y="1400"/>
                </a:lnTo>
                <a:close/>
              </a:path>
              <a:path fill="darkenLess" w="22297" h="21600">
                <a:moveTo>
                  <a:pt x="22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97" y="20200"/>
                </a:lnTo>
                <a:close/>
              </a:path>
              <a:path fill="lighten" w="22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97" h="21600">
                <a:moveTo>
                  <a:pt x="1114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297" h="21600">
                <a:moveTo>
                  <a:pt x="12254" y="14281"/>
                </a:moveTo>
                <a:lnTo>
                  <a:pt x="12254" y="12323"/>
                </a:lnTo>
                <a:cubicBezTo>
                  <a:pt x="12254" y="11496"/>
                  <a:pt x="12584" y="10800"/>
                  <a:pt x="13185" y="10800"/>
                </a:cubicBezTo>
                <a:cubicBezTo>
                  <a:pt x="14317" y="10800"/>
                  <a:pt x="15213" y="9434"/>
                  <a:pt x="15213" y="7849"/>
                </a:cubicBezTo>
                <a:cubicBezTo>
                  <a:pt x="15213" y="5534"/>
                  <a:pt x="13359" y="3794"/>
                  <a:pt x="11148" y="3794"/>
                </a:cubicBezTo>
                <a:cubicBezTo>
                  <a:pt x="8938" y="3794"/>
                  <a:pt x="7267" y="5534"/>
                  <a:pt x="7267" y="7849"/>
                </a:cubicBezTo>
                <a:lnTo>
                  <a:pt x="9120" y="7849"/>
                </a:lnTo>
                <a:cubicBezTo>
                  <a:pt x="9120" y="6709"/>
                  <a:pt x="10043" y="5821"/>
                  <a:pt x="11148" y="5821"/>
                </a:cubicBezTo>
                <a:cubicBezTo>
                  <a:pt x="12254" y="5821"/>
                  <a:pt x="13185" y="6709"/>
                  <a:pt x="13185" y="7849"/>
                </a:cubicBezTo>
                <a:cubicBezTo>
                  <a:pt x="13185" y="8589"/>
                  <a:pt x="12715" y="9320"/>
                  <a:pt x="12254" y="9320"/>
                </a:cubicBezTo>
                <a:cubicBezTo>
                  <a:pt x="11148" y="9320"/>
                  <a:pt x="10043" y="10800"/>
                  <a:pt x="10043" y="12323"/>
                </a:cubicBezTo>
                <a:lnTo>
                  <a:pt x="10043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286280" y="6035760"/>
            <a:ext cx="76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вы понимаете выражение: «церковь – отдел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государства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76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8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84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Calibri"/>
              </a:rPr>
              <a:t>Конституция РФ обладает высшей юридической силой и прямым действием (статья 15)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93" name="Picture 6" descr="Росси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1989000"/>
            <a:ext cx="6983640" cy="466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94" name="Picture 5" descr="конституцияРФ"/>
          <p:cNvPicPr/>
          <p:nvPr/>
        </p:nvPicPr>
        <p:blipFill>
          <a:blip r:embed="rId3"/>
          <a:srcRect l="0" t="0" r="0" b="1627"/>
          <a:stretch/>
        </p:blipFill>
        <p:spPr>
          <a:xfrm>
            <a:off x="3348000" y="2924280"/>
            <a:ext cx="2217600" cy="29527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395" name="ВСТУПЛЕНИЕ.wav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5" dur="158905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Вопросы для вводной беседы: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ему Конституцию принято называть законом высшей юридической силы? Приведите конкретные примеры из текста Конституции РФ, подтверждающие это полож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акой ценностной основе строится наша Конституция? При ответе используйте текст вступительной статьи Конституции РФ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 знакомы с утверждением о том, что уважение к праву и закону в нашей повседневной жизни начинается с уважения к Конституции РФ. Объясните почему. Какая тут связ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7487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1. </a:t>
            </a:r>
            <a:r>
              <a:rPr b="0" lang="ru-RU" sz="3000" spc="-1" strike="noStrike">
                <a:solidFill>
                  <a:srgbClr val="04617b"/>
                </a:solidFill>
                <a:latin typeface="Arial"/>
              </a:rPr>
              <a:t>В какой главе Конституции определены основы конституционного строя РФ?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3638880" y="692280"/>
            <a:ext cx="152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Arial"/>
              </a:rPr>
              <a:t>Те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324000" y="3860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2. Принцип разделения властей характеризует Россию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542520" y="4724280"/>
            <a:ext cx="450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тивн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ов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ское госуда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540720" y="2349360"/>
            <a:ext cx="206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2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3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4 гла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1800" cy="17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Arial"/>
              </a:rPr>
              <a:t>3.Основополагающим принципом федеративного устройства Российского государства является: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рантии местного самоупра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ноправие субъектов федер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итическое и идеологическое многообраз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системы социальных служ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9840" y="443700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народа в выборах и референдум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ировании органов местного самоупра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в государственной власти через своих представител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вышеперечислен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250920" y="400536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4.Народовластие предусматрива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3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500"/>
                            </p:stCondLst>
                            <p:childTnLst>
                              <p:par>
                                <p:cTn id="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3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29840" y="4221000"/>
            <a:ext cx="871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ладает высшей юридической сил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ет прямое действ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еделяет основные права человека и гражданина РФ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рно все вышеперечислен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698328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етск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деративн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спубли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325440" y="371628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6.Конституция Р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24000" y="9079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5. Отделение церкви от государ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характеризует Россию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7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00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003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Что такое конституционный строй?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государственно-территориального устройст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режим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овое положение личност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политической жизни общест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нципы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аимоотношения государства и религи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Презентация на тему &quot;Конституция&quot;"/>
          <p:cNvPicPr/>
          <p:nvPr/>
        </p:nvPicPr>
        <p:blipFill>
          <a:blip r:embed="rId2"/>
          <a:stretch/>
        </p:blipFill>
        <p:spPr>
          <a:xfrm>
            <a:off x="214200" y="98280"/>
            <a:ext cx="8643960" cy="6469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Человек и гражданин, его права и свободы – высшая ценность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250920" y="198900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87280" y="203976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главы 1 Конституции РФ говорится об этом принцип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3564000" y="2781360"/>
            <a:ext cx="2087640" cy="11304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4000" y="3068640"/>
            <a:ext cx="237636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ИЧН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6372360" y="4508640"/>
            <a:ext cx="244764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443640" y="3068640"/>
            <a:ext cx="237636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И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324000" y="4508640"/>
            <a:ext cx="237636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419640" y="4508640"/>
            <a:ext cx="2376360" cy="79200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2700000" y="3429000"/>
            <a:ext cx="8636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651640" y="34290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 flipH="1">
            <a:off x="2700360" y="3789360"/>
            <a:ext cx="1224000" cy="719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4572000" y="3933720"/>
            <a:ext cx="0" cy="57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5292720" y="3789360"/>
            <a:ext cx="1079640" cy="719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20"/>
          <p:cNvSpPr/>
          <p:nvPr/>
        </p:nvSpPr>
        <p:spPr>
          <a:xfrm>
            <a:off x="250920" y="5734080"/>
            <a:ext cx="863640" cy="90792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07920"/>
              <a:gd name="textAreaBottom" fmla="*/ 852120 h 907920"/>
            </a:gdLst>
            <a:ahLst/>
            <a:rect l="textAreaLeft" t="textAreaTop" r="textAreaRight" b="textAreaBottom"/>
            <a:pathLst>
              <a:path w="21600" h="22707">
                <a:moveTo>
                  <a:pt x="0" y="0"/>
                </a:moveTo>
                <a:lnTo>
                  <a:pt x="21600" y="0"/>
                </a:lnTo>
                <a:lnTo>
                  <a:pt x="21600" y="22707"/>
                </a:lnTo>
                <a:lnTo>
                  <a:pt x="0" y="22707"/>
                </a:lnTo>
                <a:close/>
              </a:path>
              <a:path fill="lightenLess" w="21600" h="22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07">
                <a:moveTo>
                  <a:pt x="21600" y="0"/>
                </a:moveTo>
                <a:lnTo>
                  <a:pt x="21600" y="22707"/>
                </a:lnTo>
                <a:lnTo>
                  <a:pt x="20200" y="21307"/>
                </a:lnTo>
                <a:lnTo>
                  <a:pt x="20200" y="1400"/>
                </a:lnTo>
                <a:close/>
              </a:path>
              <a:path fill="darkenLess" w="21600" h="22707">
                <a:moveTo>
                  <a:pt x="21600" y="22707"/>
                </a:moveTo>
                <a:lnTo>
                  <a:pt x="0" y="22707"/>
                </a:lnTo>
                <a:lnTo>
                  <a:pt x="1400" y="21307"/>
                </a:lnTo>
                <a:lnTo>
                  <a:pt x="20200" y="21307"/>
                </a:lnTo>
                <a:close/>
              </a:path>
              <a:path fill="lighten" w="21600" h="22707">
                <a:moveTo>
                  <a:pt x="0" y="22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07"/>
                </a:lnTo>
                <a:close/>
              </a:path>
              <a:path fill="darken" w="21600" h="22707">
                <a:moveTo>
                  <a:pt x="10800" y="1535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07">
                <a:moveTo>
                  <a:pt x="11905" y="14835"/>
                </a:moveTo>
                <a:lnTo>
                  <a:pt x="11905" y="12877"/>
                </a:lnTo>
                <a:cubicBezTo>
                  <a:pt x="11905" y="12050"/>
                  <a:pt x="12236" y="11354"/>
                  <a:pt x="12837" y="11354"/>
                </a:cubicBezTo>
                <a:cubicBezTo>
                  <a:pt x="13968" y="11354"/>
                  <a:pt x="14865" y="9987"/>
                  <a:pt x="14865" y="8403"/>
                </a:cubicBezTo>
                <a:cubicBezTo>
                  <a:pt x="14865" y="6088"/>
                  <a:pt x="13011" y="4347"/>
                  <a:pt x="10800" y="4347"/>
                </a:cubicBezTo>
                <a:cubicBezTo>
                  <a:pt x="8589" y="4347"/>
                  <a:pt x="6918" y="6088"/>
                  <a:pt x="6918" y="8403"/>
                </a:cubicBezTo>
                <a:lnTo>
                  <a:pt x="8772" y="8403"/>
                </a:lnTo>
                <a:cubicBezTo>
                  <a:pt x="8772" y="7263"/>
                  <a:pt x="9695" y="6375"/>
                  <a:pt x="10800" y="6375"/>
                </a:cubicBezTo>
                <a:cubicBezTo>
                  <a:pt x="11905" y="6375"/>
                  <a:pt x="12837" y="7263"/>
                  <a:pt x="12837" y="8403"/>
                </a:cubicBezTo>
                <a:cubicBezTo>
                  <a:pt x="12837" y="9143"/>
                  <a:pt x="12367" y="9874"/>
                  <a:pt x="11905" y="9874"/>
                </a:cubicBezTo>
                <a:cubicBezTo>
                  <a:pt x="10800" y="9874"/>
                  <a:pt x="9695" y="11354"/>
                  <a:pt x="9695" y="12877"/>
                </a:cubicBezTo>
                <a:lnTo>
                  <a:pt x="9695" y="14835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1116000" y="5670720"/>
            <a:ext cx="77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 ли говорить о том, что статьи 57, 58, 5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итуции РФ противоречат принципу пра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а? Выскажите ваше мнение и обоснуйте ег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Россия - демократическое, правовое государство с республиканской формой правления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250920" y="2205000"/>
            <a:ext cx="863640" cy="1079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79640"/>
              <a:gd name="textAreaBottom" fmla="*/ 1023840 h 10796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17440" y="2205000"/>
            <a:ext cx="77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принципы правового государства нашли св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ражение в статьях 2, 10, 15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народовласт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24000" y="3500280"/>
            <a:ext cx="647640" cy="30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Н</a:t>
            </a:r>
            <a:br>
              <a:rPr sz="4000"/>
            </a:b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А</a:t>
            </a:r>
            <a:br>
              <a:rPr sz="4000"/>
            </a:b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Р</a:t>
            </a:r>
            <a:br>
              <a:rPr sz="4000"/>
            </a:b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О</a:t>
            </a:r>
            <a:br>
              <a:rPr sz="4000"/>
            </a:br>
            <a:r>
              <a:rPr b="1" lang="ru-RU" sz="4000" spc="-1" strike="noStrike">
                <a:solidFill>
                  <a:srgbClr val="dbf5f9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">
            <a:hlinkClick r:id="rId1" action="ppaction://hlinksldjump"/>
          </p:cNvPr>
          <p:cNvSpPr/>
          <p:nvPr/>
        </p:nvSpPr>
        <p:spPr>
          <a:xfrm>
            <a:off x="4140360" y="3429000"/>
            <a:ext cx="475272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боры, референду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4140360" y="5805360"/>
            <a:ext cx="475272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ное само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140360" y="4508640"/>
            <a:ext cx="4752720" cy="10810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сударственной власт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 flipV="1">
            <a:off x="971640" y="3860640"/>
            <a:ext cx="3168720" cy="1224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971640" y="5084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971640" y="5084640"/>
            <a:ext cx="316872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>
            <a:hlinkClick r:id="rId2" action="ppaction://hlinksldjump"/>
          </p:cNvPr>
          <p:cNvSpPr/>
          <p:nvPr/>
        </p:nvSpPr>
        <p:spPr>
          <a:xfrm>
            <a:off x="8101080" y="3500280"/>
            <a:ext cx="718920" cy="271800"/>
          </a:xfrm>
          <a:prstGeom prst="rightArrow">
            <a:avLst>
              <a:gd name="adj1" fmla="val 50000"/>
              <a:gd name="adj2" fmla="val 397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ж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 rot="20301000">
            <a:off x="1285200" y="3715920"/>
            <a:ext cx="265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посредствен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час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92360" y="472428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частие чере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став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 rot="1170600">
            <a:off x="872640" y="5660640"/>
            <a:ext cx="34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посредствен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через представ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"/>
              </a:rPr>
              <a:t>  </a:t>
            </a: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Россия – республика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24000" y="1484280"/>
            <a:ext cx="273672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НА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508720" y="1341360"/>
            <a:ext cx="3384360" cy="1346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435640" y="5373720"/>
            <a:ext cx="2879640" cy="1152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ТЕЛЬ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24000" y="2924280"/>
            <a:ext cx="2736720" cy="792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f5f9"/>
                </a:solidFill>
                <a:latin typeface="Arial"/>
              </a:rPr>
              <a:t>ПРЕЗИД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3059280" y="1916280"/>
            <a:ext cx="2449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3349800" y="148428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ир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5508720" y="2852640"/>
            <a:ext cx="3311280" cy="936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ТЕЛЬ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3350520" y="292428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нач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2916360" y="4076640"/>
            <a:ext cx="3240000" cy="914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ГОСУДАР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Д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755640" y="5373720"/>
            <a:ext cx="2879640" cy="1152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8"/>
          <p:cNvSpPr/>
          <p:nvPr/>
        </p:nvSpPr>
        <p:spPr>
          <a:xfrm>
            <a:off x="3059280" y="3357720"/>
            <a:ext cx="2449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AutoShape 20"/>
          <p:cNvCxnSpPr>
            <a:stCxn id="260" idx="1"/>
            <a:endCxn id="261" idx="0"/>
          </p:cNvCxnSpPr>
          <p:nvPr/>
        </p:nvCxnSpPr>
        <p:spPr>
          <a:xfrm flipV="1" rot="10800000">
            <a:off x="2194920" y="4532760"/>
            <a:ext cx="721440" cy="84060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21"/>
          <p:cNvCxnSpPr>
            <a:stCxn id="254" idx="0"/>
            <a:endCxn id="260" idx="3"/>
          </p:cNvCxnSpPr>
          <p:nvPr/>
        </p:nvCxnSpPr>
        <p:spPr>
          <a:xfrm flipV="1" rot="16200000">
            <a:off x="6095520" y="4593240"/>
            <a:ext cx="840600" cy="72000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22"/>
          <p:cNvSpPr/>
          <p:nvPr/>
        </p:nvSpPr>
        <p:spPr>
          <a:xfrm>
            <a:off x="974160" y="407664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вержд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6829560" y="486900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чит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разделения властей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250920" y="1628640"/>
            <a:ext cx="863640" cy="1079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79640"/>
              <a:gd name="textAreaBottom" fmla="*/ 1023840 h 10796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116000" y="1557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чем суть принципа разделения властей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й статье главы 1 Конституции РФ говорится об этом принцип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539640" y="2781360"/>
            <a:ext cx="828216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bf5f9"/>
                </a:solidFill>
                <a:uFillTx/>
                <a:latin typeface="Arial"/>
              </a:rPr>
              <a:t>Президент РФ</a:t>
            </a: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 – глава государства, гара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исполнения Конституции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179280" y="3716280"/>
            <a:ext cx="280836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Законода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276720" y="3716280"/>
            <a:ext cx="266364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372360" y="3716280"/>
            <a:ext cx="252072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Судеб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1547640" y="4437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179280" y="4869000"/>
            <a:ext cx="2737080" cy="72072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р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3276720" y="4869000"/>
            <a:ext cx="2592360" cy="72072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тельство Р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>
            <a:off x="4572000" y="4437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6300720" y="4869000"/>
            <a:ext cx="2592360" cy="720720"/>
          </a:xfrm>
          <a:prstGeom prst="rect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ы Р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7667640" y="4437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 rot="5400000">
            <a:off x="4355640" y="2204640"/>
            <a:ext cx="358920" cy="7417080"/>
          </a:xfrm>
          <a:custGeom>
            <a:avLst/>
            <a:gdLst>
              <a:gd name="textAreaLeft" fmla="*/ 0 w 358920"/>
              <a:gd name="textAreaRight" fmla="*/ 129600 w 358920"/>
              <a:gd name="textAreaTop" fmla="*/ 193320 h 7417080"/>
              <a:gd name="textAreaBottom" fmla="*/ 7223760 h 741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1486440" y="6093000"/>
            <a:ext cx="61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сдержек и противове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9">
            <a:hlinkClick r:id="rId1" action="ppaction://hlinksldjump"/>
          </p:cNvPr>
          <p:cNvSpPr/>
          <p:nvPr/>
        </p:nvSpPr>
        <p:spPr>
          <a:xfrm>
            <a:off x="2484360" y="522936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>
            <a:hlinkClick r:id="rId2" action="ppaction://hlinksldjump"/>
          </p:cNvPr>
          <p:cNvSpPr/>
          <p:nvPr/>
        </p:nvSpPr>
        <p:spPr>
          <a:xfrm>
            <a:off x="8388360" y="522936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2843280" y="1413000"/>
            <a:ext cx="3456000" cy="10080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ФЕДЕРА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Arial"/>
              </a:rPr>
              <a:t>СОБР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50920" y="3789360"/>
            <a:ext cx="4106880" cy="1079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009dd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ДЕР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788000" y="3789360"/>
            <a:ext cx="4105080" cy="10796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СУДАР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 flipH="1">
            <a:off x="2195280" y="2421000"/>
            <a:ext cx="2305080" cy="1368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4500720" y="2421000"/>
            <a:ext cx="244764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ЗАКОНОДАТЕЛЬНАЯ </a:t>
            </a:r>
            <a:br>
              <a:rPr sz="3800"/>
            </a:b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ВЛАСТЬ В РФ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AutoShape 11">
            <a:hlinkClick r:id="rId1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10" descr="законы2"/>
          <p:cNvPicPr/>
          <p:nvPr/>
        </p:nvPicPr>
        <p:blipFill>
          <a:blip r:embed="rId2"/>
          <a:srcRect l="48479" t="8021" r="0" b="5179"/>
          <a:stretch/>
        </p:blipFill>
        <p:spPr>
          <a:xfrm>
            <a:off x="324000" y="1125360"/>
            <a:ext cx="2232000" cy="215928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  <p:pic>
        <p:nvPicPr>
          <p:cNvPr id="292" name="Picture 14" descr="дума2"/>
          <p:cNvPicPr/>
          <p:nvPr/>
        </p:nvPicPr>
        <p:blipFill>
          <a:blip r:embed="rId3"/>
          <a:srcRect l="28046" t="0" r="0" b="0"/>
          <a:stretch/>
        </p:blipFill>
        <p:spPr>
          <a:xfrm>
            <a:off x="6588000" y="1125360"/>
            <a:ext cx="2305080" cy="218304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7:52:33Z</dcterms:created>
  <dc:creator>Зевс</dc:creator>
  <dc:description/>
  <dc:language>en-US</dc:language>
  <cp:lastModifiedBy>Светлана</cp:lastModifiedBy>
  <dcterms:modified xsi:type="dcterms:W3CDTF">2015-01-12T17:37:45Z</dcterms:modified>
  <cp:revision>85</cp:revision>
  <dc:subject/>
  <dc:title>Основы конституционного строя России.</dc:title>
</cp:coreProperties>
</file>