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7F7-7CB0-4B0D-BC3B-412DBDC8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ADA-6F3D-4DFB-8F4E-E7B461EB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DBC-E374-4552-8B73-F09C639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580-3A19-422C-BAC1-87E3389E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EF4-EDAB-408B-B88C-D05831A1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231-1E98-4CB2-B487-41AE559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83E-9C35-4E32-972C-643BC05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04D-6A3D-4199-B077-ECEFCC7C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589-7790-4CC9-BAF6-F205FD3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556-B4BD-485B-BCF4-6800BBD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D6F-33F6-4368-88E9-BEF7F81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370-10C8-465D-89FF-0313C57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896F-974C-4865-88FC-5923D1AD3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695600" y="2133720"/>
            <a:ext cx="6557760" cy="1657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71640" y="4365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звенел  зво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н позвал всех на 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ы закрыли двери в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удет тишина у н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Шум оставим за двер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 начнем урок мы с 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54120" y="260280"/>
            <a:ext cx="7481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7416720" cy="648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4154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1"/>
          <p:cNvSpPr/>
          <p:nvPr/>
        </p:nvSpPr>
        <p:spPr>
          <a:xfrm>
            <a:off x="1835280" y="907920"/>
            <a:ext cx="349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ети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ети лепе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Через запад на во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Через север, через ю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озвращайся, сдела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ишь коснёшься ты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Быть по-нашему 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Капля 13"/>
          <p:cNvSpPr/>
          <p:nvPr/>
        </p:nvSpPr>
        <p:spPr>
          <a:xfrm rot="9364200">
            <a:off x="6698880" y="1677240"/>
            <a:ext cx="828720" cy="1079640"/>
          </a:xfrm>
          <a:custGeom>
            <a:avLst/>
            <a:gdLst/>
            <a:ahLst/>
            <a:rect l="l" t="t" r="r" b="b"/>
            <a:pathLst>
              <a:path w="828675" h="1079500">
                <a:moveTo>
                  <a:pt x="0" y="539750"/>
                </a:moveTo>
                <a:cubicBezTo>
                  <a:pt x="0" y="241654"/>
                  <a:pt x="185505" y="0"/>
                  <a:pt x="414338" y="0"/>
                </a:cubicBezTo>
                <a:lnTo>
                  <a:pt x="828675" y="0"/>
                </a:lnTo>
                <a:lnTo>
                  <a:pt x="828675" y="539750"/>
                </a:lnTo>
                <a:cubicBezTo>
                  <a:pt x="828675" y="837846"/>
                  <a:pt x="643170" y="1079500"/>
                  <a:pt x="414337" y="1079500"/>
                </a:cubicBezTo>
                <a:cubicBezTo>
                  <a:pt x="185504" y="1079500"/>
                  <a:pt x="-1" y="837846"/>
                  <a:pt x="-1" y="539750"/>
                </a:cubicBezTo>
                <a:lnTo>
                  <a:pt x="0" y="53975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Капля 14"/>
          <p:cNvSpPr/>
          <p:nvPr/>
        </p:nvSpPr>
        <p:spPr>
          <a:xfrm rot="11865600">
            <a:off x="7391160" y="2033280"/>
            <a:ext cx="830160" cy="1077840"/>
          </a:xfrm>
          <a:custGeom>
            <a:avLst/>
            <a:gdLst/>
            <a:ahLst/>
            <a:rect l="l" t="t" r="r" b="b"/>
            <a:pathLst>
              <a:path w="830263" h="1077912">
                <a:moveTo>
                  <a:pt x="0" y="538956"/>
                </a:moveTo>
                <a:cubicBezTo>
                  <a:pt x="0" y="241299"/>
                  <a:pt x="185861" y="0"/>
                  <a:pt x="415132" y="0"/>
                </a:cubicBezTo>
                <a:lnTo>
                  <a:pt x="830263" y="0"/>
                </a:lnTo>
                <a:lnTo>
                  <a:pt x="830263" y="538956"/>
                </a:lnTo>
                <a:cubicBezTo>
                  <a:pt x="830263" y="836613"/>
                  <a:pt x="644402" y="1077912"/>
                  <a:pt x="415131" y="1077912"/>
                </a:cubicBezTo>
                <a:cubicBezTo>
                  <a:pt x="185860" y="1077912"/>
                  <a:pt x="-1" y="836613"/>
                  <a:pt x="-1" y="538956"/>
                </a:cubicBezTo>
                <a:lnTo>
                  <a:pt x="0" y="53895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Капля 15"/>
          <p:cNvSpPr/>
          <p:nvPr/>
        </p:nvSpPr>
        <p:spPr>
          <a:xfrm rot="21236400">
            <a:off x="6141600" y="3430440"/>
            <a:ext cx="828720" cy="1078200"/>
          </a:xfrm>
          <a:custGeom>
            <a:avLst/>
            <a:gdLst/>
            <a:ahLst/>
            <a:rect l="l" t="t" r="r" b="b"/>
            <a:pathLst>
              <a:path w="828675" h="1077912">
                <a:moveTo>
                  <a:pt x="0" y="538956"/>
                </a:moveTo>
                <a:cubicBezTo>
                  <a:pt x="0" y="241299"/>
                  <a:pt x="185505" y="0"/>
                  <a:pt x="414338" y="0"/>
                </a:cubicBezTo>
                <a:lnTo>
                  <a:pt x="828675" y="0"/>
                </a:lnTo>
                <a:lnTo>
                  <a:pt x="828675" y="538956"/>
                </a:lnTo>
                <a:cubicBezTo>
                  <a:pt x="828675" y="836613"/>
                  <a:pt x="643170" y="1077912"/>
                  <a:pt x="414337" y="1077912"/>
                </a:cubicBezTo>
                <a:cubicBezTo>
                  <a:pt x="185504" y="1077912"/>
                  <a:pt x="-1" y="836613"/>
                  <a:pt x="-1" y="538956"/>
                </a:cubicBezTo>
                <a:lnTo>
                  <a:pt x="0" y="53895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Капля 16"/>
          <p:cNvSpPr/>
          <p:nvPr/>
        </p:nvSpPr>
        <p:spPr>
          <a:xfrm rot="14067000">
            <a:off x="7519680" y="2934720"/>
            <a:ext cx="996840" cy="857160"/>
          </a:xfrm>
          <a:custGeom>
            <a:avLst/>
            <a:gdLst/>
            <a:ahLst/>
            <a:rect l="l" t="t" r="r" b="b"/>
            <a:pathLst>
              <a:path w="996950" h="857250">
                <a:moveTo>
                  <a:pt x="0" y="428625"/>
                </a:moveTo>
                <a:cubicBezTo>
                  <a:pt x="0" y="191902"/>
                  <a:pt x="223175" y="0"/>
                  <a:pt x="498475" y="0"/>
                </a:cubicBezTo>
                <a:lnTo>
                  <a:pt x="996950" y="0"/>
                </a:lnTo>
                <a:lnTo>
                  <a:pt x="996950" y="428625"/>
                </a:lnTo>
                <a:cubicBezTo>
                  <a:pt x="996950" y="665348"/>
                  <a:pt x="773775" y="857250"/>
                  <a:pt x="498475" y="857250"/>
                </a:cubicBezTo>
                <a:cubicBezTo>
                  <a:pt x="223175" y="857250"/>
                  <a:pt x="0" y="665348"/>
                  <a:pt x="0" y="428625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Капля 17"/>
          <p:cNvSpPr/>
          <p:nvPr/>
        </p:nvSpPr>
        <p:spPr>
          <a:xfrm rot="16887000">
            <a:off x="6972840" y="3399120"/>
            <a:ext cx="863640" cy="103680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Капля 18"/>
          <p:cNvSpPr/>
          <p:nvPr/>
        </p:nvSpPr>
        <p:spPr>
          <a:xfrm rot="3243000">
            <a:off x="5594760" y="2780640"/>
            <a:ext cx="863640" cy="103644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Капля 19"/>
          <p:cNvSpPr/>
          <p:nvPr/>
        </p:nvSpPr>
        <p:spPr>
          <a:xfrm rot="6016800">
            <a:off x="5912280" y="1964160"/>
            <a:ext cx="863640" cy="103644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604a7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6504120" y="2741760"/>
            <a:ext cx="933480" cy="8618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67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Vehicle_coloring_pages_for_babies_26.gif"/>
          <p:cNvPicPr/>
          <p:nvPr/>
        </p:nvPicPr>
        <p:blipFill>
          <a:blip r:embed="rId1"/>
          <a:stretch/>
        </p:blipFill>
        <p:spPr>
          <a:xfrm>
            <a:off x="2124000" y="4149720"/>
            <a:ext cx="128124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Vehicle_coloring_pages_for_babies_26.gif"/>
          <p:cNvPicPr/>
          <p:nvPr/>
        </p:nvPicPr>
        <p:blipFill>
          <a:blip r:embed="rId2"/>
          <a:stretch/>
        </p:blipFill>
        <p:spPr>
          <a:xfrm>
            <a:off x="3203640" y="4076640"/>
            <a:ext cx="127944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Vehicle_coloring_pages_for_babies_26.gif"/>
          <p:cNvPicPr/>
          <p:nvPr/>
        </p:nvPicPr>
        <p:blipFill>
          <a:blip r:embed="rId3"/>
          <a:stretch/>
        </p:blipFill>
        <p:spPr>
          <a:xfrm>
            <a:off x="5003640" y="4005360"/>
            <a:ext cx="12798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Vehicle_coloring_pages_for_babies_26.gif"/>
          <p:cNvPicPr/>
          <p:nvPr/>
        </p:nvPicPr>
        <p:blipFill>
          <a:blip r:embed="rId4"/>
          <a:stretch/>
        </p:blipFill>
        <p:spPr>
          <a:xfrm>
            <a:off x="406728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Vehicle_coloring_pages_for_babies_26.gif"/>
          <p:cNvPicPr/>
          <p:nvPr/>
        </p:nvPicPr>
        <p:blipFill>
          <a:blip r:embed="rId5"/>
          <a:stretch/>
        </p:blipFill>
        <p:spPr>
          <a:xfrm>
            <a:off x="594036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Vehicle_coloring_pages_for_babies_26.gif"/>
          <p:cNvPicPr/>
          <p:nvPr/>
        </p:nvPicPr>
        <p:blipFill>
          <a:blip r:embed="rId6"/>
          <a:stretch/>
        </p:blipFill>
        <p:spPr>
          <a:xfrm>
            <a:off x="702000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Vehicle_coloring_pages_for_babies_26.gif"/>
          <p:cNvPicPr/>
          <p:nvPr/>
        </p:nvPicPr>
        <p:blipFill>
          <a:blip r:embed="rId7"/>
          <a:stretch/>
        </p:blipFill>
        <p:spPr>
          <a:xfrm>
            <a:off x="0" y="3789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Vehicle_coloring_pages_for_babies_26.gif"/>
          <p:cNvPicPr/>
          <p:nvPr/>
        </p:nvPicPr>
        <p:blipFill>
          <a:blip r:embed="rId8"/>
          <a:stretch/>
        </p:blipFill>
        <p:spPr>
          <a:xfrm>
            <a:off x="1116000" y="4076640"/>
            <a:ext cx="1279440" cy="16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9"/>
          <a:stretch/>
        </p:blipFill>
        <p:spPr>
          <a:xfrm>
            <a:off x="1279440" y="189000"/>
            <a:ext cx="7469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ы заметили в алгоритме? (пропуск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заполним пропуски.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5b45ccb0_8a89_0131_f677_12313c0dade2.jpg"/>
          <p:cNvPicPr/>
          <p:nvPr/>
        </p:nvPicPr>
        <p:blipFill>
          <a:blip r:embed="rId1"/>
          <a:stretch/>
        </p:blipFill>
        <p:spPr>
          <a:xfrm>
            <a:off x="190800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3" descr="5b45ccb0_8a89_0131_f677_12313c0dade2.jpg"/>
          <p:cNvPicPr/>
          <p:nvPr/>
        </p:nvPicPr>
        <p:blipFill>
          <a:blip r:embed="rId2"/>
          <a:stretch/>
        </p:blipFill>
        <p:spPr>
          <a:xfrm>
            <a:off x="2843280" y="1989000"/>
            <a:ext cx="885600" cy="79056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5b45ccb0_8a89_0131_f677_12313c0dade2.jpg"/>
          <p:cNvPicPr/>
          <p:nvPr/>
        </p:nvPicPr>
        <p:blipFill>
          <a:blip r:embed="rId3"/>
          <a:stretch/>
        </p:blipFill>
        <p:spPr>
          <a:xfrm>
            <a:off x="370836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5b45ccb0_8a89_0131_f677_12313c0dade2.jpg"/>
          <p:cNvPicPr/>
          <p:nvPr/>
        </p:nvPicPr>
        <p:blipFill>
          <a:blip r:embed="rId4"/>
          <a:stretch/>
        </p:blipFill>
        <p:spPr>
          <a:xfrm>
            <a:off x="464328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5b45ccb0_8a89_0131_f677_12313c0dade2.jpg"/>
          <p:cNvPicPr/>
          <p:nvPr/>
        </p:nvPicPr>
        <p:blipFill>
          <a:blip r:embed="rId5"/>
          <a:stretch/>
        </p:blipFill>
        <p:spPr>
          <a:xfrm>
            <a:off x="5508720" y="1989000"/>
            <a:ext cx="885600" cy="790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2791800" y="3429000"/>
            <a:ext cx="35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– 6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 …..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5b45ccb0_8a89_0131_f677_12313c0dade2.jpg"/>
          <p:cNvPicPr/>
          <p:nvPr/>
        </p:nvPicPr>
        <p:blipFill>
          <a:blip r:embed="rId6"/>
          <a:stretch/>
        </p:blipFill>
        <p:spPr>
          <a:xfrm>
            <a:off x="6372360" y="1989000"/>
            <a:ext cx="885600" cy="790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2061360" y="126828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задачу по рисунку и краткой запи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еши и отве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цветик.jpg"/>
          <p:cNvPicPr/>
          <p:nvPr/>
        </p:nvPicPr>
        <p:blipFill>
          <a:blip r:embed="rId1"/>
          <a:stretch/>
        </p:blipFill>
        <p:spPr>
          <a:xfrm>
            <a:off x="2340000" y="1916280"/>
            <a:ext cx="3282840" cy="3949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6158880" y="2060640"/>
            <a:ext cx="19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–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–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– оранж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–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 –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 - 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бы у вас появился бы волшебный цветок, какие  желания  вы бы загадали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прекрасное  настроение,  и  вы  хотели  бы  ещё  поработать, тогда  закрасьте лепесток красным цвет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хорошее  настроение, но  вы  немного  устали, тогда закрасьте лепесток желтым цве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вдруг  испортилось  настроение, тогда  закрасьте лепесток зеленым цве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Капля 3"/>
          <p:cNvSpPr/>
          <p:nvPr/>
        </p:nvSpPr>
        <p:spPr>
          <a:xfrm>
            <a:off x="2916360" y="5732640"/>
            <a:ext cx="503280" cy="433080"/>
          </a:xfrm>
          <a:custGeom>
            <a:avLst/>
            <a:gdLst/>
            <a:ahLst/>
            <a:rect l="l" t="t" r="r" b="b"/>
            <a:pathLst>
              <a:path w="503237" h="433387">
                <a:moveTo>
                  <a:pt x="0" y="216694"/>
                </a:moveTo>
                <a:cubicBezTo>
                  <a:pt x="0" y="97017"/>
                  <a:pt x="112654" y="0"/>
                  <a:pt x="251619" y="0"/>
                </a:cubicBezTo>
                <a:lnTo>
                  <a:pt x="503237" y="0"/>
                </a:lnTo>
                <a:lnTo>
                  <a:pt x="503237" y="216694"/>
                </a:lnTo>
                <a:cubicBezTo>
                  <a:pt x="503237" y="336371"/>
                  <a:pt x="390583" y="433388"/>
                  <a:pt x="251618" y="433388"/>
                </a:cubicBezTo>
                <a:cubicBezTo>
                  <a:pt x="112653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4"/>
          <p:cNvSpPr/>
          <p:nvPr/>
        </p:nvSpPr>
        <p:spPr>
          <a:xfrm>
            <a:off x="3995640" y="5732640"/>
            <a:ext cx="505080" cy="433080"/>
          </a:xfrm>
          <a:custGeom>
            <a:avLst/>
            <a:gdLst/>
            <a:ahLst/>
            <a:rect l="l" t="t" r="r" b="b"/>
            <a:pathLst>
              <a:path w="504825" h="433387">
                <a:moveTo>
                  <a:pt x="0" y="216694"/>
                </a:moveTo>
                <a:cubicBezTo>
                  <a:pt x="0" y="97017"/>
                  <a:pt x="113009" y="0"/>
                  <a:pt x="252413" y="0"/>
                </a:cubicBezTo>
                <a:lnTo>
                  <a:pt x="504825" y="0"/>
                </a:lnTo>
                <a:lnTo>
                  <a:pt x="504825" y="216694"/>
                </a:lnTo>
                <a:cubicBezTo>
                  <a:pt x="504825" y="336371"/>
                  <a:pt x="391816" y="433388"/>
                  <a:pt x="252412" y="433388"/>
                </a:cubicBezTo>
                <a:cubicBezTo>
                  <a:pt x="113008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5"/>
          <p:cNvSpPr/>
          <p:nvPr/>
        </p:nvSpPr>
        <p:spPr>
          <a:xfrm>
            <a:off x="5219640" y="5732640"/>
            <a:ext cx="504720" cy="433080"/>
          </a:xfrm>
          <a:custGeom>
            <a:avLst/>
            <a:gdLst/>
            <a:ahLst/>
            <a:rect l="l" t="t" r="r" b="b"/>
            <a:pathLst>
              <a:path w="504825" h="433387">
                <a:moveTo>
                  <a:pt x="0" y="216694"/>
                </a:moveTo>
                <a:cubicBezTo>
                  <a:pt x="0" y="97017"/>
                  <a:pt x="113009" y="0"/>
                  <a:pt x="252413" y="0"/>
                </a:cubicBezTo>
                <a:lnTo>
                  <a:pt x="504825" y="0"/>
                </a:lnTo>
                <a:lnTo>
                  <a:pt x="504825" y="216694"/>
                </a:lnTo>
                <a:cubicBezTo>
                  <a:pt x="504825" y="336371"/>
                  <a:pt x="391816" y="433388"/>
                  <a:pt x="252412" y="433388"/>
                </a:cubicBezTo>
                <a:cubicBezTo>
                  <a:pt x="113008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9:55:23Z</dcterms:created>
  <dc:creator>Наталья</dc:creator>
  <dc:description/>
  <dc:language>en-US</dc:language>
  <cp:lastModifiedBy>Алёна</cp:lastModifiedBy>
  <dcterms:modified xsi:type="dcterms:W3CDTF">2017-02-15T13:04:22Z</dcterms:modified>
  <cp:revision>59</cp:revision>
  <dc:subject/>
  <dc:title>Название презентации</dc:title>
</cp:coreProperties>
</file>