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0E11-10E2-48D0-8695-0C24EB967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765E-9273-4A4F-93B5-423DC3F6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A4AF-CD57-4753-A7E4-7918C6489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F73C-D994-40F3-96F8-9EF1609E8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67BD-ADA8-4FA7-BC68-9C8A8034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E2FC-BB7F-4F3F-98BD-E34A3456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6090-8F87-43F3-BF8D-C5EFCCE4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758E-73AB-4089-92D5-C1BF80A9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62E3-1921-4978-919C-A0630C4A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4F38-C6B9-49FD-BC40-2C5EC532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9A59-6FF3-4A4B-BA3C-F6E4D7E5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0915-F9C0-4E44-A406-FD9F167D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74B3-7182-4DD9-BB8D-D5F9C65E56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1695600" y="2133720"/>
            <a:ext cx="6557760" cy="165708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3"/>
          <p:cNvSpPr/>
          <p:nvPr/>
        </p:nvSpPr>
        <p:spPr>
          <a:xfrm>
            <a:off x="2771640" y="436572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Прозвенел  звоно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Он позвал всех на ур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Мы закрыли двери в класс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Будет тишина у на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Шум оставим за двер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И начнем урок мы с в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554120" y="260280"/>
            <a:ext cx="74818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1619280" y="189000"/>
            <a:ext cx="7416720" cy="6480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3"/>
          <a:stretch/>
        </p:blipFill>
        <p:spPr>
          <a:xfrm>
            <a:off x="1547640" y="2276640"/>
            <a:ext cx="41547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1"/>
          <p:cNvSpPr/>
          <p:nvPr/>
        </p:nvSpPr>
        <p:spPr>
          <a:xfrm>
            <a:off x="1835280" y="907920"/>
            <a:ext cx="3493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Лети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-</a:t>
            </a:r>
            <a:r>
              <a:rPr b="1" lang="ru-RU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лети лепест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Через запад на вост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Через север, через ю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Возвращайся, сделав кр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Лишь коснёшься ты зем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Быть по-нашему вел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Капля 13"/>
          <p:cNvSpPr/>
          <p:nvPr/>
        </p:nvSpPr>
        <p:spPr>
          <a:xfrm rot="9364200">
            <a:off x="6698880" y="1677240"/>
            <a:ext cx="828720" cy="1079640"/>
          </a:xfrm>
          <a:custGeom>
            <a:avLst/>
            <a:gdLst/>
            <a:ahLst/>
            <a:rect l="l" t="t" r="r" b="b"/>
            <a:pathLst>
              <a:path w="828675" h="1079500">
                <a:moveTo>
                  <a:pt x="0" y="539750"/>
                </a:moveTo>
                <a:cubicBezTo>
                  <a:pt x="0" y="241654"/>
                  <a:pt x="185505" y="0"/>
                  <a:pt x="414338" y="0"/>
                </a:cubicBezTo>
                <a:lnTo>
                  <a:pt x="828675" y="0"/>
                </a:lnTo>
                <a:lnTo>
                  <a:pt x="828675" y="539750"/>
                </a:lnTo>
                <a:cubicBezTo>
                  <a:pt x="828675" y="837846"/>
                  <a:pt x="643170" y="1079500"/>
                  <a:pt x="414337" y="1079500"/>
                </a:cubicBezTo>
                <a:cubicBezTo>
                  <a:pt x="185504" y="1079500"/>
                  <a:pt x="-1" y="837846"/>
                  <a:pt x="-1" y="539750"/>
                </a:cubicBezTo>
                <a:lnTo>
                  <a:pt x="0" y="539750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e4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Капля 14"/>
          <p:cNvSpPr/>
          <p:nvPr/>
        </p:nvSpPr>
        <p:spPr>
          <a:xfrm rot="11865600">
            <a:off x="7391160" y="2033280"/>
            <a:ext cx="830160" cy="1077840"/>
          </a:xfrm>
          <a:custGeom>
            <a:avLst/>
            <a:gdLst/>
            <a:ahLst/>
            <a:rect l="l" t="t" r="r" b="b"/>
            <a:pathLst>
              <a:path w="830263" h="1077912">
                <a:moveTo>
                  <a:pt x="0" y="538956"/>
                </a:moveTo>
                <a:cubicBezTo>
                  <a:pt x="0" y="241299"/>
                  <a:pt x="185861" y="0"/>
                  <a:pt x="415132" y="0"/>
                </a:cubicBezTo>
                <a:lnTo>
                  <a:pt x="830263" y="0"/>
                </a:lnTo>
                <a:lnTo>
                  <a:pt x="830263" y="538956"/>
                </a:lnTo>
                <a:cubicBezTo>
                  <a:pt x="830263" y="836613"/>
                  <a:pt x="644402" y="1077912"/>
                  <a:pt x="415131" y="1077912"/>
                </a:cubicBezTo>
                <a:cubicBezTo>
                  <a:pt x="185860" y="1077912"/>
                  <a:pt x="-1" y="836613"/>
                  <a:pt x="-1" y="538956"/>
                </a:cubicBezTo>
                <a:lnTo>
                  <a:pt x="0" y="538956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Капля 15"/>
          <p:cNvSpPr/>
          <p:nvPr/>
        </p:nvSpPr>
        <p:spPr>
          <a:xfrm rot="21236400">
            <a:off x="6141600" y="3430440"/>
            <a:ext cx="828720" cy="1078200"/>
          </a:xfrm>
          <a:custGeom>
            <a:avLst/>
            <a:gdLst/>
            <a:ahLst/>
            <a:rect l="l" t="t" r="r" b="b"/>
            <a:pathLst>
              <a:path w="828675" h="1077912">
                <a:moveTo>
                  <a:pt x="0" y="538956"/>
                </a:moveTo>
                <a:cubicBezTo>
                  <a:pt x="0" y="241299"/>
                  <a:pt x="185505" y="0"/>
                  <a:pt x="414338" y="0"/>
                </a:cubicBezTo>
                <a:lnTo>
                  <a:pt x="828675" y="0"/>
                </a:lnTo>
                <a:lnTo>
                  <a:pt x="828675" y="538956"/>
                </a:lnTo>
                <a:cubicBezTo>
                  <a:pt x="828675" y="836613"/>
                  <a:pt x="643170" y="1077912"/>
                  <a:pt x="414337" y="1077912"/>
                </a:cubicBezTo>
                <a:cubicBezTo>
                  <a:pt x="185504" y="1077912"/>
                  <a:pt x="-1" y="836613"/>
                  <a:pt x="-1" y="538956"/>
                </a:cubicBezTo>
                <a:lnTo>
                  <a:pt x="0" y="538956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Капля 16"/>
          <p:cNvSpPr/>
          <p:nvPr/>
        </p:nvSpPr>
        <p:spPr>
          <a:xfrm rot="14067000">
            <a:off x="7519680" y="2934720"/>
            <a:ext cx="996840" cy="857160"/>
          </a:xfrm>
          <a:custGeom>
            <a:avLst/>
            <a:gdLst/>
            <a:ahLst/>
            <a:rect l="l" t="t" r="r" b="b"/>
            <a:pathLst>
              <a:path w="996950" h="857250">
                <a:moveTo>
                  <a:pt x="0" y="428625"/>
                </a:moveTo>
                <a:cubicBezTo>
                  <a:pt x="0" y="191902"/>
                  <a:pt x="223175" y="0"/>
                  <a:pt x="498475" y="0"/>
                </a:cubicBezTo>
                <a:lnTo>
                  <a:pt x="996950" y="0"/>
                </a:lnTo>
                <a:lnTo>
                  <a:pt x="996950" y="428625"/>
                </a:lnTo>
                <a:cubicBezTo>
                  <a:pt x="996950" y="665348"/>
                  <a:pt x="773775" y="857250"/>
                  <a:pt x="498475" y="857250"/>
                </a:cubicBezTo>
                <a:cubicBezTo>
                  <a:pt x="223175" y="857250"/>
                  <a:pt x="0" y="665348"/>
                  <a:pt x="0" y="428625"/>
                </a:cubicBez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Капля 17"/>
          <p:cNvSpPr/>
          <p:nvPr/>
        </p:nvSpPr>
        <p:spPr>
          <a:xfrm rot="16887000">
            <a:off x="6972840" y="3399120"/>
            <a:ext cx="863640" cy="1036800"/>
          </a:xfrm>
          <a:custGeom>
            <a:avLst/>
            <a:gdLst/>
            <a:ahLst/>
            <a:rect l="l" t="t" r="r" b="b"/>
            <a:pathLst>
              <a:path w="863600" h="1036638">
                <a:moveTo>
                  <a:pt x="0" y="518319"/>
                </a:moveTo>
                <a:cubicBezTo>
                  <a:pt x="0" y="232059"/>
                  <a:pt x="193323" y="0"/>
                  <a:pt x="431800" y="0"/>
                </a:cubicBezTo>
                <a:lnTo>
                  <a:pt x="863600" y="0"/>
                </a:lnTo>
                <a:lnTo>
                  <a:pt x="863600" y="518319"/>
                </a:lnTo>
                <a:cubicBezTo>
                  <a:pt x="863600" y="804579"/>
                  <a:pt x="670277" y="1036638"/>
                  <a:pt x="431800" y="1036638"/>
                </a:cubicBezTo>
                <a:cubicBezTo>
                  <a:pt x="193323" y="1036638"/>
                  <a:pt x="0" y="804579"/>
                  <a:pt x="0" y="518319"/>
                </a:cubicBezTo>
                <a:close/>
              </a:path>
            </a:pathLst>
          </a:custGeom>
          <a:solidFill>
            <a:srgbClr val="93cddd"/>
          </a:solidFill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Капля 18"/>
          <p:cNvSpPr/>
          <p:nvPr/>
        </p:nvSpPr>
        <p:spPr>
          <a:xfrm rot="3243000">
            <a:off x="5594760" y="2780640"/>
            <a:ext cx="863640" cy="1036440"/>
          </a:xfrm>
          <a:custGeom>
            <a:avLst/>
            <a:gdLst/>
            <a:ahLst/>
            <a:rect l="l" t="t" r="r" b="b"/>
            <a:pathLst>
              <a:path w="863600" h="1036638">
                <a:moveTo>
                  <a:pt x="0" y="518319"/>
                </a:moveTo>
                <a:cubicBezTo>
                  <a:pt x="0" y="232059"/>
                  <a:pt x="193323" y="0"/>
                  <a:pt x="431800" y="0"/>
                </a:cubicBezTo>
                <a:lnTo>
                  <a:pt x="863600" y="0"/>
                </a:lnTo>
                <a:lnTo>
                  <a:pt x="863600" y="518319"/>
                </a:lnTo>
                <a:cubicBezTo>
                  <a:pt x="863600" y="804579"/>
                  <a:pt x="670277" y="1036638"/>
                  <a:pt x="431800" y="1036638"/>
                </a:cubicBezTo>
                <a:cubicBezTo>
                  <a:pt x="193323" y="1036638"/>
                  <a:pt x="0" y="804579"/>
                  <a:pt x="0" y="518319"/>
                </a:cubicBez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Капля 19"/>
          <p:cNvSpPr/>
          <p:nvPr/>
        </p:nvSpPr>
        <p:spPr>
          <a:xfrm rot="6016800">
            <a:off x="5912280" y="1964160"/>
            <a:ext cx="863640" cy="1036440"/>
          </a:xfrm>
          <a:custGeom>
            <a:avLst/>
            <a:gdLst/>
            <a:ahLst/>
            <a:rect l="l" t="t" r="r" b="b"/>
            <a:pathLst>
              <a:path w="863600" h="1036638">
                <a:moveTo>
                  <a:pt x="0" y="518319"/>
                </a:moveTo>
                <a:cubicBezTo>
                  <a:pt x="0" y="232059"/>
                  <a:pt x="193323" y="0"/>
                  <a:pt x="431800" y="0"/>
                </a:cubicBezTo>
                <a:lnTo>
                  <a:pt x="863600" y="0"/>
                </a:lnTo>
                <a:lnTo>
                  <a:pt x="863600" y="518319"/>
                </a:lnTo>
                <a:cubicBezTo>
                  <a:pt x="863600" y="804579"/>
                  <a:pt x="670277" y="1036638"/>
                  <a:pt x="431800" y="1036638"/>
                </a:cubicBezTo>
                <a:cubicBezTo>
                  <a:pt x="193323" y="1036638"/>
                  <a:pt x="0" y="804579"/>
                  <a:pt x="0" y="518319"/>
                </a:cubicBezTo>
                <a:close/>
              </a:path>
            </a:pathLst>
          </a:custGeom>
          <a:solidFill>
            <a:srgbClr val="604a7b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20"/>
          <p:cNvSpPr/>
          <p:nvPr/>
        </p:nvSpPr>
        <p:spPr>
          <a:xfrm>
            <a:off x="6504120" y="2741760"/>
            <a:ext cx="933480" cy="861840"/>
          </a:xfrm>
          <a:prstGeom prst="ellipse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3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3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2124000" y="260280"/>
            <a:ext cx="6769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5" descr="Vehicle_coloring_pages_for_babies_26.gif"/>
          <p:cNvPicPr/>
          <p:nvPr/>
        </p:nvPicPr>
        <p:blipFill>
          <a:blip r:embed="rId1"/>
          <a:stretch/>
        </p:blipFill>
        <p:spPr>
          <a:xfrm>
            <a:off x="2124000" y="4149720"/>
            <a:ext cx="1281240" cy="16556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6" descr="Vehicle_coloring_pages_for_babies_26.gif"/>
          <p:cNvPicPr/>
          <p:nvPr/>
        </p:nvPicPr>
        <p:blipFill>
          <a:blip r:embed="rId2"/>
          <a:stretch/>
        </p:blipFill>
        <p:spPr>
          <a:xfrm>
            <a:off x="3203640" y="4076640"/>
            <a:ext cx="1279440" cy="16560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7" descr="Vehicle_coloring_pages_for_babies_26.gif"/>
          <p:cNvPicPr/>
          <p:nvPr/>
        </p:nvPicPr>
        <p:blipFill>
          <a:blip r:embed="rId3"/>
          <a:stretch/>
        </p:blipFill>
        <p:spPr>
          <a:xfrm>
            <a:off x="5003640" y="4005360"/>
            <a:ext cx="1279800" cy="16556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8" descr="Vehicle_coloring_pages_for_babies_26.gif"/>
          <p:cNvPicPr/>
          <p:nvPr/>
        </p:nvPicPr>
        <p:blipFill>
          <a:blip r:embed="rId4"/>
          <a:stretch/>
        </p:blipFill>
        <p:spPr>
          <a:xfrm>
            <a:off x="4067280" y="4005360"/>
            <a:ext cx="1279440" cy="165564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9" descr="Vehicle_coloring_pages_for_babies_26.gif"/>
          <p:cNvPicPr/>
          <p:nvPr/>
        </p:nvPicPr>
        <p:blipFill>
          <a:blip r:embed="rId5"/>
          <a:stretch/>
        </p:blipFill>
        <p:spPr>
          <a:xfrm>
            <a:off x="5940360" y="4005360"/>
            <a:ext cx="1279440" cy="16556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0" descr="Vehicle_coloring_pages_for_babies_26.gif"/>
          <p:cNvPicPr/>
          <p:nvPr/>
        </p:nvPicPr>
        <p:blipFill>
          <a:blip r:embed="rId6"/>
          <a:stretch/>
        </p:blipFill>
        <p:spPr>
          <a:xfrm>
            <a:off x="7020000" y="4005360"/>
            <a:ext cx="1279440" cy="16556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1" descr="Vehicle_coloring_pages_for_babies_26.gif"/>
          <p:cNvPicPr/>
          <p:nvPr/>
        </p:nvPicPr>
        <p:blipFill>
          <a:blip r:embed="rId7"/>
          <a:stretch/>
        </p:blipFill>
        <p:spPr>
          <a:xfrm>
            <a:off x="0" y="3789360"/>
            <a:ext cx="1279440" cy="165564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6" descr="Vehicle_coloring_pages_for_babies_26.gif"/>
          <p:cNvPicPr/>
          <p:nvPr/>
        </p:nvPicPr>
        <p:blipFill>
          <a:blip r:embed="rId8"/>
          <a:stretch/>
        </p:blipFill>
        <p:spPr>
          <a:xfrm>
            <a:off x="1116000" y="4076640"/>
            <a:ext cx="1279440" cy="1656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"/>
          <p:cNvPicPr/>
          <p:nvPr/>
        </p:nvPicPr>
        <p:blipFill>
          <a:blip r:embed="rId9"/>
          <a:stretch/>
        </p:blipFill>
        <p:spPr>
          <a:xfrm>
            <a:off x="1279440" y="189000"/>
            <a:ext cx="74692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 вы заметили в алгоритме? (пропуски)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вайте заполним пропуски. 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74170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Содержимое 3" descr="5b45ccb0_8a89_0131_f677_12313c0dade2.jpg"/>
          <p:cNvPicPr/>
          <p:nvPr/>
        </p:nvPicPr>
        <p:blipFill>
          <a:blip r:embed="rId1"/>
          <a:stretch/>
        </p:blipFill>
        <p:spPr>
          <a:xfrm>
            <a:off x="1908000" y="1989000"/>
            <a:ext cx="885960" cy="790560"/>
          </a:xfrm>
          <a:prstGeom prst="rect">
            <a:avLst/>
          </a:prstGeom>
          <a:ln w="0">
            <a:noFill/>
          </a:ln>
        </p:spPr>
      </p:pic>
      <p:pic>
        <p:nvPicPr>
          <p:cNvPr id="70" name="Содержимое 3" descr="5b45ccb0_8a89_0131_f677_12313c0dade2.jpg"/>
          <p:cNvPicPr/>
          <p:nvPr/>
        </p:nvPicPr>
        <p:blipFill>
          <a:blip r:embed="rId2"/>
          <a:stretch/>
        </p:blipFill>
        <p:spPr>
          <a:xfrm>
            <a:off x="2843280" y="1989000"/>
            <a:ext cx="885600" cy="790560"/>
          </a:xfrm>
          <a:prstGeom prst="rect">
            <a:avLst/>
          </a:prstGeom>
          <a:ln w="0">
            <a:noFill/>
          </a:ln>
        </p:spPr>
      </p:pic>
      <p:pic>
        <p:nvPicPr>
          <p:cNvPr id="71" name="Содержимое 3" descr="5b45ccb0_8a89_0131_f677_12313c0dade2.jpg"/>
          <p:cNvPicPr/>
          <p:nvPr/>
        </p:nvPicPr>
        <p:blipFill>
          <a:blip r:embed="rId3"/>
          <a:stretch/>
        </p:blipFill>
        <p:spPr>
          <a:xfrm>
            <a:off x="3708360" y="1989000"/>
            <a:ext cx="885960" cy="790560"/>
          </a:xfrm>
          <a:prstGeom prst="rect">
            <a:avLst/>
          </a:prstGeom>
          <a:ln w="0">
            <a:noFill/>
          </a:ln>
        </p:spPr>
      </p:pic>
      <p:pic>
        <p:nvPicPr>
          <p:cNvPr id="72" name="Содержимое 3" descr="5b45ccb0_8a89_0131_f677_12313c0dade2.jpg"/>
          <p:cNvPicPr/>
          <p:nvPr/>
        </p:nvPicPr>
        <p:blipFill>
          <a:blip r:embed="rId4"/>
          <a:stretch/>
        </p:blipFill>
        <p:spPr>
          <a:xfrm>
            <a:off x="4643280" y="1989000"/>
            <a:ext cx="885960" cy="790560"/>
          </a:xfrm>
          <a:prstGeom prst="rect">
            <a:avLst/>
          </a:prstGeom>
          <a:ln w="0">
            <a:noFill/>
          </a:ln>
        </p:spPr>
      </p:pic>
      <p:pic>
        <p:nvPicPr>
          <p:cNvPr id="73" name="Содержимое 3" descr="5b45ccb0_8a89_0131_f677_12313c0dade2.jpg"/>
          <p:cNvPicPr/>
          <p:nvPr/>
        </p:nvPicPr>
        <p:blipFill>
          <a:blip r:embed="rId5"/>
          <a:stretch/>
        </p:blipFill>
        <p:spPr>
          <a:xfrm>
            <a:off x="5508720" y="1989000"/>
            <a:ext cx="885600" cy="790560"/>
          </a:xfrm>
          <a:prstGeom prst="rect">
            <a:avLst/>
          </a:prstGeom>
          <a:ln w="0">
            <a:noFill/>
          </a:ln>
        </p:spPr>
      </p:pic>
      <p:sp>
        <p:nvSpPr>
          <p:cNvPr id="74" name="TextBox 11"/>
          <p:cNvSpPr/>
          <p:nvPr/>
        </p:nvSpPr>
        <p:spPr>
          <a:xfrm>
            <a:off x="2791800" y="3429000"/>
            <a:ext cx="357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 – 6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о -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2 ….. мен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Содержимое 3" descr="5b45ccb0_8a89_0131_f677_12313c0dade2.jpg"/>
          <p:cNvPicPr/>
          <p:nvPr/>
        </p:nvPicPr>
        <p:blipFill>
          <a:blip r:embed="rId6"/>
          <a:stretch/>
        </p:blipFill>
        <p:spPr>
          <a:xfrm>
            <a:off x="6372360" y="1989000"/>
            <a:ext cx="885600" cy="790560"/>
          </a:xfrm>
          <a:prstGeom prst="rect">
            <a:avLst/>
          </a:prstGeom>
          <a:ln w="0">
            <a:noFill/>
          </a:ln>
        </p:spPr>
      </p:pic>
      <p:sp>
        <p:nvSpPr>
          <p:cNvPr id="76" name="TextBox 9"/>
          <p:cNvSpPr/>
          <p:nvPr/>
        </p:nvSpPr>
        <p:spPr>
          <a:xfrm>
            <a:off x="2061360" y="1268280"/>
            <a:ext cx="52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ставьте задачу по рисунку и краткой запис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Реши и ответь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5" descr="цветик.jpg"/>
          <p:cNvPicPr/>
          <p:nvPr/>
        </p:nvPicPr>
        <p:blipFill>
          <a:blip r:embed="rId1"/>
          <a:stretch/>
        </p:blipFill>
        <p:spPr>
          <a:xfrm>
            <a:off x="2340000" y="1916280"/>
            <a:ext cx="3282840" cy="3949560"/>
          </a:xfrm>
          <a:prstGeom prst="rect">
            <a:avLst/>
          </a:prstGeom>
          <a:ln w="0">
            <a:noFill/>
          </a:ln>
        </p:spPr>
      </p:pic>
      <p:sp>
        <p:nvSpPr>
          <p:cNvPr id="79" name="TextBox 6"/>
          <p:cNvSpPr/>
          <p:nvPr/>
        </p:nvSpPr>
        <p:spPr>
          <a:xfrm>
            <a:off x="6158880" y="2060640"/>
            <a:ext cx="19868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 – крас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 – си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5 – голу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6 – оранже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7 – зеле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8 – жел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0 - фиолет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бы у вас появился бы волшебный цветок, какие  желания  вы бы загадали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 у  вас  прекрасное  настроение,  и  вы  хотели  бы  ещё  поработать, тогда  закрасьте лепесток красным цветом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 у  вас  хорошее  настроение, но  вы  немного  устали, тогда закрасьте лепесток желтым цвето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 у  вас  вдруг  испортилось  настроение, тогда  закрасьте лепесток зеленым цвет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Капля 3"/>
          <p:cNvSpPr/>
          <p:nvPr/>
        </p:nvSpPr>
        <p:spPr>
          <a:xfrm>
            <a:off x="2916360" y="5732640"/>
            <a:ext cx="503280" cy="433080"/>
          </a:xfrm>
          <a:custGeom>
            <a:avLst/>
            <a:gdLst/>
            <a:ahLst/>
            <a:rect l="l" t="t" r="r" b="b"/>
            <a:pathLst>
              <a:path w="503237" h="433387">
                <a:moveTo>
                  <a:pt x="0" y="216694"/>
                </a:moveTo>
                <a:cubicBezTo>
                  <a:pt x="0" y="97017"/>
                  <a:pt x="112654" y="0"/>
                  <a:pt x="251619" y="0"/>
                </a:cubicBezTo>
                <a:lnTo>
                  <a:pt x="503237" y="0"/>
                </a:lnTo>
                <a:lnTo>
                  <a:pt x="503237" y="216694"/>
                </a:lnTo>
                <a:cubicBezTo>
                  <a:pt x="503237" y="336371"/>
                  <a:pt x="390583" y="433388"/>
                  <a:pt x="251618" y="433388"/>
                </a:cubicBezTo>
                <a:cubicBezTo>
                  <a:pt x="112653" y="433388"/>
                  <a:pt x="-1" y="336371"/>
                  <a:pt x="-1" y="216694"/>
                </a:cubicBezTo>
                <a:lnTo>
                  <a:pt x="0" y="216694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Капля 4"/>
          <p:cNvSpPr/>
          <p:nvPr/>
        </p:nvSpPr>
        <p:spPr>
          <a:xfrm>
            <a:off x="3995640" y="5732640"/>
            <a:ext cx="505080" cy="433080"/>
          </a:xfrm>
          <a:custGeom>
            <a:avLst/>
            <a:gdLst/>
            <a:ahLst/>
            <a:rect l="l" t="t" r="r" b="b"/>
            <a:pathLst>
              <a:path w="504825" h="433387">
                <a:moveTo>
                  <a:pt x="0" y="216694"/>
                </a:moveTo>
                <a:cubicBezTo>
                  <a:pt x="0" y="97017"/>
                  <a:pt x="113009" y="0"/>
                  <a:pt x="252413" y="0"/>
                </a:cubicBezTo>
                <a:lnTo>
                  <a:pt x="504825" y="0"/>
                </a:lnTo>
                <a:lnTo>
                  <a:pt x="504825" y="216694"/>
                </a:lnTo>
                <a:cubicBezTo>
                  <a:pt x="504825" y="336371"/>
                  <a:pt x="391816" y="433388"/>
                  <a:pt x="252412" y="433388"/>
                </a:cubicBezTo>
                <a:cubicBezTo>
                  <a:pt x="113008" y="433388"/>
                  <a:pt x="-1" y="336371"/>
                  <a:pt x="-1" y="216694"/>
                </a:cubicBezTo>
                <a:lnTo>
                  <a:pt x="0" y="216694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Капля 5"/>
          <p:cNvSpPr/>
          <p:nvPr/>
        </p:nvSpPr>
        <p:spPr>
          <a:xfrm>
            <a:off x="5219640" y="5732640"/>
            <a:ext cx="504720" cy="433080"/>
          </a:xfrm>
          <a:custGeom>
            <a:avLst/>
            <a:gdLst/>
            <a:ahLst/>
            <a:rect l="l" t="t" r="r" b="b"/>
            <a:pathLst>
              <a:path w="504825" h="433387">
                <a:moveTo>
                  <a:pt x="0" y="216694"/>
                </a:moveTo>
                <a:cubicBezTo>
                  <a:pt x="0" y="97017"/>
                  <a:pt x="113009" y="0"/>
                  <a:pt x="252413" y="0"/>
                </a:cubicBezTo>
                <a:lnTo>
                  <a:pt x="504825" y="0"/>
                </a:lnTo>
                <a:lnTo>
                  <a:pt x="504825" y="216694"/>
                </a:lnTo>
                <a:cubicBezTo>
                  <a:pt x="504825" y="336371"/>
                  <a:pt x="391816" y="433388"/>
                  <a:pt x="252412" y="433388"/>
                </a:cubicBezTo>
                <a:cubicBezTo>
                  <a:pt x="113008" y="433388"/>
                  <a:pt x="-1" y="336371"/>
                  <a:pt x="-1" y="216694"/>
                </a:cubicBezTo>
                <a:lnTo>
                  <a:pt x="0" y="216694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2T09:55:23Z</dcterms:created>
  <dc:creator>Наталья</dc:creator>
  <dc:description/>
  <dc:language>en-US</dc:language>
  <cp:lastModifiedBy>Алёна</cp:lastModifiedBy>
  <dcterms:modified xsi:type="dcterms:W3CDTF">2017-02-15T13:04:22Z</dcterms:modified>
  <cp:revision>59</cp:revision>
  <dc:subject/>
  <dc:title>Название презентации</dc:title>
</cp:coreProperties>
</file>