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C06-C57E-44F6-9458-A6548BFA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431-F864-4713-A12E-B7D974F4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515-06E9-4D33-8DFB-5131FAA8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552-0EED-466F-98D5-8B81E9A5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432-0234-4D02-8363-F40091D5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265-C48D-4434-BC3C-68059BDB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958-930E-46C3-BFF4-66B80934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5FA-2BFA-415E-90BF-301D7AF3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CBD-E847-44B8-B2DF-7198AF14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48B-96DA-4F1D-BC8A-2D9CBAF5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4CB-22CD-4805-9729-E0EF79CE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08D-B3BF-4BBB-A7B9-BF741DCF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386C-75A6-40D3-8FD2-F1F4E608B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  образовательная деятель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циально - коммуникативному развитию детей 2 младше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168360" cy="21607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2286000" y="282888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 воспитатель МАДОУ детского сада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овицкая Татьяна 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доброжелательное отношение к сверстникам и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 представления о друж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эмоциональную отзывч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ая рабо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фрагмент из  мультфильма «Крокодил Гена  и Чебурашка», беседа о дружбе, стихи о дружбе: «Дружба», «Мой лучший друг», «Верный друг»,  поздравительные открытки, танец под музыку «Вот гуляем мы с дружк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и оборудова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ая доска, конверт с билетами, открытки – подарки, изготовленные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мы построим с вами круг, слева - друг и справа – друг, никуда не выходи,  пирамиду соб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 какая получилась  у нас пирамида, назовем ее дружба. « Раз, два, три, четыре, пять» -  начинаем мы играть. А в какую игру мы поможем поиграть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к в дверь и заходит почтал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льон Печк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дравствуйте, ребята, я почтальон Печкин, это ребята из группы № 6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льон Печк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Я принес вам конвер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пасибо, почтальон Печкин,  мне пора идти  разносить дальше поч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1403280" y="3645000"/>
            <a:ext cx="2054160" cy="2276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5508720" y="3645000"/>
            <a:ext cx="19429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бята, а вы хотите посмотреть, что в этом конвер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то это такое? (Открываю  конверт  и показываю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. Посмотрите они не простые а разноцвет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они цве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инего и красного цв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ейчас выдам билеты, у кого синего цвета - тот сядет на первый ряд, у кого красного- на второй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бята, скажите, а как себя ведут в кинотеатр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разговаривают, громко не смеются,  внимательно слуш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мы будем смотреть мультфильм, а как он называется, вы мне скажете после просмо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3348000" y="393372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называется этот мультфильм?  ( Ответы дет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 какого мультфильма эти герои? Назовите, кого вы узнали. (Ответы детей). 1 слай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 кто будет следующим героем, с кем подружился  Чебурашка? ( Ответы детей) 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 Чебурашка вначале был грустным? (Ему не с кем было играть,  у него не было друзей). 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 кто такой друг ? (Ответы дете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руг - это тот, с кем интересно играть, кто делится  книгами, игрушками, конф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кем Чебурашка подружился ? ( с Крокодилом Геной, с девочкой) 4слай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у вас есть друзья? Дети называют по именам своих друзей. С другом  весело, интересно, нравиться игр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на ладошки, наши пальчики дружные как одна семья, они всегда вме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пальчиковая гимнастика « Дружб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ат в нашей групп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закончили счит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и и мальч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 вами подружим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е пальч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три, четыре, п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 считать оп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три, четыре, п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ти, мы с вами целые дни проводим вместе, поэтому мы, как одна семья, как верные друзья, должны жить дружно, не обижать друг друга, играть вместе, уступать и помогать друг дру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5 фото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немного поиграем, делайте кр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стают в круг, крепко берутся за  руки. Раскачивая руками, произносят слова: «Ты и я, ты и я, все мы дружная семья» (2-3 раз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дети расскажут стихи о друж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, ребята, пригласите друга на танец, я вижу, что все  у нас дружные, весел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анцуют по музы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лив тот, кто имеет настоящего друга.А что можно приятное сделать для своего друга? А мы с вами сделали открытки, которые вы подарите своему лучшему дру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ите открытки и подарите своему дру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нашим гостям, пожелаем хороших верных друз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2664000" cy="3070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2"/>
          <a:stretch/>
        </p:blipFill>
        <p:spPr>
          <a:xfrm>
            <a:off x="5292720" y="2928960"/>
            <a:ext cx="24271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1:55:00Z</dcterms:created>
  <dc:creator>FuckYouBill</dc:creator>
  <dc:description/>
  <dc:language>en-US</dc:language>
  <cp:lastModifiedBy>User</cp:lastModifiedBy>
  <dcterms:modified xsi:type="dcterms:W3CDTF">2016-01-23T12:11:47Z</dcterms:modified>
  <cp:revision>18</cp:revision>
  <dc:subject/>
  <dc:title>Слайд 1</dc:title>
</cp:coreProperties>
</file>