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84C-3E25-4DEC-A8DE-2CC3588F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54B-F40F-4965-9C05-2242DE9A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B0EF-47F7-4ED7-A686-7A593310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13D9-C7EB-43E1-B968-DDDCB83A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922E-C3E5-40B2-A679-412D12FE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CFD-8F65-4266-9346-D6F1CBB9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671-A2DA-4B75-9513-3F0A9207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9D0-E3E1-44C2-B3F1-A1219B4E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233-9581-4A23-B312-89F001F7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0133-6DB9-4619-AE62-568A1651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C24-37EB-4AB3-9E4E-159F0890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01B-A70D-4634-AE43-217C39E0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FDEB-5671-4EB7-B9B8-E53268644D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  образовательная деятельнос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циально - коммуникативному развитию детей 2 младшей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3168360" cy="21607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2286000" y="2828880"/>
            <a:ext cx="640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 воспитатель МАДОУ детского сада №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овицкая Татьяна Вита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доброжелательное отношение к сверстникам и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ять представления о друж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эмоциональную отзывч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ая рабо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фрагмент из  мультфильма «Крокодил Гена  и Чебурашка», беседа о дружбе, стихи о дружбе: «Дружба», «Мой лучший друг», «Верный друг»,  поздравительные открытки, танец под музыку «Вот гуляем мы с дружк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и оборудова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ая доска, конверт с билетами, открытки – подарки, изготовленные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, мы построим с вами круг, слева - друг и справа – друг, никуда не выходи,  пирамиду собер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 какая получилась  у нас пирамида, назовем ее дружба. « Раз, два, три, четыре, пять» -  начинаем мы играть. А в какую игру мы поможем поиграть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к в дверь и заходит почталь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альон Печки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дравствуйте, ребята, я почтальон Печкин, это ребята из группы № 6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альон Печки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Я принес вам конвер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-л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пасибо, почтальон Печкин,  мне пора идти  разносить дальше поч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1403280" y="3645000"/>
            <a:ext cx="2054160" cy="22762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tretch/>
        </p:blipFill>
        <p:spPr>
          <a:xfrm>
            <a:off x="5508720" y="3645000"/>
            <a:ext cx="194292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-л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ебята, а вы хотите посмотреть, что в этом конвер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-л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Что это такое? (Открываю  конверт  и показываю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ет. Посмотрите они не простые а разноцвет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-л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они цвет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инего и красного цв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-л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ейчас выдам билеты, у кого синего цвета - тот сядет на первый ряд, у кого красного- на второй 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-л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ебята, скажите, а как себя ведут в кинотеатр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разговаривают, громко не смеются,  внимательно слуш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-л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мы будем смотреть мультфильм, а как он называется, вы мне скажете после просмо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3348000" y="3933720"/>
            <a:ext cx="2232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называется этот мультфильм?  ( Ответы дет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 какого мультфильма эти герои? Назовите, кого вы узнали. (Ответы детей). 1 слай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 кто будет следующим героем, с кем подружился  Чебурашка? ( Ответы детей) 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чему Чебурашка вначале был грустным? (Ему не с кем было играть,  у него не было друзей). 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 кто такой друг ? (Ответы детей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руг - это тот, с кем интересно играть, кто делится  книгами, игрушками, конфе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кем Чебурашка подружился ? ( с Крокодилом Геной, с девочкой) 4слай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у вас есть друзья? Дети называют по именам своих друзей. С другом  весело, интересно, нравиться игр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 на ладошки, наши пальчики дружные как одна семья, они всегда вме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 пальчиковая гимнастика « Дружб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ат в нашей групп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закончили счит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и и мальч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 вами подружим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ие пальч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, два, три, четыре, п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й считать опя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, два, три, четыре, п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ти, мы с вами целые дни проводим вместе, поэтому мы, как одна семья, как верные друзья, должны жить дружно, не обижать друг друга, играть вместе, уступать и помогать друг дру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5 фото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немного поиграем, делайте кр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мину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стают в круг, крепко берутся за  руки. Раскачивая руками, произносят слова: «Ты и я, ты и я, все мы дружная семья» (2-3 раз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йчас дети расскажут стихи о дружб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, ребята, пригласите друга на танец, я вижу, что все  у нас дружные, весел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анцуют по музы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лив тот, кто имеет настоящего друга.А что можно приятное сделать для своего друга? А мы с вами сделали открытки, которые вы подарите своему лучшему дру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ьмите открытки и подарите своему дру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нашим гостям, пожелаем хороших верных друз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ви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2664000" cy="30700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2"/>
          <a:stretch/>
        </p:blipFill>
        <p:spPr>
          <a:xfrm>
            <a:off x="5292720" y="2928960"/>
            <a:ext cx="242712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1:55:00Z</dcterms:created>
  <dc:creator>FuckYouBill</dc:creator>
  <dc:description/>
  <dc:language>en-US</dc:language>
  <cp:lastModifiedBy>User</cp:lastModifiedBy>
  <dcterms:modified xsi:type="dcterms:W3CDTF">2016-01-23T12:11:47Z</dcterms:modified>
  <cp:revision>18</cp:revision>
  <dc:subject/>
  <dc:title>Слайд 1</dc:title>
</cp:coreProperties>
</file>