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2AB-B63D-4701-8B7A-D85C1D1B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926-E379-4A37-930F-26D5D87D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92A-EE88-4CA2-9B7B-4C2E0F19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2FB-D4FC-4CAB-86C1-96DCAE30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303-1F3B-4C62-AF2F-467E52D1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ADD-B5F3-4D1D-86A0-A9BEDB6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C21-894A-4BC8-AE96-E6459EB8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687-0ED7-4249-9FDD-5465E334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99D-5ACA-4E8D-8A48-DA32D247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049-FE64-430F-8A71-C8743ED3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766-D7AA-4A47-8C4E-5CC5D5F1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844-7C64-4429-A803-513B49F3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060A-FDE9-4A5B-A7C1-37A69D3C8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94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6360" y="62164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торая полов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0"/>
            <a:ext cx="21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Вен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27813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оруна, серед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92720" y="155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остюм молодой женщины. Вид сзади. Вторая полов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6985080" cy="690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Bookman Old Style"/>
              </a:rPr>
              <a:t>Накосник лопатка, конец XIX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87280" y="2205000"/>
            <a:ext cx="29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Накосник, конец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664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войник, серед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19640" y="2492280"/>
            <a:ext cx="30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Повязка, конец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932360" y="2060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оневный комплекс женской одежды, вторая половина XIX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70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59280" y="2133720"/>
            <a:ext cx="30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убаха девичья покосная, конец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19560" y="1752480"/>
            <a:ext cx="2819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Жен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украш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тор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овина X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- начало X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543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248160"/>
            <a:ext cx="828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Женский головной убор XIX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4678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1760" y="6172200"/>
            <a:ext cx="784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Женский головной убор XIX ве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148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76360" y="1844280"/>
            <a:ext cx="3816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Жен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празднич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костюм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начало X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00440" y="2057400"/>
            <a:ext cx="2590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Кокош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голов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серед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XIX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5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-41400"/>
            <a:ext cx="8076960" cy="6899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окошник, середина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01000" cy="6873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32360" y="548496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Кокошники, конец XVIII - начало XIX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2708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Комплекс женской одежды с сарафаном, начало XIX 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22:36Z</dcterms:created>
  <dc:creator>Валя</dc:creator>
  <dc:description/>
  <dc:language>en-US</dc:language>
  <cp:lastModifiedBy>1</cp:lastModifiedBy>
  <dcterms:modified xsi:type="dcterms:W3CDTF">2007-10-25T12:21:25Z</dcterms:modified>
  <cp:revision>5</cp:revision>
  <dc:subject/>
  <dc:title>Презентация PowerPoint</dc:title>
</cp:coreProperties>
</file>