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766-479A-45EB-9E0B-3AA08B5A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BF48-6E25-433C-A668-D084B225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BB42-2840-4B59-AB5D-421D5AD9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62C-D65A-4F4F-8679-50AE8D08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A729-B0A4-4E64-878C-96D2C8BA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EA85-4F28-4AC1-BA6C-C5354206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DADE-E73A-4CB1-9B19-0C7207C3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44F-9C5C-4A5E-9591-303F3A9D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F04F-A3BD-429B-9A90-05BC2DF4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14A8-D496-4F18-ACD4-EC57FF8D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238-D7A2-4BC4-B105-2406A95D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798-B198-44D4-A9FB-DAC8EB31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95E2-8F15-49A9-A428-CE34FBF0E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5949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76360" y="62164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торая половина XIX 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0"/>
            <a:ext cx="218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Вене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12000" y="2781360"/>
            <a:ext cx="27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оруна, середина XIX 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417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92720" y="1557360"/>
            <a:ext cx="36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Костюм молодой женщины. Вид сзади. Вторая половина XIX 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6985080" cy="6905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0"/>
            <a:ext cx="31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Bookman Old Style"/>
              </a:rPr>
              <a:t>Накосник лопатка, конец XIX 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87280" y="2205000"/>
            <a:ext cx="29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Накосник, конец XIX 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6645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овойник, середина XIX 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219640" y="2492280"/>
            <a:ext cx="307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Повязка, конец XIX 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932360" y="2060640"/>
            <a:ext cx="40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оневный комплекс женской одежды, вторая половина XIX 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701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859280" y="2133720"/>
            <a:ext cx="30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Рубаха девичья покосная, конец XIX 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19560" y="1752480"/>
            <a:ext cx="28191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Женск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украше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тор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овина X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- начало X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5436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6248160"/>
            <a:ext cx="8283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Женский головной убор XIX 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4678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1760" y="6172200"/>
            <a:ext cx="7848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Женский головной убор XIX ве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1483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76360" y="1844280"/>
            <a:ext cx="3816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Женс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праздничны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костюм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начало XX 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00440" y="2057400"/>
            <a:ext cx="2590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Кокош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головк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серед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XIX 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5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-41400"/>
            <a:ext cx="8076960" cy="6899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Кокошник, середина XIX 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001000" cy="6873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932360" y="5484960"/>
            <a:ext cx="37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Кокошники, конец XVIII - начало XIX 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270828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Комплекс женской одежды с сарафаном, начало XIX 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5:22:36Z</dcterms:created>
  <dc:creator>Валя</dc:creator>
  <dc:description/>
  <dc:language>en-US</dc:language>
  <cp:lastModifiedBy>1</cp:lastModifiedBy>
  <dcterms:modified xsi:type="dcterms:W3CDTF">2007-10-25T12:21:25Z</dcterms:modified>
  <cp:revision>5</cp:revision>
  <dc:subject/>
  <dc:title>Презентация PowerPoint</dc:title>
</cp:coreProperties>
</file>