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8.jpeg" ContentType="image/jpeg"/>
  <Override PartName="/ppt/media/image16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D33-AE59-4046-A40D-39999A8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A5F-D9AA-4AFB-96C1-34FDFD4B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BA7-7444-4E1C-9BB9-10056BE7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826-AA0A-444C-8CC8-1B813383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B3F-8142-48FC-A20D-24D02B86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6A4-3C7B-40B0-9326-DBEE889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869-E48F-4DF1-9D9F-3314EB5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A16-0F18-465B-B313-8F4389D0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AC11-E163-432A-926F-D73E20AF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AAD2-EAC9-412D-8032-95F62FE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E62-D37C-4AE4-8D9A-2EDDB68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1B3-8123-4D46-A3A4-F3257AF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774-8A2B-420F-953B-3BD6D4A1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A9F-9905-4DE7-90B3-69172E8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916E-94B2-4AA5-8E62-8B68922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F0CD-2375-4948-A5A7-1E0A24C4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BF0-E790-4576-8796-BAF19A9A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69D-64AF-46E3-9B80-9D779EF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B35-D234-4E2A-A0F2-8C8876FE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6AE-5990-4CDF-B82A-CD966AA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00A-C2F5-46A7-AC14-ED7B21D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5A1-4736-416E-BD2F-71632B9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FBB-10A5-4561-A185-BB751B6E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CA1-58AB-49CD-9215-7F0078E1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809-327A-473D-BB02-11CB3BBD34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71AF-FDC8-43A4-BA48-1197316D8D1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067680" y="838080"/>
            <a:ext cx="7632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00200" y="1370160"/>
            <a:ext cx="6831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"Поступай с другими так, как бы ты хотел, чтобы поступали с тобой"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C:\Users\Наталья\Desktop\3607591-businesspeople-shaking-hands.jpg"/>
          <p:cNvPicPr/>
          <p:nvPr/>
        </p:nvPicPr>
        <p:blipFill>
          <a:blip r:embed="rId1"/>
          <a:stretch/>
        </p:blipFill>
        <p:spPr>
          <a:xfrm>
            <a:off x="76320" y="16002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2268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Цель программы: 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вышение у учащихся уровня толерантности, порога реагирования на неблагоприятное воздействие со стороны всех участников учебно-воспитательного процесса: сверстников, учителей, роди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14800" y="196560"/>
            <a:ext cx="19051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831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5000" y="-222480"/>
            <a:ext cx="380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5" descr="IMG_8183"/>
          <p:cNvPicPr/>
          <p:nvPr/>
        </p:nvPicPr>
        <p:blipFill>
          <a:blip r:embed="rId1"/>
          <a:stretch/>
        </p:blipFill>
        <p:spPr>
          <a:xfrm rot="20824200">
            <a:off x="209520" y="348840"/>
            <a:ext cx="3378240" cy="22528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 rot="756000">
            <a:off x="4093920" y="344520"/>
            <a:ext cx="3414600" cy="2278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" descr=""/>
          <p:cNvPicPr/>
          <p:nvPr/>
        </p:nvPicPr>
        <p:blipFill>
          <a:blip r:embed="rId3"/>
          <a:stretch/>
        </p:blipFill>
        <p:spPr>
          <a:xfrm>
            <a:off x="838080" y="220968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4"/>
          <a:stretch/>
        </p:blipFill>
        <p:spPr>
          <a:xfrm>
            <a:off x="3809880" y="2133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"/>
          <p:cNvPicPr/>
          <p:nvPr/>
        </p:nvPicPr>
        <p:blipFill>
          <a:blip r:embed="rId5"/>
          <a:stretch/>
        </p:blipFill>
        <p:spPr>
          <a:xfrm rot="715200">
            <a:off x="4224240" y="4268880"/>
            <a:ext cx="3192480" cy="21304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"/>
          <p:cNvPicPr/>
          <p:nvPr/>
        </p:nvPicPr>
        <p:blipFill>
          <a:blip r:embed="rId6"/>
          <a:stretch/>
        </p:blipFill>
        <p:spPr>
          <a:xfrm rot="20612400">
            <a:off x="485280" y="4086000"/>
            <a:ext cx="34894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62760" y="-4907520"/>
            <a:ext cx="228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школе было проведено анкетиров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ыло задано 4 вопроса, из которых мы узнали, как обучающиеся чувствуют себя среди одноклассников, учителей и  в кругу семь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равятся ли Вам одноклассник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0556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152280" y="1828800"/>
          <a:ext cx="78487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78487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ывает ли у Вас желание перейти в другой класс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15292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0" y="1600200"/>
          <a:ext cx="78487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8487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, по Вашему мнению, относятся к Вам учителя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2924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0" y="1523880"/>
          <a:ext cx="79246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924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ома Вам часто приходится нервничать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05560" y="228240"/>
            <a:ext cx="61596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0" y="1523880"/>
          <a:ext cx="79246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924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686440" y="-4603320"/>
            <a:ext cx="228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веденное диагностическое исследование показывает, что  у обучающихся действительно существуют незначительные нарушения в общении с учителями,  одноклассниками и родителями. Но эти нарушения часто приводят к конфликт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7" descr="C:\Users\Люда\Desktop\МЕДИАЦИЯ КАРТИНКИ\p_10394d47.jpg"/>
          <p:cNvPicPr/>
          <p:nvPr/>
        </p:nvPicPr>
        <p:blipFill>
          <a:blip r:embed="rId1"/>
          <a:stretch/>
        </p:blipFill>
        <p:spPr>
          <a:xfrm>
            <a:off x="4343400" y="4191120"/>
            <a:ext cx="30481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912000" cy="2190600"/>
          </a:xfrm>
          <a:prstGeom prst="rect">
            <a:avLst/>
          </a:prstGeom>
          <a:gradFill rotWithShape="0">
            <a:gsLst>
              <a:gs pos="0">
                <a:srgbClr val="ebdecb"/>
              </a:gs>
              <a:gs pos="100000">
                <a:srgbClr val="d1c0a6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Медиация в школе. </a:t>
            </a: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Практика диалога и примире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2463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867120" cy="36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10-19T11:24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