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5.wmf" ContentType="image/x-wmf"/>
  <Override PartName="/ppt/media/image19.png" ContentType="image/png"/>
  <Override PartName="/ppt/media/image18.jpeg" ContentType="image/jpeg"/>
  <Override PartName="/ppt/media/image16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CC5-0DFA-40A6-B1D8-1C52D4D1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D07-317A-4B06-8F8C-632EE8F9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C02-0153-4F2E-8A63-16EEB4CB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392-5154-4F3E-B184-50F43AED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47B7-CB46-4432-A50E-293A9DCC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1619-DA34-4222-BD0D-0DA311F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C147-21A6-4284-8B88-3770665D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E666-CBC6-4126-B0F7-DB6740E1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E11F-665D-4397-9EB7-91FA7D9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6EBD-12DE-4C0B-8B11-3002C4B2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E2DE-F01A-42E8-8291-A1D6173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91A-794C-468A-A59D-B26E0F4C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6256-3C49-48C4-92E4-0C2C26C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132-D51F-47E3-B854-2EA75F5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DFDA-84F0-4C58-B021-8A329A9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60FE-B9AE-423B-A516-09E08C16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EE1-0E55-4D67-9DCC-2D4ABB71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E9A-C6A3-426C-ABB8-DB165DAD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237-A0F9-4BF5-8659-4B3337BE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278-9B96-45FA-A515-02592DD3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530-9842-4598-81F4-CA02425D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E55-909C-42BE-99DB-70F6EF3A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BF4-2806-41B9-ACF7-EAE9DEE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775-CE26-4FCE-9F44-68EA126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BFAE-4FD7-4863-ACE2-D54874FF95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CCC0-080A-4B1A-9F07-F026DEB9EE8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067680" y="838080"/>
            <a:ext cx="763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00200" y="1370160"/>
            <a:ext cx="68310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"Поступай с другими так, как бы ты хотел, чтобы поступали с тобой"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C:\Users\Наталья\Desktop\3607591-businesspeople-shaking-hands.jpg"/>
          <p:cNvPicPr/>
          <p:nvPr/>
        </p:nvPicPr>
        <p:blipFill>
          <a:blip r:embed="rId1"/>
          <a:stretch/>
        </p:blipFill>
        <p:spPr>
          <a:xfrm>
            <a:off x="76320" y="16002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2268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Цель программы: 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вышение у учащихся уровня толерантности, порога реагирования на неблагоприятное воздействие со стороны всех участников учебно-воспитательного процесса: сверстников, учителей, родител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14800" y="196560"/>
            <a:ext cx="19051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Рисунок 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83100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5000" y="-222480"/>
            <a:ext cx="3808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0" y="152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5" descr="IMG_8183"/>
          <p:cNvPicPr/>
          <p:nvPr/>
        </p:nvPicPr>
        <p:blipFill>
          <a:blip r:embed="rId1"/>
          <a:stretch/>
        </p:blipFill>
        <p:spPr>
          <a:xfrm rot="20824200">
            <a:off x="209520" y="348840"/>
            <a:ext cx="3378240" cy="22528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" descr=""/>
          <p:cNvPicPr/>
          <p:nvPr/>
        </p:nvPicPr>
        <p:blipFill>
          <a:blip r:embed="rId2"/>
          <a:stretch/>
        </p:blipFill>
        <p:spPr>
          <a:xfrm rot="756000">
            <a:off x="4093920" y="344520"/>
            <a:ext cx="3414600" cy="22780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" descr=""/>
          <p:cNvPicPr/>
          <p:nvPr/>
        </p:nvPicPr>
        <p:blipFill>
          <a:blip r:embed="rId3"/>
          <a:stretch/>
        </p:blipFill>
        <p:spPr>
          <a:xfrm>
            <a:off x="838080" y="2209680"/>
            <a:ext cx="2845080" cy="21337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6" descr=""/>
          <p:cNvPicPr/>
          <p:nvPr/>
        </p:nvPicPr>
        <p:blipFill>
          <a:blip r:embed="rId4"/>
          <a:stretch/>
        </p:blipFill>
        <p:spPr>
          <a:xfrm>
            <a:off x="3809880" y="21337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" descr=""/>
          <p:cNvPicPr/>
          <p:nvPr/>
        </p:nvPicPr>
        <p:blipFill>
          <a:blip r:embed="rId5"/>
          <a:stretch/>
        </p:blipFill>
        <p:spPr>
          <a:xfrm rot="715200">
            <a:off x="4224240" y="4268880"/>
            <a:ext cx="3192480" cy="21304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8" descr=""/>
          <p:cNvPicPr/>
          <p:nvPr/>
        </p:nvPicPr>
        <p:blipFill>
          <a:blip r:embed="rId6"/>
          <a:stretch/>
        </p:blipFill>
        <p:spPr>
          <a:xfrm rot="20612400">
            <a:off x="485280" y="4086000"/>
            <a:ext cx="34894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62760" y="-4907520"/>
            <a:ext cx="2286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школе было проведено анкетирова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ыло задано 4 вопроса, из которых мы узнали, как обучающиеся чувствуют себя среди одноклассников, учителей и  в кругу семь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равятся ли Вам одноклассник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05560" y="228240"/>
            <a:ext cx="61596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152280" y="1828800"/>
          <a:ext cx="784872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784872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ывает ли у Вас желание перейти в другой класс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152920" y="228240"/>
            <a:ext cx="61596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0" y="1600200"/>
          <a:ext cx="784872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84872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, по Вашему мнению, относятся к Вам учителя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29240" y="228240"/>
            <a:ext cx="61596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0" y="1523880"/>
          <a:ext cx="792468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7924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ома Вам часто приходится нервничать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05560" y="228240"/>
            <a:ext cx="61596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0" y="1523880"/>
          <a:ext cx="792468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7924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686440" y="-4603320"/>
            <a:ext cx="2286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веденное диагностическое исследование показывает, что  у обучающихся действительно существуют незначительные нарушения в общении с учителями,  одноклассниками и родителями. Но эти нарушения часто приводят к конфликт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7" descr="C:\Users\Люда\Desktop\МЕДИАЦИЯ КАРТИНКИ\p_10394d47.jpg"/>
          <p:cNvPicPr/>
          <p:nvPr/>
        </p:nvPicPr>
        <p:blipFill>
          <a:blip r:embed="rId1"/>
          <a:stretch/>
        </p:blipFill>
        <p:spPr>
          <a:xfrm>
            <a:off x="4343400" y="4191120"/>
            <a:ext cx="30481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912000" cy="2190600"/>
          </a:xfrm>
          <a:prstGeom prst="rect">
            <a:avLst/>
          </a:prstGeom>
          <a:gradFill rotWithShape="0">
            <a:gsLst>
              <a:gs pos="0">
                <a:srgbClr val="ebdecb"/>
              </a:gs>
              <a:gs pos="100000">
                <a:srgbClr val="d1c0a6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Медиация в школе. </a:t>
            </a:r>
            <a:br>
              <a:rPr sz="3600"/>
            </a:b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Практика диалога и примир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24638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3867120" cy="364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10-19T11:24:5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