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16E-7B6F-4EF4-AF3E-73C481AD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8F7-7ECF-4079-ADDF-1D48C4DF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1CA-6CD7-4ABB-A9B4-C318402E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E91-797E-4A77-B631-AC29AD3E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5B2A-3979-47BC-8F3B-908DE030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97F8-86F9-4F66-ACAE-AC73CAC0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0347-73A8-4BD6-8CA0-82480E0A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50D7-8726-412E-A0E3-D0E5FB52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EB63-247E-4FBB-A0B6-985F585F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B797-1FA4-41B3-B294-4C063966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7536-5385-412F-8E66-D8F1197C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692-C0D0-44FD-AF7C-4CC59408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B27F-423F-4769-8E6C-2D8756D0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F448-43C9-4C08-ADED-9E5E4C33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4274-D22D-42D2-8F5F-0D49715A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6CAD-0214-4210-B608-34815951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7518-6BF0-4AA4-BC83-09B07A49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1B7-F696-4666-8A10-4DF2F0E9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C141-C915-4EBC-BE9E-C9190324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E41B-42EA-475B-996D-90F21C21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69C-8BE3-41D1-A0EA-E342EED4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372-238D-4197-A07B-4908A5EE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E68-4B6A-421A-A777-332898F9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F11-09C7-4B55-927D-1299E1A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E691-60C2-46ED-AC3C-E601ACA3D7B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23AD-B60B-48DE-A76E-13EEFEA1320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javascript:;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0" lang="en-US" sz="1900" spc="-1" strike="noStrike">
                <a:solidFill>
                  <a:srgbClr val="ffffcc"/>
                </a:solidFill>
                <a:latin typeface="Arial"/>
              </a:rPr>
              <a:t>МКОУ Верхнехавская СОШ №1</a:t>
            </a:r>
            <a:endParaRPr b="0" lang="en-US" sz="1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8001000" cy="36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Проект по предмету окружающий ми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«Моя малая родина»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                                       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Выполнил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             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обучающийся 2 «А» класса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                  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МКОУ Верхнехавской СОШ №1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Горшков Дмитрий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Руководитель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                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учитель начальных классов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cc0000"/>
                </a:solidFill>
                <a:latin typeface="Verdana"/>
              </a:rPr>
              <a:t>Горшкова М. Н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Это школа, в которой я учусь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59040" y="3428640"/>
            <a:ext cx="3794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расивы улицы нашего сел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9520" y="3429000"/>
            <a:ext cx="38124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7913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Новая церковь новомучеников Российских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боты по возведению церкви начались в 1996 году. Большим событием стало принесение в 2000 году в храм мощей святителя Тихона, патриарха Московского и всея Рус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 марта 2008 года митрополит Воронежский и Борисоглебский Сергий совершил чин великого освящения храма в честь Новомучеников и исповедников Российских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295280"/>
            <a:ext cx="5715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8120" y="-4984200"/>
            <a:ext cx="3808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4952880"/>
            <a:ext cx="556236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 нашем селе протекает река Хава, которая впадает в реку Усман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19320" y="422280"/>
            <a:ext cx="6705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Это гордость нашей Хавы – физкультурно-оздоровительный комплекс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15680" y="3276360"/>
            <a:ext cx="303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400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0" y="-1045800"/>
            <a:ext cx="83808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4800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ФОКе имеется огромный бассейн, где можно с удовольствием искупаться и укрепить своё здоровь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00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Вывод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Село, в котором я живу, очень красиво и интересно. Это моя малая родина, которую забывать нельз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Цель: привить любовь к родному      селу, показать красивые места сел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Актуальность: я считаю тему      моего проекта актуальной, так как  каждый человек должен с любовью относиться к тому месту, где он родился и выро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360" y="-5023800"/>
            <a:ext cx="759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426672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Это я, Горшков Дима. Я живу в селе Верхняя Хава. Оно мне очень нравится. Здесь много водоёмов: летом есть где искупаться. Недалеко от моего дома горка, с которой зимой интересно кататься на лыжах. В любое время года всегда можно найти увлекательное занятие для себ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334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Верхняя Хава на карте Воронежской области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23720" y="3505320"/>
            <a:ext cx="838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33720" y="1557360"/>
            <a:ext cx="4952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Это герб нашего сел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53341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 разделённом зеленью и лазурью поле звезда о восьми лучах; очередность сторон лучей звезды считается по круг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3657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58400"/>
            <a:ext cx="88390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Это флаг нашего сел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152640" y="4038480"/>
            <a:ext cx="9296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Флаг Верхнехавского района - это прямоугольное полотнище, разделённое на две равные полосы: зелёную и синюю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Зелёная часть дополняет символику природ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иняя часть полотнища показывает географическое расположение района на реке Хав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Главной фигурой флага является звезда о восьми луча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639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стория происхождения сел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6483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Первоначальное заселение села Хавы относят к XVI столетию. Первыми поселенцами считаются четыре семьи, выселенные из Киевской губернии. Село получило свое название от реки Хавы, на берегу которой оно расположено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086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аше село с высоты птичьего полёт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3658680"/>
            <a:ext cx="22860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8120" y="-4984200"/>
            <a:ext cx="3808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4952880"/>
            <a:ext cx="556236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 нашем селе протекает река Хава, которая впадает в реку Усман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19320" y="422280"/>
            <a:ext cx="6705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боратория</cp:lastModifiedBy>
  <dcterms:modified xsi:type="dcterms:W3CDTF">2017-02-15T10:40:3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