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ABC-F80E-48FD-B53B-A0C469B5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F15-28FC-45CF-95B3-51B03F93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77C5-EB36-4E34-A25E-206400CF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53B-296B-4179-83F1-89AEA117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B667-639F-49AF-9D71-8B21B297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970E-F2F9-4ADE-8FDC-20F818C4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2FD5-15A4-4C03-A0C0-48D83BDE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1262-978C-4020-9901-3F7BF3D1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1C9D-22C5-41D0-9A90-1FA687A3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ABD8-AF52-4D53-A647-72F14DB5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9DF3-EC5F-4A62-84EE-D1171D76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0CC-9D3C-4A31-B610-1D70C8DE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4729-F0AD-4E4D-B683-A4782117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D082-D43B-4FDC-B4B6-B1F2AA5C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E432-F889-4243-AB2D-9470CBA7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37F4-F59D-4B16-A3D6-A10CD707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DBEA-780D-4D16-B6A3-7BAFC8AB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333-8BF4-414F-90A8-85DF13C8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B9C-28AD-4F43-9C6C-2406776C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C96-9362-4BA8-B920-2792ADF7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B3B5-921E-47EE-838A-5E9E0DB9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193-90B7-489C-8C1A-FED54F22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BEA-E154-4A3B-88DC-A169D87B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179-6D9B-4323-BC83-40D2E053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A29B-B6F9-455E-9576-A789157CA75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6B89-8318-4ACD-AC43-4942BD8163D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javascript:;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Arial"/>
              </a:rPr>
              <a:t>             </a:t>
            </a:r>
            <a:r>
              <a:rPr b="0" lang="en-US" sz="1900" spc="-1" strike="noStrike">
                <a:solidFill>
                  <a:srgbClr val="ffffcc"/>
                </a:solidFill>
                <a:latin typeface="Arial"/>
              </a:rPr>
              <a:t>МКОУ Верхнехавская СОШ №1</a:t>
            </a:r>
            <a:endParaRPr b="0" lang="en-US" sz="1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8001000" cy="36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Проект по предмету окружающий ми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«Моя малая родина»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       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                                     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Выполнил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                  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обучающийся 2 «А» класса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                       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МКОУ Верхнехавской СОШ №1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     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Горшков Дмитрий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Руководитель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                     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учитель начальных классов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Горшкова М. Н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Это школа, в которой я учусь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59040" y="3428640"/>
            <a:ext cx="3794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858000" cy="43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расивы улицы нашего сел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9520" y="3429000"/>
            <a:ext cx="3812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7913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Новая церковь новомучеников Российских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боты по возведению церкви начались в 1996 году. Большим событием стало принесение в 2000 году в храм мощей святителя Тихона, патриарха Московского и всея Рус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2 марта 2008 года митрополит Воронежский и Борисоглебский Сергий совершил чин великого освящения храма в честь Новомучеников и исповедников Российских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295280"/>
            <a:ext cx="5715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8120" y="-4984200"/>
            <a:ext cx="3808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4952880"/>
            <a:ext cx="556236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 нашем селе протекает река Хава, которая впадает в реку Усман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19320" y="422280"/>
            <a:ext cx="6705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Это гордость нашей Хавы – физкультурно-оздоровительный комплекс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15680" y="3276360"/>
            <a:ext cx="303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4008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0" y="-1045800"/>
            <a:ext cx="83808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4800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ФОКе имеется огромный бассейн, где можно с удовольствием искупаться и укрепить своё здоровь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00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Вывод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Село, в котором я живу, очень красиво и интересно. Это моя малая родина, которую забывать нельз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Цель: привить любовь к родному      селу, показать красивые места села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Актуальность: я считаю тему      моего проекта актуальной, так как  каждый человек должен с любовью относиться к тому месту, где он родился и выро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3360" y="-5023800"/>
            <a:ext cx="759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426672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Это я, Горшков Дима. Я живу в селе Верхняя Хава. Оно мне очень нравится. Здесь много водоёмов: летом есть где искупаться. Недалеко от моего дома горка, с которой зимой интересно кататься на лыжах. В любое время года всегда можно найти увлекательное занятие для себ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334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Верхняя Хава на карте Воронежской области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123720" y="3505320"/>
            <a:ext cx="838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33720" y="1557360"/>
            <a:ext cx="4952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Это герб нашего сел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53341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 разделённом зеленью и лазурью поле звезда о восьми лучах; очередность сторон лучей звезды считается по круг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3657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58400"/>
            <a:ext cx="88390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Это флаг нашего сел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152640" y="4038480"/>
            <a:ext cx="9296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Флаг Верхнехавского района - это прямоугольное полотнище, разделённое на две равные полосы: зелёную и синюю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Зелёная часть дополняет символику природ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иняя часть полотнища показывает географическое расположение района на реке Хав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Главной фигурой флага является звезда о восьми луча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639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История происхождения села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6483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Первоначальное заселение села Хавы относят к XVI столетию. Первыми поселенцами считаются четыре семьи, выселенные из Киевской губернии. Село получило свое название от реки Хавы, на берегу которой оно расположено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0864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Наше село с высоты птичьего полёт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3658680"/>
            <a:ext cx="22860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8120" y="-4984200"/>
            <a:ext cx="3808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4952880"/>
            <a:ext cx="556236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 нашем селе протекает река Хава, которая впадает в реку Усман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19320" y="422280"/>
            <a:ext cx="6705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боратория</cp:lastModifiedBy>
  <dcterms:modified xsi:type="dcterms:W3CDTF">2017-02-15T10:40:36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