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5A16-6098-4DAF-8FE9-A53460A9E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C33B-FBBA-4E46-B54F-CA793871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138F-ED1C-41CE-9F31-E32B0F794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00B7-38E3-4AED-90A2-C0D490E8C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29F5-9738-4777-80E4-12A8D10B3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EE53-DFC5-4577-92D8-6F19DAB0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A316-5C2D-4F32-BF95-E32D2DE5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8144-816D-444D-A46E-49B45927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54A9-5424-4717-98B2-C1B122B7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73DF-516A-436B-A58B-92B48FE6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AF052-3DC8-436B-83CB-7CD04929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BA13-ACED-4F9C-B7B5-CFC2E924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110C-4AE8-49B6-82DC-02208A55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AF5D-EAEA-4A5C-A22E-364EE158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CABE-D26B-472B-8115-A9E21AEA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913D-0413-445F-84D6-F1CFCEF1A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66022-1050-470B-8804-5ABA2A53B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10117-9827-4920-ABE4-79A1DDD29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D310A-CE56-4A98-84A0-4C02AEA0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901D1-63CC-43A8-A8CA-CD63C6C7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975D0-11E5-4686-B14E-B7015223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A57CE-2EBC-4533-924E-D2E454FD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0B80-7218-4584-AE3A-1E60671F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75D53-3122-4142-BA71-85A7E10B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CD89B-9510-434B-9193-CC447E6F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B979B-95FA-4A28-A4F4-DFEC9F09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0F856-74CA-4B77-B736-766831AA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59D95-2532-4DB4-8975-9274957F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A83B8-8C5A-4EA4-8BA8-E4109489B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77FAF-9698-4CE4-9926-D3FE5A0AA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93486-DE0B-4AC3-AA7C-3E3B79B63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0A1D6-6F5A-4BCB-876F-71545DEA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2BA1A-25CD-4440-9CDD-12F5043B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B3BA-6150-49CB-B25C-E982C37E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BEFC6-BEE6-44DF-9DA7-D9F2635A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01C2B-F896-4F01-8ADA-541ACF7A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4D545-C819-4670-8ABC-B38FD379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73C99-7428-4CC7-A01F-3B94AAC0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97691-8799-41A0-81A3-5F4323BA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9DDC8-1C36-48BB-AC6C-214EED25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CEF54-C5B8-490F-B0A0-BB15EB2E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C4964-BC7D-4DFC-B627-3ACF583F5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039A8-855D-4A57-9256-5618E6F55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18878-1951-4FE2-B58C-430E69F8C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8053-A519-41FF-9B23-C0FFCFFB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0701D-687A-4AB3-B4A2-9B5E2FAA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81A97-3F36-4F2D-AE36-D6539CD7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E0B67-A9DA-472F-B58F-8AE581D0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9DF6F-3345-4DB9-A5B8-1DC727B9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243FF-9615-472B-A7F2-3E769A2F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4D352-2734-4F91-A8C9-55DAE064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5CEAC-0F65-450A-AE16-60BA39F8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0D9A2-38C2-4BDE-BD56-6D8A3E87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7F27D-419D-4C35-877D-F7524337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A3564-A5CB-4E8D-A862-9BA0568CD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1AA3-B029-4D01-AFAC-AE9A2BEB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723A9-329A-4533-AB28-AE9504345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1E2D-5274-4085-8C00-C7937B9F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68D4-BCF0-417A-86A5-F0AC0C39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6F58-5B90-458A-BEDF-8057A1DD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3BD4-6C77-4A6F-A3F6-6122FE62F44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EF60-9861-415F-9853-FE60AF00C97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C416-493D-49C7-9645-556C9EEDB47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2A6B-B032-472D-812F-43D0A86FEFE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3A9F-8A25-47A2-909A-A0F106DCAD1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8d3e"/>
                </a:solidFill>
                <a:latin typeface="Verdana"/>
              </a:rPr>
              <a:t>Синтаксические нормы</a:t>
            </a:r>
            <a:br>
              <a:rPr sz="4100"/>
            </a:br>
            <a:r>
              <a:rPr b="1" lang="ru-RU" sz="4100" spc="-1" strike="noStrike">
                <a:solidFill>
                  <a:srgbClr val="ff8d3e"/>
                </a:solidFill>
                <a:latin typeface="Verdana"/>
              </a:rPr>
              <a:t>ЕГЭ А-5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685440" y="5643360"/>
            <a:ext cx="8101080" cy="928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МБОУ «Барило-Крепинская СОШ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Петрова Л.П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428760" y="506880"/>
            <a:ext cx="82864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мешение прямой и косвенной реч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 грустно сказал, что я ещё пока не готов отвеч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ьзя использовать в придаточной части косвенной речи местоимений 1 и 2 лиц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вариант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 грустно сказал, что он ещё пока не готов отвеч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TextBox 3"/>
          <p:cNvSpPr/>
          <p:nvPr/>
        </p:nvSpPr>
        <p:spPr>
          <a:xfrm>
            <a:off x="500040" y="2214720"/>
            <a:ext cx="814392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Ошибки в употреблении предлогов благодаря, согласно, вопре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 доктора, больной поправился. Поезд прибыл согласно расписания. Вопреки прогноза погода была прекрасно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ительные после предлогов благодаря, согласно, вопреки всегда стоят в д.п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вариант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 (кому?) докторУ, больной поправился. Поезд прибыл согласно (чему?) расписаниЮ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еки (чему?) прогнозУ погода была прекрасно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1"/>
          <p:cNvSpPr/>
          <p:nvPr/>
        </p:nvSpPr>
        <p:spPr>
          <a:xfrm>
            <a:off x="428760" y="285840"/>
            <a:ext cx="757224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Ошибки в употреблении имен собственны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инофильме «ВойнЕ и мирЕ» С.Бондарчук прекрасно сыграл Пьера Безухов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я произведений, картин, музыкальных произведений, фильмов, заключенные в кавычки, не изменяются, если возле них стоит нарицательное существительное — жанровое обозначени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это нарицательное существительное отсутствует, то изменяется имя собственно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вариант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В кинофильме «Война и мир» С.Бондарчук прекрасно сыграл Пьера Безухов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«Войне и мире» С.Бондарчук прекрасно сыграл Пьера Безухов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extBox 2"/>
          <p:cNvSpPr/>
          <p:nvPr/>
        </p:nvSpPr>
        <p:spPr>
          <a:xfrm>
            <a:off x="428760" y="3571920"/>
            <a:ext cx="807228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ление предложного сочетания вместо беспредложной конструкц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ёный оперировал с точными факт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ыборе предлога следует учитывать присущие ему оттенки знач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ый оперировал не с чем?, а чем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вариант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ёный оперировал точными факт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1"/>
          <p:cNvSpPr/>
          <p:nvPr/>
        </p:nvSpPr>
        <p:spPr>
          <a:xfrm>
            <a:off x="3930480" y="500040"/>
            <a:ext cx="9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extBox 2"/>
          <p:cNvSpPr/>
          <p:nvPr/>
        </p:nvSpPr>
        <p:spPr>
          <a:xfrm>
            <a:off x="714240" y="928800"/>
            <a:ext cx="742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Укажите предложение с грамматической ошибкой (с нарушением синтаксической нормы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TextBox 3"/>
          <p:cNvSpPr/>
          <p:nvPr/>
        </p:nvSpPr>
        <p:spPr>
          <a:xfrm>
            <a:off x="785880" y="1714680"/>
            <a:ext cx="7358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Те, кто может побороть собственную лень, многого достигают в жизн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Rectangle 1"/>
          <p:cNvSpPr/>
          <p:nvPr/>
        </p:nvSpPr>
        <p:spPr>
          <a:xfrm>
            <a:off x="785880" y="2072160"/>
            <a:ext cx="785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Благодаря развития науки и техники, Япония стала одной из самых сильных держа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Box 6"/>
          <p:cNvSpPr/>
          <p:nvPr/>
        </p:nvSpPr>
        <p:spPr>
          <a:xfrm>
            <a:off x="785880" y="2428920"/>
            <a:ext cx="771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Вера в окончательную победу над фашизмом укрепляла силы наших воино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Box 7"/>
          <p:cNvSpPr/>
          <p:nvPr/>
        </p:nvSpPr>
        <p:spPr>
          <a:xfrm>
            <a:off x="785880" y="2786040"/>
            <a:ext cx="785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Перепуганные огромными волнами, жители острова бросились врассыпную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Box 8"/>
          <p:cNvSpPr/>
          <p:nvPr/>
        </p:nvSpPr>
        <p:spPr>
          <a:xfrm>
            <a:off x="7439400" y="2643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785880" y="3214800"/>
            <a:ext cx="7143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кажите предложение с грамматической ошибкой (с нарушением синтаксической нормы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Box 11"/>
          <p:cNvSpPr/>
          <p:nvPr/>
        </p:nvSpPr>
        <p:spPr>
          <a:xfrm>
            <a:off x="785880" y="3786120"/>
            <a:ext cx="664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По окончании института многие выпускники поехали работать в сибирские сёл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Box 12"/>
          <p:cNvSpPr/>
          <p:nvPr/>
        </p:nvSpPr>
        <p:spPr>
          <a:xfrm>
            <a:off x="785880" y="4143240"/>
            <a:ext cx="635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Рецензия на книгу, опубликованная в «Литературной газете», привлекла моё внимани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TextBox 13"/>
          <p:cNvSpPr/>
          <p:nvPr/>
        </p:nvSpPr>
        <p:spPr>
          <a:xfrm>
            <a:off x="785880" y="4714920"/>
            <a:ext cx="700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Мы достигли и водрузили на горной вершине флажок нашей экспедици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Box 14"/>
          <p:cNvSpPr/>
          <p:nvPr/>
        </p:nvSpPr>
        <p:spPr>
          <a:xfrm>
            <a:off x="714240" y="5072040"/>
            <a:ext cx="7858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Кто, как не твой отец, научил многих из нас не сдаваться жизненным трудностям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TextBox 17"/>
          <p:cNvSpPr/>
          <p:nvPr/>
        </p:nvSpPr>
        <p:spPr>
          <a:xfrm>
            <a:off x="7725240" y="5000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3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Box 1"/>
          <p:cNvSpPr/>
          <p:nvPr/>
        </p:nvSpPr>
        <p:spPr>
          <a:xfrm>
            <a:off x="500040" y="571680"/>
            <a:ext cx="77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Укажите предложение с грамматической ошибкой (с нарушением синтаксической нормы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TextBox 2"/>
          <p:cNvSpPr/>
          <p:nvPr/>
        </p:nvSpPr>
        <p:spPr>
          <a:xfrm>
            <a:off x="500040" y="1214280"/>
            <a:ext cx="721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Первое время дети скучали по городу, друзьям, оставшимся там, но скоро оценили прелести деревенской жизн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TextBox 3"/>
          <p:cNvSpPr/>
          <p:nvPr/>
        </p:nvSpPr>
        <p:spPr>
          <a:xfrm>
            <a:off x="500040" y="1714680"/>
            <a:ext cx="764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Те, кто прошел курс лечения в санатории, чувствуют себя хорошо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TextBox 4"/>
          <p:cNvSpPr/>
          <p:nvPr/>
        </p:nvSpPr>
        <p:spPr>
          <a:xfrm>
            <a:off x="500040" y="2071800"/>
            <a:ext cx="757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У художников зрительная память, естественно, развита лучше, нежели у музыканто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500040" y="2428920"/>
            <a:ext cx="7500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В лагере не хватает спортивного оборудования, а что касается с питанием, оно вполне удовлетворяет все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TextBox 6"/>
          <p:cNvSpPr/>
          <p:nvPr/>
        </p:nvSpPr>
        <p:spPr>
          <a:xfrm>
            <a:off x="500040" y="2928960"/>
            <a:ext cx="771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Укажите предложение с грамматической ошибкой (с нарушением синтаксической нормы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TextBox 7"/>
          <p:cNvSpPr/>
          <p:nvPr/>
        </p:nvSpPr>
        <p:spPr>
          <a:xfrm>
            <a:off x="357120" y="3500280"/>
            <a:ext cx="6429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Некоторые ученики не выполняют домашних задани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TextBox 8"/>
          <p:cNvSpPr/>
          <p:nvPr/>
        </p:nvSpPr>
        <p:spPr>
          <a:xfrm>
            <a:off x="574200" y="3857760"/>
            <a:ext cx="4714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Врач не обнаружил никакие признаки болезни у ребёнк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extBox 9"/>
          <p:cNvSpPr/>
          <p:nvPr/>
        </p:nvSpPr>
        <p:spPr>
          <a:xfrm>
            <a:off x="587880" y="4214880"/>
            <a:ext cx="571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Пережитый страх уже через минуту кажется и смешным, и странным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TextBox 10"/>
          <p:cNvSpPr/>
          <p:nvPr/>
        </p:nvSpPr>
        <p:spPr>
          <a:xfrm>
            <a:off x="571320" y="4572000"/>
            <a:ext cx="511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Роман «Герой нашего времени» написан М. Ю. Лермонтовы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TextBox 11"/>
          <p:cNvSpPr/>
          <p:nvPr/>
        </p:nvSpPr>
        <p:spPr>
          <a:xfrm>
            <a:off x="7725240" y="2357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Box 12"/>
          <p:cNvSpPr/>
          <p:nvPr/>
        </p:nvSpPr>
        <p:spPr>
          <a:xfrm>
            <a:off x="7082280" y="4714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Box 1"/>
          <p:cNvSpPr/>
          <p:nvPr/>
        </p:nvSpPr>
        <p:spPr>
          <a:xfrm>
            <a:off x="714240" y="857160"/>
            <a:ext cx="7072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Укажите предложение с грамматической ошибкой (с нарушением синтаксической нормы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TextBox 2"/>
          <p:cNvSpPr/>
          <p:nvPr/>
        </p:nvSpPr>
        <p:spPr>
          <a:xfrm>
            <a:off x="785880" y="1285920"/>
            <a:ext cx="6643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На собрании группы обсуждали вопросы дисциплины и нет ли возможности досрочно сдать зачёты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TextBox 3"/>
          <p:cNvSpPr/>
          <p:nvPr/>
        </p:nvSpPr>
        <p:spPr>
          <a:xfrm>
            <a:off x="785880" y="1857240"/>
            <a:ext cx="635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Я знаю, что придет время, когда по морям будут плавать пароходы из стекл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TextBox 4"/>
          <p:cNvSpPr/>
          <p:nvPr/>
        </p:nvSpPr>
        <p:spPr>
          <a:xfrm>
            <a:off x="785880" y="2214720"/>
            <a:ext cx="692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В прошлом веке немало спорили о «Преступлении и наказании» Ф.М. Достоевского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extBox 5"/>
          <p:cNvSpPr/>
          <p:nvPr/>
        </p:nvSpPr>
        <p:spPr>
          <a:xfrm>
            <a:off x="785880" y="2643120"/>
            <a:ext cx="671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Описанные в книге подвиги и приключения волновали меня необычайно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TextBox 7"/>
          <p:cNvSpPr/>
          <p:nvPr/>
        </p:nvSpPr>
        <p:spPr>
          <a:xfrm>
            <a:off x="500040" y="292896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Укажите предложение с грамматической ошибкой (с нарушением синтаксической нормы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TextBox 8"/>
          <p:cNvSpPr/>
          <p:nvPr/>
        </p:nvSpPr>
        <p:spPr>
          <a:xfrm>
            <a:off x="856440" y="3643200"/>
            <a:ext cx="3899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Все, затаив дыхание, слушали радиопередач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TextBox 9"/>
          <p:cNvSpPr/>
          <p:nvPr/>
        </p:nvSpPr>
        <p:spPr>
          <a:xfrm>
            <a:off x="857160" y="4214880"/>
            <a:ext cx="764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Человек, задерганный бесчеловечным ритмом современной жизни, огромным потоком информации, отучается от общения с миром природы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extBox 10"/>
          <p:cNvSpPr/>
          <p:nvPr/>
        </p:nvSpPr>
        <p:spPr>
          <a:xfrm>
            <a:off x="785880" y="4786200"/>
            <a:ext cx="700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В журнале «Новом мире» впервые была опубликована повесть А.И.Солженицына «Один день Ивана Денисовича»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TextBox 11"/>
          <p:cNvSpPr/>
          <p:nvPr/>
        </p:nvSpPr>
        <p:spPr>
          <a:xfrm>
            <a:off x="785880" y="5357880"/>
            <a:ext cx="721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Наука может мгновенно изменить и просветить вопросы мироздан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TextBox 12"/>
          <p:cNvSpPr/>
          <p:nvPr/>
        </p:nvSpPr>
        <p:spPr>
          <a:xfrm>
            <a:off x="7725240" y="27860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TextBox 13"/>
          <p:cNvSpPr/>
          <p:nvPr/>
        </p:nvSpPr>
        <p:spPr>
          <a:xfrm>
            <a:off x="7582320" y="5214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Box 1"/>
          <p:cNvSpPr/>
          <p:nvPr/>
        </p:nvSpPr>
        <p:spPr>
          <a:xfrm rot="20401800">
            <a:off x="641880" y="1638360"/>
            <a:ext cx="807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50"/>
                </a:solidFill>
                <a:latin typeface="Arial Black"/>
                <a:ea typeface="Aharoni"/>
              </a:rPr>
              <a:t>Удачи на экзамене!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3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"/>
          <p:cNvSpPr/>
          <p:nvPr/>
        </p:nvSpPr>
        <p:spPr>
          <a:xfrm flipV="1" rot="10800000">
            <a:off x="714240" y="378000"/>
            <a:ext cx="84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я с однородными членами предложе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Box 3"/>
          <p:cNvSpPr/>
          <p:nvPr/>
        </p:nvSpPr>
        <p:spPr>
          <a:xfrm>
            <a:off x="285840" y="1213560"/>
            <a:ext cx="828684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ие предложений с однородными членами, стоящими в разных падеж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войны народ надеялся и верил в победу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однородные сказуемые имеют одно и то же зависимое слово, следует проверить, могут ли они управлять им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уемые надеялся и верил имеют одно зависимое слово в победу, которое стоит в в.п. Но глагол надеялся не может управлять в.п. с предлогом в (надеялся (на кого? на что?…), следовательно, предложение построено неверн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вариант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войны народ надеялся (на кого? на что?) на победу и верил (в кого? во что?) в неё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285840" y="4214880"/>
            <a:ext cx="82868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опуск предлога при однородных членах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емле, воде и воздухе — всюду мы защищены!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словом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ух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добавить предлог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ак как это слово в данном предложении не употребляется с предлогом «на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вариант: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емле, воде и в воздухе — всюду мы защищены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"/>
          <p:cNvSpPr/>
          <p:nvPr/>
        </p:nvSpPr>
        <p:spPr>
          <a:xfrm>
            <a:off x="357120" y="379440"/>
            <a:ext cx="842976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мешение родо-видовых понятий в ряду однородных члено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одке лежали караси, сазаны, лещи, рыб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си, сазаны, лещи» — это вид рыбы, поэтому не могут стоять с этим словом в одном ряду однородных члено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вариант: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одке лежала рыба: караси, сазаны, лещ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357120" y="2000160"/>
            <a:ext cx="807264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оединение в одном ряду однородных членов скрещивающихся понят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брание пришли жильцы дома, бабушки и де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бушки и дети — тоже жильцы дом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вариант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На собрание пришли жильцы дом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357120" y="3500280"/>
            <a:ext cx="792972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Употребление в одном ряду однородных членов логически несовместимых понят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н Петрович пришел с женой и плохим настроение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ел с женой и плохим настроением — логически несовместимые понят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вариант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н Петрович, когда пришел с женой, был в плохом настроени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1"/>
          <p:cNvSpPr/>
          <p:nvPr/>
        </p:nvSpPr>
        <p:spPr>
          <a:xfrm>
            <a:off x="571680" y="578520"/>
            <a:ext cx="82152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арушение однородности поняти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любим футбол и стреля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огут быть однородными существительное и инфинити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вариант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любим футбол и стрельб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extBox 2"/>
          <p:cNvSpPr/>
          <p:nvPr/>
        </p:nvSpPr>
        <p:spPr>
          <a:xfrm>
            <a:off x="642960" y="2230200"/>
            <a:ext cx="692928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Нарушение падежных форм обобщающего слова и однородных член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тители музея любовались картинами великих художников: Суриков, Репин, Айвазовск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однородные члены должны стоять в том же падеже, в котором стоит обобщающее слово. В данном предложении обобщающее слово великих художников стоит в форме Р.п., а все однородные члены: Суриков, Репин, Айвазовский — в форме им.п. Значит, это предложение построено невер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вариант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осетители музея любовались картинами великих художников: Сурикова, Репина, Айвазовск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"/>
          <p:cNvSpPr/>
          <p:nvPr/>
        </p:nvSpPr>
        <p:spPr>
          <a:xfrm>
            <a:off x="357120" y="226800"/>
            <a:ext cx="850104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Нарушение синтаксических норм при построении предложений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торых однородные члены связаны двойными союзами: как…, так и; не только…, но и…; если не…, то… и др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о отвечали на экзаменах как одиннадцатиклассники, а также учащиеся девятых классо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ьзя нарушать парность двойных союзов: части двойного союза как…, так и являются постоянными, поэтому союзы а также в данном предложении употреблены неправиль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вариант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Хорошо отвечали на экзаменах как одиннадцатиклассники, так и учащиеся девятых классо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TextBox 4"/>
          <p:cNvSpPr/>
          <p:nvPr/>
        </p:nvSpPr>
        <p:spPr>
          <a:xfrm>
            <a:off x="428760" y="3071880"/>
            <a:ext cx="828648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Нарушение лексической сочетаемости однородных членов с тем словом, с которым они связаны по смысл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 критических замечаний и ценных предложений было внесено в ходе обсуждения вопрос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однородные члены предложения должны лексически сочетаться с тем словом в высказывании, с которым они связаны по смыслу: нельзя «внести замечание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вариант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 ценных предложений было внесено в ходе обсуждения вопроса, много было высказано критических замечан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"/>
          <p:cNvSpPr/>
          <p:nvPr/>
        </p:nvSpPr>
        <p:spPr>
          <a:xfrm>
            <a:off x="1585080" y="214200"/>
            <a:ext cx="557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я с причастным оборотом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TextBox 2"/>
          <p:cNvSpPr/>
          <p:nvPr/>
        </p:nvSpPr>
        <p:spPr>
          <a:xfrm>
            <a:off x="357120" y="928800"/>
            <a:ext cx="821556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ыв причастного оборота определяемым слов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готовленные оладьи мамой были необыкновенно вкусн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емое слово не должно разрывать причастный оборот, оно может стоять только перед ним или посл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вариант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адьи, приготовленные мамой, были необыкновенно вкусн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готовленные мамой оладьи были необыкновенно вкусн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extBox 3"/>
          <p:cNvSpPr/>
          <p:nvPr/>
        </p:nvSpPr>
        <p:spPr>
          <a:xfrm>
            <a:off x="357120" y="3143160"/>
            <a:ext cx="742968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рушение согласования причастия с определяемым слов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гордимся нашими футболистами, победивших английскую команд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астие с определяемым словом должно быть согласовано в роде, числе и падеже: футболистами (какими?) победившими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вариант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гордимся нашими футболистами, победившими английскую команд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"/>
          <p:cNvSpPr/>
          <p:nvPr/>
        </p:nvSpPr>
        <p:spPr>
          <a:xfrm>
            <a:off x="428760" y="292680"/>
            <a:ext cx="82864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Замена страдательных причастий действительны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, выполняющееся нами, не вызывает особых затруднен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тельные причастия на -ся следует, где это возможно, заменять страдательными причастия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вариант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, выполняемое нами, не вызывает особых затруднен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TextBox 3"/>
          <p:cNvSpPr/>
          <p:nvPr/>
        </p:nvSpPr>
        <p:spPr>
          <a:xfrm>
            <a:off x="500040" y="2357280"/>
            <a:ext cx="785808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арушение однородности синтаксических элементов предлож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ждь, ливший с утра и который напоил землю, очень выручил хлеборобо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огут выступать в качестве однородных синтаксических элементов причастный оборот и придаточная часть сложноподчиненного предлож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вариант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ждь, ливший с утра и напоивший землю, очень выручил хлеборобо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"/>
          <p:cNvSpPr/>
          <p:nvPr/>
        </p:nvSpPr>
        <p:spPr>
          <a:xfrm>
            <a:off x="1371600" y="21528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подчиненные предложе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500040" y="801000"/>
            <a:ext cx="821520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еверное присоединение придаточной части, создающее неоднозначность восприят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шади казаков, которые были покрыты пеной, с трудом взбирались по горной троп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авильный порядок слов: между союзным словом которые и существительным, к которому оно относится, не должно находиться другое существительное в той же числовой форме или иное слов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вариант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ачьи лошади, которые были покрыты пеной, с трудом взбирались по горной троп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TextBox 5"/>
          <p:cNvSpPr/>
          <p:nvPr/>
        </p:nvSpPr>
        <p:spPr>
          <a:xfrm>
            <a:off x="500040" y="3857760"/>
            <a:ext cx="757224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рушение грамматической формы союзного слова в придаточной ча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ной вернулись в село юноши, которыми служили в арм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о согласование: юноши (какие?) которые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вариант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ной вернулись в село юноши, которые служили в арм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357120" y="300960"/>
            <a:ext cx="864396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шибки в предложениях, придаточная часть которых начинается с союзного слова кт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, кто бывали в Геленджике, не могли не любоваться красотой набережно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юзное слово кто употребляется с глаголами только в форме ед.ч. При этом также следует обращать внимание на единство грамматических форм подлежащего и сказуемого в главной части предложени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, ….., не могли не любоваться…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т,….не мог не любоваться и т.п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вариант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, кто бывал в Геленджике, не могли не любоваться красотой набережно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428760" y="3226320"/>
            <a:ext cx="871524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шибки в построении сложноподчиненного предложения с придаточным изъяснительны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упавшие заметили о том, что Сочи готов принять Олимпиаду в 2014 год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а норма управления: заметить можно что? Указательное местоимение с предлогом в данном случае употреблено неправиль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вариант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упавшие заметили, что Сочи готов принять Олимпиаду в 2014 год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3:37:14Z</dcterms:created>
  <dc:creator>лариса</dc:creator>
  <dc:description/>
  <dc:language>en-US</dc:language>
  <cp:lastModifiedBy>лариса</cp:lastModifiedBy>
  <dcterms:modified xsi:type="dcterms:W3CDTF">2012-02-13T17:14:14Z</dcterms:modified>
  <cp:revision>22</cp:revision>
  <dc:subject/>
  <dc:title>Синтаксические нормы ЕГЭ А-5</dc:title>
</cp:coreProperties>
</file>