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DD5-232D-4552-A51A-686E78AE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2C4-F464-40CB-B83B-BB763A90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FA3-B830-497A-9C09-65614214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F38-B84C-41A7-A758-7CC418B8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1EBA-6085-4F5D-AFC9-7C2913EE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EDFB-7402-4717-8F1F-02F3A81E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5793-2990-47CF-BB8A-0EF4049E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3578-0E7B-4227-A0EA-9372308A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0E06-F206-414A-AA90-16FAF568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DA12-8B28-4E23-9443-EBC5A356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C9F9-B846-4988-AA7B-31FC4A8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2B9-F896-4D69-AF94-2EE00792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B78E-59D3-4D16-8F5A-CDD54BA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6EDD-29E0-4CAF-B5D0-42735AF8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E248-FC31-4F89-86DC-F8A72EC9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0D8C-8209-4698-B3F7-D363CF55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8F5D-1EFE-490A-B84E-5BFDCE69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7D21-1C5B-4319-93AC-0A752B5A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BD59-A88D-491B-8646-47B0E909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EC71-2BE8-4D5C-9023-E0F76658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28483-3658-435E-9813-A43D0D00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79DD-49DE-4199-88DB-3B069937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E87-4B2A-4DAE-8FF8-EA075CB2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E0141-814E-4820-9500-DC53E4DC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19DE-6692-4A53-8E75-8FED30E1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04A05-3C79-4AE8-9754-2BD2F04D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119F-FF63-4D11-B2D7-88A61396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70D42-22DE-4D3A-95C7-EF40F6BE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068C6-F259-427D-972B-933B2749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1EBBA-73F8-493C-A86C-1F7369CB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94B83-6594-4B18-9676-1D0D247D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8E38B-A723-4A2D-8608-0CFC9593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B3BEC-FDA3-4325-87A8-06404849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DDA-558C-47A9-8A50-E26ED5A7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67A5-D699-4C24-AE19-E63CB40B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07FBD-25FF-4990-B94C-255CA0FE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08DA9-E358-4376-A527-CBAA82C3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A985-5DEE-4D43-B5A1-14C1D0A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EB0B0-DE2A-4481-9FF2-4555A961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8C946-E08F-41B1-BFA2-E4D1E63F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E984-858E-4519-A6CC-927FDF29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B960-74A2-4CDA-9D13-339478BB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5090-066E-4EAE-B081-83438ADF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FCDA-725A-4F97-9166-F231CFAE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3C0-C33A-4127-8FC5-13FFCCCA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93BBE-5579-4AB9-AC49-9B1EDB46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6C0E5-D544-47CF-AC0B-A15111EF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A0CF6-C27A-43E6-95CF-715B0BD6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3A8B9-D3BD-4938-843D-66A05BF1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2FD6D-25A7-4A4F-85BC-2DF66F72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D4B93-AD5E-47C6-8911-5A138890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906CB-C117-4FD5-9611-DDE17F2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BBF6A-52AD-4F53-A05E-AF8D88B1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421BE-7F76-46F0-ABBB-ABCD6980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FD121-08F4-4070-9572-A321CBD0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050-6E1F-4192-8807-15902475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1FFE-6B32-4A22-9EFA-3A1099FE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0C0-CC97-495A-BE37-BF975B4B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279-86FE-4EB6-BA7C-5CEBB4B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1FF-4D47-473C-B3F4-8299C899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77E4-7BBA-4716-85E7-C4BB9927606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8878-A776-43E5-B1C2-A347FAD37E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14CD-2DE8-4EA4-A014-F0502710325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BA97-DEA2-4BF7-BB0F-BEA6460ECA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64A9-B43F-4F1B-B117-F75926682B6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Синтаксические нормы</a:t>
            </a:r>
            <a:br>
              <a:rPr sz="4100"/>
            </a:b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ЕГЭ А-5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5440" y="5643360"/>
            <a:ext cx="8101080" cy="928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БОУ «Барило-Крепинская СОШ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Петрова Л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428760" y="506880"/>
            <a:ext cx="82864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мешение прямой и косвенной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устно сказал, что я ещё пока не готов отвеч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использовать в придаточной части косвенной речи местоимений 1 и 2 лиц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устно сказал, что он ещё пока не готов отвеч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500040" y="2214720"/>
            <a:ext cx="81439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шибки в употреблении предлогов благодаря, согласно, вопре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доктора, больной поправился. Поезд прибыл согласно расписания. Вопреки прогноза погода была прекрас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ые после предлогов благодаря, согласно, вопреки всегда стоят в д.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(кому?) докторУ, больной поправился. Поезд прибыл согласно (чему?) расписан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еки (чему?) прогнозУ погода была прекрас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428760" y="285840"/>
            <a:ext cx="75722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шибки в употреблении имен собственн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инофильме «ВойнЕ и мирЕ» С.Бондарчук прекрасно сыграл Пьера Безух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я произведений, картин, музыкальных произведений, фильмов, заключенные в кавычки, не изменяются, если возле них стоит нарицательное существительное — жанровое обознач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 нарицательное существительное отсутствует, то изменяется имя собственно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 кинофильме «Война и мир» С.Бондарчук прекрасно сыграл Пьера Безух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Войне и мире» С.Бондарчук прекрасно сыграл Пьера Безух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28760" y="3571920"/>
            <a:ext cx="80722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предложного сочетания вместо беспредложной конструк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ный оперировал с точными фак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оре предлога следует учитывать присущие ему оттенки знач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й оперировал не с чем?, а ч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ный оперировал точными фак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3930480" y="50004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714240" y="928800"/>
            <a:ext cx="742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кажите предложение с грамматической ошибкой (с нарушением синтаксической нормы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785880" y="1714680"/>
            <a:ext cx="735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Те, кто может побороть собственную лень, многого достигают в жизн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785880" y="207216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Благодаря развития науки и техники, Япония стала одной из самых сильных держа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785880" y="2428920"/>
            <a:ext cx="77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ера в окончательную победу над фашизмом укрепляла силы наших воин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785880" y="2786040"/>
            <a:ext cx="785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ерепуганные огромными волнами, жители острова бросились врассыпну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7439400" y="2643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785880" y="3214800"/>
            <a:ext cx="714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кажите предложение с грамматической ошибкой (с нарушением синтаксической нормы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785880" y="3786120"/>
            <a:ext cx="66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 окончании института многие выпускники поехали работать в сибирские сё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785880" y="4143240"/>
            <a:ext cx="635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цензия на книгу, опубликованная в «Литературной газете», привлекла моё внима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785880" y="4714920"/>
            <a:ext cx="700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ы достигли и водрузили на горной вершине флажок нашей экспеди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714240" y="5072040"/>
            <a:ext cx="785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Кто, как не твой отец, научил многих из нас не сдаваться жизненным трудностям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7725240" y="5000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500040" y="57168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Укажите предложение с грамматической ошибкой (с нарушением синтаксической нормы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500040" y="1214280"/>
            <a:ext cx="721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ервое время дети скучали по городу, друзьям, оставшимся там, но скоро оценили прелести деревенской жизн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500040" y="1714680"/>
            <a:ext cx="764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е, кто прошел курс лечения в санатории, чувствуют себя хорош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500040" y="2071800"/>
            <a:ext cx="757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 художников зрительная память, естественно, развита лучше, нежели у музыкан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500040" y="2428920"/>
            <a:ext cx="750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 лагере не хватает спортивного оборудования, а что касается с питанием, оно вполне удовлетворяет все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500040" y="2928960"/>
            <a:ext cx="771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кажите предложение с грамматической ошибкой (с нарушением синтаксической нормы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357120" y="3500280"/>
            <a:ext cx="64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екоторые ученики не выполняют домашних зада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574200" y="3857760"/>
            <a:ext cx="47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рач не обнаружил никакие признаки болезни у ребё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587880" y="4214880"/>
            <a:ext cx="57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ережитый страх уже через минуту кажется и смешным, и странны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571320" y="4572000"/>
            <a:ext cx="511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оман «Герой нашего времени» написан М. Ю. Лермонтовы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7725240" y="2357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Box 12"/>
          <p:cNvSpPr/>
          <p:nvPr/>
        </p:nvSpPr>
        <p:spPr>
          <a:xfrm>
            <a:off x="7082280" y="4714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714240" y="857160"/>
            <a:ext cx="707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кажите предложение с грамматической ошибкой (с нарушением синтаксической нормы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785880" y="1285920"/>
            <a:ext cx="664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 собрании группы обсуждали вопросы дисциплины и нет ли возможности досрочно сдать зачёт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785880" y="1857240"/>
            <a:ext cx="635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Я знаю, что придет время, когда по морям будут плавать пароходы из стек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785880" y="2214720"/>
            <a:ext cx="692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прошлом веке немало спорили о «Преступлении и наказании» Ф.М. Достоевског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785880" y="2643120"/>
            <a:ext cx="671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писанные в книге подвиги и приключения волновали меня необычайн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500040" y="2928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кажите предложение с грамматической ошибкой (с нарушением синтаксической нормы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856440" y="3643200"/>
            <a:ext cx="389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се, затаив дыхание, слушали радиопередач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857160" y="4214880"/>
            <a:ext cx="76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Человек, задерганный бесчеловечным ритмом современной жизни, огромным потоком информации, отучается от общения с миром природ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785880" y="4786200"/>
            <a:ext cx="700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журнале «Новом мире» впервые была опубликована повесть А.И.Солженицына «Один день Ивана Денисовича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785880" y="5357880"/>
            <a:ext cx="72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аука может мгновенно изменить и просветить вопросы мирозд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7725240" y="2786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7582320" y="521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 rot="20401800">
            <a:off x="641880" y="163836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 Black"/>
                <a:ea typeface="Aharoni"/>
              </a:rPr>
              <a:t>Удачи на экзамене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 flipV="1" rot="10800000">
            <a:off x="714240" y="378000"/>
            <a:ext cx="84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с однородными членами предлож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85840" y="1213560"/>
            <a:ext cx="828684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предложений с однородными членами, стоящими в разных падеж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ойны народ надеялся и верил в побед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днородные сказуемые имеют одно и то же зависимое слово, следует проверить, могут ли они управлять и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уемые надеялся и верил имеют одно зависимое слово в победу, которое стоит в в.п. Но глагол надеялся не может управлять в.п. с предлогом в (надеялся (на кого? на что?…), следовательно, предложение построено неверн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ойны народ надеялся (на кого? на что?) на победу и верил (в кого? во что?) в неё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285840" y="4214880"/>
            <a:ext cx="82868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пуск предлога при однородных член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е, воде и воздухе — всюду мы защищены!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словом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добавить предлог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это слово в данном предложении не употребляется с предлогом «на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е, воде и в воздухе — всюду мы защищены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357120" y="379440"/>
            <a:ext cx="84297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мешение родо-видовых понятий в ряду однородных член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одке лежали караси, сазаны, лещи, рыб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си, сазаны, лещи» — это вид рыбы, поэтому не могут стоять с этим словом в одном ряду однородных член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одке лежала рыба: караси, сазаны, лещ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57120" y="2000160"/>
            <a:ext cx="8072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единение в одном ряду однородных членов скрещивающихся понят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рание пришли жильцы дома, бабушки и де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и и дети — тоже жильцы дом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 собрание пришли жильцы дом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57120" y="3500280"/>
            <a:ext cx="79297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потребление в одном ряду однородных членов логически несовместимых понят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Петрович пришел с женой и плохим настрое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ел с женой и плохим настроением — логически несовместимые понят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Петрович, когда пришел с женой, был в плохом настроен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571680" y="578520"/>
            <a:ext cx="8215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рушение однородности понят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любим футбол и стреля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быть однородными существительное и инфинити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любим футбол и стрельб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642960" y="2230200"/>
            <a:ext cx="69292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рушение падежных форм обобщающего слова и однородных член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ели музея любовались картинами великих художников: Суриков, Репин, Айвазовск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днородные члены должны стоять в том же падеже, в котором стоит обобщающее слово. В данном предложении обобщающее слово великих художников стоит в форме Р.п., а все однородные члены: Суриков, Репин, Айвазовский — в форме им.п. Значит, это предложение построено невер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сетители музея любовались картинами великих художников: Сурикова, Репина, Айвазовск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357120" y="226800"/>
            <a:ext cx="85010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рушение синтаксических норм при построении предложени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ых однородные члены связаны двойными союзами: как…, так и; не только…, но и…; если не…, то… и д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отвечали на экзаменах как одиннадцатиклассники, а также учащиеся девятых класс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рушать парность двойных союзов: части двойного союза как…, так и являются постоянными, поэтому союзы а также в данном предложении употреблены неправиль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Хорошо отвечали на экзаменах как одиннадцатиклассники, так и учащиеся девятых класс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428760" y="3071880"/>
            <a:ext cx="82864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арушение лексической сочетаемости однородных членов с тем словом, с которым они связаны по смысл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критических замечаний и ценных предложений было внесено в ходе обсуждения вопро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днородные члены предложения должны лексически сочетаться с тем словом в высказывании, с которым они связаны по смыслу: нельзя «внести замечание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ценных предложений было внесено в ходе обсуждения вопроса, много было высказано критических замеча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585080" y="214200"/>
            <a:ext cx="55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с причастным оборотом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357120" y="928800"/>
            <a:ext cx="8215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ыв причастного оборота определяемым слов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ленные оладьи мамой были необыкновенно вкус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мое слово не должно разрывать причастный оборот, оно может стоять только перед ним или посл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адьи, приготовленные мамой, были необыкновенно вкус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ленные мамой оладьи были необыкновенно вкус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357120" y="3143160"/>
            <a:ext cx="74296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рушение согласования причастия с определяемым слов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ордимся нашими футболистами, победивших английскую коман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астие с определяемым словом должно быть согласовано в роде, числе и падеже: футболистами (какими?) победившими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ордимся нашими футболистами, победившими английскую коман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428760" y="292680"/>
            <a:ext cx="82864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мена страдательных причастий действительны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, выполняющееся нами, не вызывает особых затруд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ые причастия на -ся следует, где это возможно, заменять страдательными причастия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, выполняемое нами, не вызывает особых затруд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500040" y="2357280"/>
            <a:ext cx="78580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однородности синтаксических элементов предлож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, ливший с утра и который напоил землю, очень выручил хлебороб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выступать в качестве однородных синтаксических элементов причастный оборот и придаточная часть сложноподчиненного предлож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, ливший с утра и напоивший землю, очень выручил хлебороб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1371600" y="2152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подчиненные предлож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500040" y="801000"/>
            <a:ext cx="82152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верное присоединение придаточной части, создающее неоднозначность вос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и казаков, которые были покрыты пеной, с трудом взбирались по горной троп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ый порядок слов: между союзным словом которые и существительным, к которому оно относится, не должно находиться другое существительное в той же числовой форме или иное сло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чьи лошади, которые были покрыты пеной, с трудом взбирались по горной троп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00040" y="3857760"/>
            <a:ext cx="75722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рушение грамматической формы союзного слова в придаточной ча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вернулись в село юноши, которыми служили в арм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о согласование: юноши (какие?) которы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вернулись в село юноши, которые служили в арм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357120" y="300960"/>
            <a:ext cx="86439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шибки в предложениях, придаточная часть которых начинается с союзного слова кт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, кто бывали в Геленджике, не могли не любоваться красотой набере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ное слово кто употребляется с глаголами только в форме ед.ч. При этом также следует обращать внимание на единство грамматических форм подлежащего и сказуемого в главной части предлож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, ….., не могли не любоваться…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….не мог не любоваться и т.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, кто бывал в Геленджике, не могли не любоваться красотой набере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428760" y="3226320"/>
            <a:ext cx="87152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шибки в построении сложноподчиненного предложения с придаточным изъяснительн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вшие заметили о том, что Сочи готов принять Олимпиаду в 2014 го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а норма управления: заметить можно что? Указательное местоимение с предлогом в данном случае употреблено неправиль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вариа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вшие заметили, что Сочи готов принять Олимпиаду в 2014 го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3:37:14Z</dcterms:created>
  <dc:creator>лариса</dc:creator>
  <dc:description/>
  <dc:language>en-US</dc:language>
  <cp:lastModifiedBy>лариса</cp:lastModifiedBy>
  <dcterms:modified xsi:type="dcterms:W3CDTF">2012-02-13T17:14:14Z</dcterms:modified>
  <cp:revision>22</cp:revision>
  <dc:subject/>
  <dc:title>Синтаксические нормы ЕГЭ А-5</dc:title>
</cp:coreProperties>
</file>