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25B-908C-4DAA-84E2-EB453D5E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FB6-3E53-4521-B510-F293B018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2AC-5EAB-4DEB-867A-978D1E7B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57C-522C-4E9C-BDB6-74DDA0E5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9443-87C5-4471-AE6A-5550B531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DAFA-4C00-4F97-89CD-FF62FAE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D8C4-79CA-448C-BCCD-484A678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BD1B-99BA-4770-9927-CEAA32F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A356-6AF3-47FA-8F6E-E7C6520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70CE-03C3-49EE-8BDD-53A8299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72F6-8BD7-4740-B17F-0AF004C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DFE-0DC0-45D1-A9D3-F283CAC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98D5-E41F-4FD4-82D3-09765A7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736-6B21-4A40-9FD6-FA06B94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3044-6794-4AA6-9041-4A05D25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57D-2644-4DAC-B91C-31EDF667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8152-74C3-4ADB-9D14-E2A5F529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4584-9672-4E87-AEF3-49112080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187C-1BDA-4039-8C24-B0D8E24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59D5-EC13-437D-9092-8F5A149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969C-2B2C-44FF-9AB3-4F7B95C7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D630-2CE4-4975-BB7A-18836F68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470-4414-4C91-9E3B-4535C9E4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C830-A9E7-494D-A1AA-4ACCDDDF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BA31-F096-4AE7-AD11-0F7C20DC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B89D-E373-4AC4-88EC-52531BA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DE6A-B9A1-476C-B5E5-3C3C198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394B-CD30-426F-AA9F-EA04B893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47C6-FF98-4D45-9766-C561686E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96E1-2498-474B-842F-1BBCF1BE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0DA0-B5EA-4606-B431-0F9D4914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2A63-3FAF-4058-AB02-1094E6C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9E20-67EB-4F78-863A-E4EF0EB8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190-45A3-4138-9BE2-4B2B9D7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24E6-6BA0-43EB-A56E-9F64E7F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A9A1-5D0B-4570-A8D5-75C632C3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6F2D-639D-49B4-BDF0-EF679510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52FE-AE49-4F28-9F1F-34CD27C5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261A-EAFE-4657-A791-F284D7B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4D6A-2063-4A28-9046-2C80A836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FCEA-9E77-466F-8E54-16925E4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FF1D-849A-4372-8A41-E29D967A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D308-9A03-49CA-93F7-49DDAF69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93EB-20E1-4244-878D-4FEFA061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6EA-CE5E-49AC-8543-203134B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6335-98CC-4E50-833E-DC952638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85A7-A944-4398-94CF-BFDA139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8B6C-4EEC-4505-9187-61C18DC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0FDE-0EF5-41B3-8E9B-05625D3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4FA3-4394-405C-99A5-05DF6A42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D85F-FC18-416A-BA04-F93D87B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D034-B9CB-4403-9DB4-13A49A8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5217-7AE1-4C41-9F00-11AAFE0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586E-6CD9-40F6-B51A-AA568776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DB69-4FAE-4ED2-B310-7E91B696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B55-9635-4B4C-8E7F-13ED1A3A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E6B0-9FF1-4C62-9359-ACF7240E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6BF-A92E-48F4-98C0-F34E9F5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487-3762-46E5-907C-92E8AC0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38B-2230-4354-BA74-4349E81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6DB8-05E5-436B-A4B5-252B4830AD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175C-E256-44C5-9087-487C064A70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304-CA9E-4109-ADE3-D6221EA572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8CE-C04B-4124-810A-00561171CD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82AB-B4BC-4399-B50C-CD795263FD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442160" y="2143080"/>
            <a:ext cx="611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да             гореть          в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онь        то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143000" y="2428920"/>
          <a:ext cx="7000920" cy="4000320"/>
        </p:xfrm>
        <a:graphic>
          <a:graphicData uri="http://schemas.openxmlformats.org/drawingml/2006/table">
            <a:tbl>
              <a:tblPr/>
              <a:tblGrid>
                <a:gridCol w="3714840"/>
                <a:gridCol w="328608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Box 2"/>
          <p:cNvSpPr/>
          <p:nvPr/>
        </p:nvSpPr>
        <p:spPr>
          <a:xfrm>
            <a:off x="1143000" y="3500280"/>
            <a:ext cx="39290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000760" y="3571920"/>
            <a:ext cx="2286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1214280" y="250020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амостоя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436720" y="257184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же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714240" y="71424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да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не не г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ит и в в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 не тон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1928880" y="5716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.             ч .                   с. пр.           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9"/>
          <p:cNvSpPr/>
          <p:nvPr/>
        </p:nvSpPr>
        <p:spPr>
          <a:xfrm>
            <a:off x="1700640" y="1785960"/>
            <a:ext cx="628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ь, почему эти части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ываются служе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точнить, для чего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и част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ть, являются ли он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ть, как выделяются служ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сти речи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166480" y="714240"/>
            <a:ext cx="44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лужебные част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11280" y="85716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00080" y="1928880"/>
          <a:ext cx="7072200" cy="3504960"/>
        </p:xfrm>
        <a:graphic>
          <a:graphicData uri="http://schemas.openxmlformats.org/drawingml/2006/table">
            <a:tbl>
              <a:tblPr/>
              <a:tblGrid>
                <a:gridCol w="2357640"/>
                <a:gridCol w="2357280"/>
                <a:gridCol w="2357280"/>
              </a:tblGrid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ти </a:t>
                      </a: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едлоги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ить, какую роль выполняют эти части речи в предлож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ти </a:t>
                      </a: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оюзы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ить, какую роль выполняют эти части речи в предлож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ти </a:t>
                      </a: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частицы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ить, какую роль выполняют эти части речи в предлож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857160" y="1357200"/>
          <a:ext cx="7358040" cy="307188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едлог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ою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ас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Box 2"/>
          <p:cNvSpPr/>
          <p:nvPr/>
        </p:nvSpPr>
        <p:spPr>
          <a:xfrm>
            <a:off x="1576080" y="207180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в    за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436560" y="2000160"/>
            <a:ext cx="21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     но      как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5935680" y="200016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не       ни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1009440" y="2857680"/>
            <a:ext cx="1808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и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286080" y="2714760"/>
            <a:ext cx="264312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ыв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однородные чл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стые предложе-ния в слож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5798160" y="285768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носят в пред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ие разл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т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6357960" y="2643120"/>
            <a:ext cx="428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5214960" y="2500200"/>
            <a:ext cx="35712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4786200" y="2571840"/>
            <a:ext cx="4287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286080" y="2643120"/>
            <a:ext cx="452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071800" y="2500200"/>
            <a:ext cx="42840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642960" y="714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знать, являются ли они членами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знать, как выделяются служебные  части речи в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928800" y="2571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вда   в   огне   не   горит   и    в   воде   не   т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857160" y="3858120"/>
            <a:ext cx="51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5400" y="45900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1"/>
          <p:cNvSpPr/>
          <p:nvPr/>
        </p:nvSpPr>
        <p:spPr>
          <a:xfrm>
            <a:off x="1215720" y="41432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928880" y="3643200"/>
          <a:ext cx="4643280" cy="2214720"/>
        </p:xfrm>
        <a:graphic>
          <a:graphicData uri="http://schemas.openxmlformats.org/drawingml/2006/table">
            <a:tbl>
              <a:tblPr/>
              <a:tblGrid>
                <a:gridCol w="4643280"/>
              </a:tblGrid>
              <a:tr h="221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6"/>
          <p:cNvSpPr/>
          <p:nvPr/>
        </p:nvSpPr>
        <p:spPr>
          <a:xfrm>
            <a:off x="2428920" y="4572000"/>
            <a:ext cx="452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2428920" y="5143680"/>
            <a:ext cx="4287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2428920" y="385776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34"/>
          <p:cNvSpPr/>
          <p:nvPr/>
        </p:nvSpPr>
        <p:spPr>
          <a:xfrm>
            <a:off x="3857760" y="3071880"/>
            <a:ext cx="857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36"/>
          <p:cNvSpPr/>
          <p:nvPr/>
        </p:nvSpPr>
        <p:spPr>
          <a:xfrm>
            <a:off x="6929280" y="3071880"/>
            <a:ext cx="928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8"/>
          <p:cNvSpPr/>
          <p:nvPr/>
        </p:nvSpPr>
        <p:spPr>
          <a:xfrm flipH="1" flipV="1">
            <a:off x="2572920" y="2999880"/>
            <a:ext cx="14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3"/>
          <p:cNvSpPr/>
          <p:nvPr/>
        </p:nvSpPr>
        <p:spPr>
          <a:xfrm>
            <a:off x="278604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45"/>
          <p:cNvSpPr/>
          <p:nvPr/>
        </p:nvSpPr>
        <p:spPr>
          <a:xfrm>
            <a:off x="300024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47"/>
          <p:cNvSpPr/>
          <p:nvPr/>
        </p:nvSpPr>
        <p:spPr>
          <a:xfrm>
            <a:off x="5643720" y="300024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50"/>
          <p:cNvSpPr/>
          <p:nvPr/>
        </p:nvSpPr>
        <p:spPr>
          <a:xfrm>
            <a:off x="585792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52"/>
          <p:cNvSpPr/>
          <p:nvPr/>
        </p:nvSpPr>
        <p:spPr>
          <a:xfrm>
            <a:off x="614376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4"/>
          <p:cNvSpPr/>
          <p:nvPr/>
        </p:nvSpPr>
        <p:spPr>
          <a:xfrm>
            <a:off x="3071880" y="3857760"/>
            <a:ext cx="32148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длоги в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астицы в 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юзы в 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6"/>
          <p:cNvSpPr/>
          <p:nvPr/>
        </p:nvSpPr>
        <p:spPr>
          <a:xfrm>
            <a:off x="1000080" y="3000240"/>
            <a:ext cx="1000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28"/>
          <p:cNvSpPr/>
          <p:nvPr/>
        </p:nvSpPr>
        <p:spPr>
          <a:xfrm>
            <a:off x="3857760" y="3000240"/>
            <a:ext cx="857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0"/>
          <p:cNvSpPr/>
          <p:nvPr/>
        </p:nvSpPr>
        <p:spPr>
          <a:xfrm>
            <a:off x="6929280" y="3000240"/>
            <a:ext cx="928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071800" y="2570040"/>
            <a:ext cx="42840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1"/>
          <p:cNvSpPr/>
          <p:nvPr/>
        </p:nvSpPr>
        <p:spPr>
          <a:xfrm>
            <a:off x="1000080" y="3070080"/>
            <a:ext cx="1000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3291840" y="2071800"/>
            <a:ext cx="23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узна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научил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запомни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Strusy</cp:lastModifiedBy>
  <dcterms:modified xsi:type="dcterms:W3CDTF">2016-11-03T13:52:39Z</dcterms:modified>
  <cp:revision>58</cp:revision>
  <dc:subject/>
  <dc:title>Слайд 1</dc:title>
</cp:coreProperties>
</file>