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8BF-CF6A-41D9-BDDF-F9650A72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7A9-784C-45D0-AE2A-FD92B5A6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1B5-5E7C-4A0B-B6FB-7DEC1440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626-525D-4C6D-9C0A-59734CBD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3E95-C5E3-41F7-84BA-0CF4A9AF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19EE-E822-45D4-82AB-CD1B112B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C370-A10A-46F7-91F3-EAEDD676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8A20-BAD7-4FDF-BE21-1C1DA828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5782-57FC-4E98-BF81-97EE2513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5F79-DE14-4039-9BC2-8C200B78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78EB-40E3-4972-BF70-7F40ABD8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E0A5-E5A0-4275-A4F8-BA2F56D7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5F48-8236-416B-BFED-80A35F34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3002-5BE9-4E36-AFCE-1BEF90E3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1F95-3B2F-46E9-94A2-591C1E00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9980-749C-4E5F-82C4-1EACB0BA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99C1-C42A-46AA-914E-20679788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C86DF-14AE-419E-AE7F-160213D7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EED8E-8F8C-4E71-A953-F542BAB3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841D7-CA3E-4291-B6C5-A7246A59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A80F9-6CA4-4308-A812-D59F5E5C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43F7F-8EE5-454B-9E93-A2889F37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3FE-CA19-4BA2-9D81-14CEBFFA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671AD-74BA-4C5C-9304-5C5574E9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626A5-A695-4FB3-AC5A-AFD96401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BA53C-4919-42F3-B2C7-97E19429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D4718-4110-4789-940F-80D4B0B7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6242B-F778-4467-8599-907F2F95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686BA-C8B2-4C0E-8736-96AA6F8C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D772E-21C2-4655-8E16-7A2F1428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0F617-640E-4AE0-B92D-7239023E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FD429-6E0A-4CCE-8BFA-10DF0DBE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2179F-92ED-437F-97D7-EE261041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5C4-2295-4805-984C-B9A1A8DC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CF772-502A-4112-9C93-6D35CF7E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6462B-CFF3-4A42-8839-CC329F10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5CC05-41A2-4164-B1DD-04E4C4E9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14779-5AEB-441F-B780-38BBF4C3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F8280-EFF1-47A7-A658-90D62831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944E9-19BB-4F4F-93A0-5EBBA264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7DFD3-12F0-45AF-93A1-25BEE30E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DD62E-BB1A-46CD-B916-7A52D083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CD686-9E98-4F6D-89C5-A6F6FCD2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D7768-C887-4A5A-A450-79E549C4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608-2096-4547-A4AC-6161B691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90F2F-1B12-4617-9E80-431D6358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E3E0B-5F5C-47F0-ACE8-BDE61742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E7C0C-0638-48C3-B7FE-DDE13A2D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7C05A-66BE-453C-A783-C5C612AC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42915-C77D-49A8-8A78-48C801A6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B06A9-D22C-4307-8A88-B465F7BC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DF31D-25C1-4BC3-B753-3D32FBA8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D62DD-9721-4E95-BCA3-AE5161EF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BE41E-C68B-4B5D-A192-EBCF9014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80CB3-2B28-41D7-AC78-DF889E98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B15E-B036-4579-ACF5-B131484B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0DB6A-1020-4489-BD53-D1ABBE02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034-421E-4032-8EF4-74CD1C80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C1C2-3A0B-4038-B019-29023C64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09CC-1733-4BC3-9B2A-7E1CAA0A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4D95-FFE5-4029-946C-54D72945769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D017-1D7A-432E-B1B5-3B2B0FAB3D4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1A75-22D7-422E-AFA0-5D5DF1F87A5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A4DA-CBA8-47DE-B1C6-4AACA9D5455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B94E-3455-4D35-AF20-27831D0B305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1442160" y="2143080"/>
            <a:ext cx="611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да             гореть          вод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гонь        тон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143000" y="2428920"/>
          <a:ext cx="7000920" cy="4000320"/>
        </p:xfrm>
        <a:graphic>
          <a:graphicData uri="http://schemas.openxmlformats.org/drawingml/2006/table">
            <a:tbl>
              <a:tblPr/>
              <a:tblGrid>
                <a:gridCol w="3714840"/>
                <a:gridCol w="3286080"/>
              </a:tblGrid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Box 2"/>
          <p:cNvSpPr/>
          <p:nvPr/>
        </p:nvSpPr>
        <p:spPr>
          <a:xfrm>
            <a:off x="1143000" y="3500280"/>
            <a:ext cx="39290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мя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ои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еч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мя чис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5000760" y="3571920"/>
            <a:ext cx="2286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ю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"/>
          <p:cNvSpPr/>
          <p:nvPr/>
        </p:nvSpPr>
        <p:spPr>
          <a:xfrm>
            <a:off x="1214280" y="2500200"/>
            <a:ext cx="33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амостоя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части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5436720" y="2571840"/>
            <a:ext cx="19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ужеб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сти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6"/>
          <p:cNvSpPr/>
          <p:nvPr/>
        </p:nvSpPr>
        <p:spPr>
          <a:xfrm>
            <a:off x="714240" y="71424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да в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не не г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ит и в в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 не тон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1928880" y="57168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пр.             ч .                   с. пр.            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9"/>
          <p:cNvSpPr/>
          <p:nvPr/>
        </p:nvSpPr>
        <p:spPr>
          <a:xfrm>
            <a:off x="1700640" y="1785960"/>
            <a:ext cx="6285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нять, почему эти части ре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зываются служеб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точнить, для чего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и части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знать, являются ли они чле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знать, как выделяются служеб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асти речи в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2166480" y="714240"/>
            <a:ext cx="44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лужебные части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511280" y="857160"/>
            <a:ext cx="22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бота в па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000080" y="1928880"/>
          <a:ext cx="7072200" cy="3504960"/>
        </p:xfrm>
        <a:graphic>
          <a:graphicData uri="http://schemas.openxmlformats.org/drawingml/2006/table">
            <a:tbl>
              <a:tblPr/>
              <a:tblGrid>
                <a:gridCol w="2357640"/>
                <a:gridCol w="2357280"/>
                <a:gridCol w="2357280"/>
              </a:tblGrid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 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 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йти </a:t>
                      </a:r>
                      <a:r>
                        <a:rPr b="1" i="1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предлоги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ить, какую роль выполняют эти части речи в предложения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йти </a:t>
                      </a:r>
                      <a:r>
                        <a:rPr b="1" i="1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союзы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ить, какую роль выполняют эти части речи в предложения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йти </a:t>
                      </a:r>
                      <a:r>
                        <a:rPr b="1" i="1" lang="ru-RU" sz="20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частицы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ить, какую роль выполняют эти части речи в предложения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857160" y="1357200"/>
          <a:ext cx="7358040" cy="3071880"/>
        </p:xfrm>
        <a:graphic>
          <a:graphicData uri="http://schemas.openxmlformats.org/drawingml/2006/table">
            <a:tbl>
              <a:tblPr/>
              <a:tblGrid>
                <a:gridCol w="2452680"/>
                <a:gridCol w="2452680"/>
                <a:gridCol w="24526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Предлог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ою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астиц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TextBox 2"/>
          <p:cNvSpPr/>
          <p:nvPr/>
        </p:nvSpPr>
        <p:spPr>
          <a:xfrm>
            <a:off x="1576080" y="2071800"/>
            <a:ext cx="13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в    за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3436560" y="2000160"/>
            <a:ext cx="21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     но      как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5935680" y="200016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не       ни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"/>
          <p:cNvSpPr/>
          <p:nvPr/>
        </p:nvSpPr>
        <p:spPr>
          <a:xfrm>
            <a:off x="1009440" y="2857680"/>
            <a:ext cx="180828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иси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их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3286080" y="2714760"/>
            <a:ext cx="2643120" cy="17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зыв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однородные чле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ения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остые предложе-ния в слож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5798160" y="2857680"/>
            <a:ext cx="22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носят в предл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ение различ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те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6357960" y="2643120"/>
            <a:ext cx="42876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0"/>
          <p:cNvSpPr/>
          <p:nvPr/>
        </p:nvSpPr>
        <p:spPr>
          <a:xfrm>
            <a:off x="5214960" y="2500200"/>
            <a:ext cx="357120" cy="500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7"/>
          <p:cNvSpPr/>
          <p:nvPr/>
        </p:nvSpPr>
        <p:spPr>
          <a:xfrm>
            <a:off x="4786200" y="2571840"/>
            <a:ext cx="42876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3286080" y="2643120"/>
            <a:ext cx="4525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0"/>
          <p:cNvSpPr/>
          <p:nvPr/>
        </p:nvSpPr>
        <p:spPr>
          <a:xfrm>
            <a:off x="2071800" y="2500200"/>
            <a:ext cx="428400" cy="500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642960" y="71424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Узнать, являются ли они членами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Узнать, как выделяются служебные  части речи в предло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928800" y="257184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авда   в   огне   не   горит   и    в   воде   не   то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857160" y="3858120"/>
            <a:ext cx="514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6"/>
          <p:cNvSpPr/>
          <p:nvPr/>
        </p:nvSpPr>
        <p:spPr>
          <a:xfrm>
            <a:off x="5400" y="459000"/>
            <a:ext cx="66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1"/>
          <p:cNvSpPr/>
          <p:nvPr/>
        </p:nvSpPr>
        <p:spPr>
          <a:xfrm>
            <a:off x="1215720" y="41432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928880" y="3643200"/>
          <a:ext cx="4643280" cy="2214720"/>
        </p:xfrm>
        <a:graphic>
          <a:graphicData uri="http://schemas.openxmlformats.org/drawingml/2006/table">
            <a:tbl>
              <a:tblPr/>
              <a:tblGrid>
                <a:gridCol w="4643280"/>
              </a:tblGrid>
              <a:tr h="221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6"/>
          <p:cNvSpPr/>
          <p:nvPr/>
        </p:nvSpPr>
        <p:spPr>
          <a:xfrm>
            <a:off x="2428920" y="4572000"/>
            <a:ext cx="4525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7"/>
          <p:cNvSpPr/>
          <p:nvPr/>
        </p:nvSpPr>
        <p:spPr>
          <a:xfrm>
            <a:off x="2428920" y="5143680"/>
            <a:ext cx="42876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"/>
          <p:cNvSpPr/>
          <p:nvPr/>
        </p:nvSpPr>
        <p:spPr>
          <a:xfrm>
            <a:off x="2428920" y="3857760"/>
            <a:ext cx="428760" cy="500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34"/>
          <p:cNvSpPr/>
          <p:nvPr/>
        </p:nvSpPr>
        <p:spPr>
          <a:xfrm>
            <a:off x="3857760" y="3071880"/>
            <a:ext cx="857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36"/>
          <p:cNvSpPr/>
          <p:nvPr/>
        </p:nvSpPr>
        <p:spPr>
          <a:xfrm>
            <a:off x="6929280" y="3071880"/>
            <a:ext cx="928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38"/>
          <p:cNvSpPr/>
          <p:nvPr/>
        </p:nvSpPr>
        <p:spPr>
          <a:xfrm flipH="1" flipV="1">
            <a:off x="2572920" y="2999880"/>
            <a:ext cx="141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43"/>
          <p:cNvSpPr/>
          <p:nvPr/>
        </p:nvSpPr>
        <p:spPr>
          <a:xfrm>
            <a:off x="2786040" y="300024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45"/>
          <p:cNvSpPr/>
          <p:nvPr/>
        </p:nvSpPr>
        <p:spPr>
          <a:xfrm>
            <a:off x="3000240" y="300024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47"/>
          <p:cNvSpPr/>
          <p:nvPr/>
        </p:nvSpPr>
        <p:spPr>
          <a:xfrm>
            <a:off x="5643720" y="3000240"/>
            <a:ext cx="142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50"/>
          <p:cNvSpPr/>
          <p:nvPr/>
        </p:nvSpPr>
        <p:spPr>
          <a:xfrm>
            <a:off x="5857920" y="300024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52"/>
          <p:cNvSpPr/>
          <p:nvPr/>
        </p:nvSpPr>
        <p:spPr>
          <a:xfrm>
            <a:off x="6143760" y="300024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4"/>
          <p:cNvSpPr/>
          <p:nvPr/>
        </p:nvSpPr>
        <p:spPr>
          <a:xfrm>
            <a:off x="3071880" y="3857760"/>
            <a:ext cx="321480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едлоги в тре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астицы в прямо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юзы в ов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ая соединительная линия 26"/>
          <p:cNvSpPr/>
          <p:nvPr/>
        </p:nvSpPr>
        <p:spPr>
          <a:xfrm>
            <a:off x="1000080" y="3000240"/>
            <a:ext cx="1000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28"/>
          <p:cNvSpPr/>
          <p:nvPr/>
        </p:nvSpPr>
        <p:spPr>
          <a:xfrm>
            <a:off x="3857760" y="3000240"/>
            <a:ext cx="857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30"/>
          <p:cNvSpPr/>
          <p:nvPr/>
        </p:nvSpPr>
        <p:spPr>
          <a:xfrm>
            <a:off x="6929280" y="3000240"/>
            <a:ext cx="9288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2071800" y="2570040"/>
            <a:ext cx="428400" cy="500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31"/>
          <p:cNvSpPr/>
          <p:nvPr/>
        </p:nvSpPr>
        <p:spPr>
          <a:xfrm>
            <a:off x="1000080" y="3070080"/>
            <a:ext cx="1000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2"/>
          <p:cNvSpPr/>
          <p:nvPr/>
        </p:nvSpPr>
        <p:spPr>
          <a:xfrm>
            <a:off x="3291840" y="2071800"/>
            <a:ext cx="236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Я узнал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Я научил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Я запомнил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Strusy</cp:lastModifiedBy>
  <dcterms:modified xsi:type="dcterms:W3CDTF">2016-11-03T13:52:39Z</dcterms:modified>
  <cp:revision>58</cp:revision>
  <dc:subject/>
  <dc:title>Слайд 1</dc:title>
</cp:coreProperties>
</file>