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116B-01AD-4459-ABE8-8207EACBAB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80A4-FA18-463C-8232-FCF58183A2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59A2-B04C-44C6-AE8D-6709F4C68B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DBEF-5740-46A2-9D20-13ACA4A01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31F4-4E82-4175-9C61-6776D810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34DE-52DD-4500-9AE5-65391285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C6CF-A4B7-433D-838C-52816AFAA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67FB-0E90-4EC6-84CF-38994286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402F-75A0-4B90-85EF-3E487DBB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63D1-721D-4B3A-A273-48273C23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2241-A318-47F5-99DD-BBE83FB4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3083-17A1-4351-BFE6-39C8B3B3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3043-2224-4EB7-8421-46D71607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08AF-667D-43D2-987C-ACC6F9D0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D641-78FA-4FD9-8AF5-A3B61730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3026-7EE4-47CB-9A92-85E1C66566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928440"/>
            <a:ext cx="840096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Улицы   ВОРОНЕЖА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          во  время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                 и 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      после  войны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3429000" y="4857840"/>
            <a:ext cx="5572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…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ет,  враг  Воронеж  не  осил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идать, судьбою  сужде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Что  на  любой  черте,  Росс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Есть  у  тебя  Бороди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866880" y="3429000"/>
            <a:ext cx="407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классное  мероприят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вящё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беде советского народа в 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900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943  г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3" descr="http://image.slidesharecdn.com/251943252010-131117065234-phpapp02/95/-42-638.jpg?cb=1384693197"/>
          <p:cNvPicPr/>
          <p:nvPr/>
        </p:nvPicPr>
        <p:blipFill>
          <a:blip r:embed="rId1"/>
          <a:stretch/>
        </p:blipFill>
        <p:spPr>
          <a:xfrm>
            <a:off x="214200" y="1500120"/>
            <a:ext cx="7858080" cy="507204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4"/>
          <p:cNvSpPr/>
          <p:nvPr/>
        </p:nvSpPr>
        <p:spPr>
          <a:xfrm>
            <a:off x="7524360" y="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ОЙ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2015  год  – памятн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3" descr="СМ-2013"/>
          <p:cNvPicPr/>
          <p:nvPr/>
        </p:nvPicPr>
        <p:blipFill>
          <a:blip r:embed="rId1"/>
          <a:stretch/>
        </p:blipFill>
        <p:spPr>
          <a:xfrm>
            <a:off x="285840" y="1357200"/>
            <a:ext cx="764388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57600" y="274320"/>
            <a:ext cx="232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ОЙ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14200" y="4429080"/>
            <a:ext cx="4114800" cy="19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елезнодорож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кз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ор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4" descr="http://istram.ucoz.ru/_pu/5/s00845737.jpg"/>
          <p:cNvPicPr/>
          <p:nvPr/>
        </p:nvPicPr>
        <p:blipFill>
          <a:blip r:embed="rId1"/>
          <a:stretch/>
        </p:blipFill>
        <p:spPr>
          <a:xfrm>
            <a:off x="4857840" y="3857760"/>
            <a:ext cx="4286160" cy="3000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Портал о Фронтовиках"/>
          <p:cNvPicPr/>
          <p:nvPr/>
        </p:nvPicPr>
        <p:blipFill>
          <a:blip r:embed="rId2"/>
          <a:stretch/>
        </p:blipFill>
        <p:spPr>
          <a:xfrm>
            <a:off x="-20520" y="0"/>
            <a:ext cx="633096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Железнодорожный   вокз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Воронеж. Железнодорожный вокзал; фото 903590, фотограф Корчагина Полина. Фотобанк Лори - Продажа фотографий, иллюстраций и изобр"/>
          <p:cNvPicPr/>
          <p:nvPr/>
        </p:nvPicPr>
        <p:blipFill>
          <a:blip r:embed="rId1"/>
          <a:stretch/>
        </p:blipFill>
        <p:spPr>
          <a:xfrm>
            <a:off x="0" y="1071720"/>
            <a:ext cx="907884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илой  квартал,  1943 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3" descr="Советский прорыв SVLV - Информационный портал"/>
          <p:cNvPicPr/>
          <p:nvPr/>
        </p:nvPicPr>
        <p:blipFill>
          <a:blip r:embed="rId1"/>
          <a:stretch/>
        </p:blipFill>
        <p:spPr>
          <a:xfrm>
            <a:off x="214200" y="1428840"/>
            <a:ext cx="7643880" cy="520524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4"/>
          <p:cNvSpPr/>
          <p:nvPr/>
        </p:nvSpPr>
        <p:spPr>
          <a:xfrm>
            <a:off x="7524360" y="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ОЙ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57520" y="274320"/>
            <a:ext cx="332892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оронеж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аши  дн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Жилой массив &quot;Олимпийский&quot; в Воронеже - Новини Економіки - Новини Mail.Ru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4929120" cy="3071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Квартал &quot;Три Богатыря&quot; ЖК &quot;Три Богатыря&quot; - voronezh1 - Photo.Qip.ru / id: vas"/>
          <p:cNvPicPr/>
          <p:nvPr/>
        </p:nvPicPr>
        <p:blipFill>
          <a:blip r:embed="rId2"/>
          <a:stretch/>
        </p:blipFill>
        <p:spPr>
          <a:xfrm>
            <a:off x="1523880" y="2857680"/>
            <a:ext cx="7620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647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Фонтан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в  Кольцовском  сквер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3" descr="Знаменитые снимки Великой Отечественной Войны Энциклопедия оружия"/>
          <p:cNvPicPr/>
          <p:nvPr/>
        </p:nvPicPr>
        <p:blipFill>
          <a:blip r:embed="rId1"/>
          <a:stretch/>
        </p:blipFill>
        <p:spPr>
          <a:xfrm>
            <a:off x="428760" y="1428840"/>
            <a:ext cx="7786440" cy="514332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7579800" y="28584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ОЙ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1438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льцовский  сквер в  феврале  1943  год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3" descr="http://image.slidesharecdn.com/251943252010-131117065234-phpapp02/95/-38-638.jpg?cb=1384693197"/>
          <p:cNvPicPr/>
          <p:nvPr/>
        </p:nvPicPr>
        <p:blipFill>
          <a:blip r:embed="rId1"/>
          <a:stretch/>
        </p:blipFill>
        <p:spPr>
          <a:xfrm>
            <a:off x="0" y="642960"/>
            <a:ext cx="5429160" cy="36432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4"/>
          <p:cNvSpPr/>
          <p:nvPr/>
        </p:nvSpPr>
        <p:spPr>
          <a:xfrm>
            <a:off x="7524360" y="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ОЙ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5" descr="Кольцовский сквер до и во Время ВОВ Старый Воронеж"/>
          <p:cNvPicPr/>
          <p:nvPr/>
        </p:nvPicPr>
        <p:blipFill>
          <a:blip r:embed="rId2"/>
          <a:stretch/>
        </p:blipFill>
        <p:spPr>
          <a:xfrm>
            <a:off x="4500720" y="2857680"/>
            <a:ext cx="4643280" cy="400032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6"/>
          <p:cNvSpPr/>
          <p:nvPr/>
        </p:nvSpPr>
        <p:spPr>
          <a:xfrm>
            <a:off x="372240" y="5072040"/>
            <a:ext cx="35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мецкое  кладбище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ольцовский  скв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AlexSachka - КОЛЬЦОВСКИЙ СКВЕР. г.Воронеж."/>
          <p:cNvPicPr/>
          <p:nvPr/>
        </p:nvPicPr>
        <p:blipFill>
          <a:blip r:embed="rId1"/>
          <a:stretch/>
        </p:blipFill>
        <p:spPr>
          <a:xfrm>
            <a:off x="0" y="714240"/>
            <a:ext cx="85564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2149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икольский  храм, 1943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3" descr="http://image.slidesharecdn.com/251943252010-131117065234-phpapp02/95/-39-638.jpg?cb=1384693197"/>
          <p:cNvPicPr/>
          <p:nvPr/>
        </p:nvPicPr>
        <p:blipFill>
          <a:blip r:embed="rId1"/>
          <a:stretch/>
        </p:blipFill>
        <p:spPr>
          <a:xfrm>
            <a:off x="0" y="642960"/>
            <a:ext cx="4500720" cy="607212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Воронеж. Церковь Николая Чудотворца, фотография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356760"/>
            <a:ext cx="68580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Рассчитывая  взять  Воронеж сходу,  ФАШИСТЫ  натолкнулся  на ожесточенное  сопротивление защитников  города  и  были вынуждены   ввязаться  в многомесячные  городские  бо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1428840" y="3143160"/>
            <a:ext cx="2571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071880" y="3227760"/>
            <a:ext cx="5786280" cy="3020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У  берегов  донских  в  бою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Столицу  грудью  ты заслонишь, 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Чтоб  защитить  Москву  свою, 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Ты  должен  отстоять Воронеж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Врага  утопишь ты в Дону, 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Сожжешь  огнем, в могилу вгонишь 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Боец,  спасая всю страну, 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Ты  должен  отстоять  Воронеж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газин  «УТЮЖО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Рисунок 3" descr="Книжные выставки ко Дню освобождения Воронежа &quot;Время культуры&quot;"/>
          <p:cNvPicPr/>
          <p:nvPr/>
        </p:nvPicPr>
        <p:blipFill>
          <a:blip r:embed="rId1"/>
          <a:stretch/>
        </p:blipFill>
        <p:spPr>
          <a:xfrm>
            <a:off x="285840" y="1500120"/>
            <a:ext cx="8286840" cy="514368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4"/>
          <p:cNvSpPr/>
          <p:nvPr/>
        </p:nvSpPr>
        <p:spPr>
          <a:xfrm>
            <a:off x="7524360" y="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ОЙ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оронеж,  здание  «Утюжок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Лучший Город - Воронеж: Новости афиша форум фото работа сайт воронежская область"/>
          <p:cNvPicPr/>
          <p:nvPr/>
        </p:nvPicPr>
        <p:blipFill>
          <a:blip r:embed="rId1"/>
          <a:stretch/>
        </p:blipFill>
        <p:spPr>
          <a:xfrm>
            <a:off x="249120" y="928800"/>
            <a:ext cx="889488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8579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лощадь  Ленина. 1942  го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3" descr="Курилка армейского репортера - Героическая оборона Воронежа"/>
          <p:cNvPicPr/>
          <p:nvPr/>
        </p:nvPicPr>
        <p:blipFill>
          <a:blip r:embed="rId1"/>
          <a:stretch/>
        </p:blipFill>
        <p:spPr>
          <a:xfrm>
            <a:off x="214200" y="857160"/>
            <a:ext cx="8643960" cy="578664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4"/>
          <p:cNvSpPr/>
          <p:nvPr/>
        </p:nvSpPr>
        <p:spPr>
          <a:xfrm>
            <a:off x="7524360" y="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ОЙ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Весь  город  ещё  в  руинах – а  по  главной  площади  уже  движутся  трамваи,  лето 1943  год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Исторические транспортные фото других городов.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1285920"/>
            <a:ext cx="88837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лощадь  Ленина  1951  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Воронеж - Исторические фотографии - СТТС"/>
          <p:cNvPicPr/>
          <p:nvPr/>
        </p:nvPicPr>
        <p:blipFill>
          <a:blip r:embed="rId1"/>
          <a:stretch/>
        </p:blipFill>
        <p:spPr>
          <a:xfrm>
            <a:off x="214200" y="1500120"/>
            <a:ext cx="79200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ернавский  м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3" descr="http://image.slidesharecdn.com/251943252010-131117065234-phpapp02/95/-36-638.jpg?cb=1384693197"/>
          <p:cNvPicPr/>
          <p:nvPr/>
        </p:nvPicPr>
        <p:blipFill>
          <a:blip r:embed="rId1"/>
          <a:stretch/>
        </p:blipFill>
        <p:spPr>
          <a:xfrm>
            <a:off x="214200" y="1000080"/>
            <a:ext cx="8358480" cy="564372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4"/>
          <p:cNvSpPr/>
          <p:nvPr/>
        </p:nvSpPr>
        <p:spPr>
          <a:xfrm>
            <a:off x="7524360" y="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ОЙ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85840" y="4071960"/>
            <a:ext cx="292896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Чернав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Рисунок 3" descr="Воронеж — Исторические фотографии"/>
          <p:cNvPicPr/>
          <p:nvPr/>
        </p:nvPicPr>
        <p:blipFill>
          <a:blip r:embed="rId1"/>
          <a:stretch/>
        </p:blipFill>
        <p:spPr>
          <a:xfrm>
            <a:off x="0" y="0"/>
            <a:ext cx="5286240" cy="3500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Воронеж 1973 год"/>
          <p:cNvPicPr/>
          <p:nvPr/>
        </p:nvPicPr>
        <p:blipFill>
          <a:blip r:embed="rId2"/>
          <a:srcRect l="0" t="7546" r="0" b="7546"/>
          <a:stretch/>
        </p:blipFill>
        <p:spPr>
          <a:xfrm>
            <a:off x="3929040" y="3465360"/>
            <a:ext cx="521496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битые  трамвайные  вагоны  у  здания  Монтажного  технику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3" descr="http://image.slidesharecdn.com/251943252010-131117065234-phpapp02/95/-34-638.jpg?cb=1384693197"/>
          <p:cNvPicPr/>
          <p:nvPr/>
        </p:nvPicPr>
        <p:blipFill>
          <a:blip r:embed="rId1"/>
          <a:stretch/>
        </p:blipFill>
        <p:spPr>
          <a:xfrm>
            <a:off x="214200" y="1500120"/>
            <a:ext cx="77868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онтажный  технику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4" descr="Воронеж: пройдет межрегиональный форум &quot;Воронежская область - ваш партнер&quot;. Национальное деловое партнерство &quot;Альянс Медиа&quot;. Дис"/>
          <p:cNvPicPr/>
          <p:nvPr/>
        </p:nvPicPr>
        <p:blipFill>
          <a:blip r:embed="rId1"/>
          <a:stretch/>
        </p:blipFill>
        <p:spPr>
          <a:xfrm>
            <a:off x="0" y="744480"/>
            <a:ext cx="807228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42976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спект   Революции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остиницы «Бристоль»,  воины  Красной  армии  проходят  по  улицам  освобождённого  Воронежа</a:t>
            </a:r>
            <a:br>
              <a:rPr sz="29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Рисунок 3" descr="Kommuna.ru - Информационный портал Воронежа и Воронежской области"/>
          <p:cNvPicPr/>
          <p:nvPr/>
        </p:nvPicPr>
        <p:blipFill>
          <a:blip r:embed="rId1"/>
          <a:stretch/>
        </p:blipFill>
        <p:spPr>
          <a:xfrm>
            <a:off x="285840" y="1285920"/>
            <a:ext cx="79293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14200" y="428400"/>
            <a:ext cx="87868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огда  пришел  понедельник 25 января 1943 года и в правобережной  части  Воронежа  прогремел последний  выстрел, всюду громоздились руины. Не было  ни кварталов, ни  улиц, ни  площадей, ни дворов.  Семимесячные  уличные  бои превратили в развалины  двадцать тысяч зданий (уничтожено до 92  процентов  жилого  фонда город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ырублены  сады и парки, уничтожены  культурные ценности  и памятники архитектуры. Ущерб, причиненный  городу  гитлеровцами, выразился в огромной  сумме – в 5 000 000 000 рублей.  По степени  разрушений, нанесенных  городу, Воронеж уступал  только  Сталинграду  и  Севастопол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32760" y="0"/>
            <a:ext cx="85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Здание  гостиницы  «Центральная  (Бристоль)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Блог пользователя - Downtown.ru, Воронеж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-71280" y="857160"/>
            <a:ext cx="742932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ОРОНЕЖЦЫ  очищают  улицы  города  от  мус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Рисунок 3" descr="Просматривает изображение Оборона от фашистов - Форум"/>
          <p:cNvPicPr/>
          <p:nvPr/>
        </p:nvPicPr>
        <p:blipFill>
          <a:blip r:embed="rId1"/>
          <a:stretch/>
        </p:blipFill>
        <p:spPr>
          <a:xfrm>
            <a:off x="214200" y="785880"/>
            <a:ext cx="864396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285920" y="0"/>
            <a:ext cx="78580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Героическим  трудом  воронежцев  город  быстро поднялся  из  руин. Уже  к  началу  1948  года  были полностью  восстановлены  и  давали  продукцию  122  промышленных  предприятия  из  137,  разрушенных фашистами.  А  через  пятнадцать  лет,  в  1958  году, Воронеж   достиг  довоенного  уровня  развития  и продолжал  расти.  Указом  Президиума  Верховного Совета  СССР  от  6  мая  1975  года  за  мужество  и героизм  в  годы  Великой  Отечественной  войны  и успехи  в  развитии  народного  хозяйства  город  был награжде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Ответы@Mail.Ru: Что за мужики (и не только), где?"/>
          <p:cNvPicPr/>
          <p:nvPr/>
        </p:nvPicPr>
        <p:blipFill>
          <a:blip r:embed="rId1"/>
          <a:stretch/>
        </p:blipFill>
        <p:spPr>
          <a:xfrm>
            <a:off x="0" y="0"/>
            <a:ext cx="1571760" cy="7000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Новини - Щоденник.ua: 20 мая в истории"/>
          <p:cNvPicPr/>
          <p:nvPr/>
        </p:nvPicPr>
        <p:blipFill>
          <a:blip r:embed="rId2"/>
          <a:stretch/>
        </p:blipFill>
        <p:spPr>
          <a:xfrm>
            <a:off x="6715080" y="4552920"/>
            <a:ext cx="2286000" cy="23050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"/>
          <p:cNvSpPr/>
          <p:nvPr/>
        </p:nvSpPr>
        <p:spPr>
          <a:xfrm>
            <a:off x="1519920" y="5000760"/>
            <a:ext cx="546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рденом  Отечественно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ойны 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 степ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842976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5  января  1943  год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 проспект  Революции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остиница «Бристоль»,  воины Красной армии  проходят по улицам освобождённого Воронежа</a:t>
            </a:r>
            <a:br>
              <a:rPr sz="29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Kommuna.ru - Информационный портал Воронежа и Воронежской области"/>
          <p:cNvPicPr/>
          <p:nvPr/>
        </p:nvPicPr>
        <p:blipFill>
          <a:blip r:embed="rId1"/>
          <a:stretch/>
        </p:blipFill>
        <p:spPr>
          <a:xfrm>
            <a:off x="285840" y="1428840"/>
            <a:ext cx="78580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7120" y="4214880"/>
            <a:ext cx="39290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Жители  Воронежа 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озвращаются 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  родной  город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3" descr="http://image.slidesharecdn.com/251943252010-131117065234-phpapp02/95/-30-638.jpg?cb=1384693197"/>
          <p:cNvPicPr/>
          <p:nvPr/>
        </p:nvPicPr>
        <p:blipFill>
          <a:blip r:embed="rId1"/>
          <a:stretch/>
        </p:blipFill>
        <p:spPr>
          <a:xfrm>
            <a:off x="0" y="0"/>
            <a:ext cx="5643720" cy="37861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voronesh"/>
          <p:cNvPicPr/>
          <p:nvPr/>
        </p:nvPicPr>
        <p:blipFill>
          <a:blip r:embed="rId2"/>
          <a:stretch/>
        </p:blipFill>
        <p:spPr>
          <a:xfrm>
            <a:off x="4786200" y="3643200"/>
            <a:ext cx="43578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з  пепла  пожарищ  мы  восстановим  тебя,  родной  Вороне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3" descr="http://image.slidesharecdn.com/251943252010-131117065234-phpapp02/95/-31-638.jpg?cb=1384693197"/>
          <p:cNvPicPr/>
          <p:nvPr/>
        </p:nvPicPr>
        <p:blipFill>
          <a:blip r:embed="rId1"/>
          <a:stretch/>
        </p:blipFill>
        <p:spPr>
          <a:xfrm>
            <a:off x="214200" y="1000080"/>
            <a:ext cx="8643960" cy="542916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3717000" y="6286680"/>
            <a:ext cx="218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1943 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500040" y="142884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</a:rPr>
              <a:t>ПОДВИГ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</a:rPr>
              <a:t>жителей  город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дание  драматического  теат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Нажмите на изображение для увеличения&#10;Название: Безымянный1.jpg&#10;Просмотров: 384&#10;Размер: 144.9 Кб&#10;ID: 1186066"/>
          <p:cNvPicPr/>
          <p:nvPr/>
        </p:nvPicPr>
        <p:blipFill>
          <a:blip r:embed="rId1"/>
          <a:stretch/>
        </p:blipFill>
        <p:spPr>
          <a:xfrm>
            <a:off x="1812960" y="1704960"/>
            <a:ext cx="5518080" cy="34480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Фотоистория: Драматический театр - Город - Downtown.ru, Воро…"/>
          <p:cNvPicPr/>
          <p:nvPr/>
        </p:nvPicPr>
        <p:blipFill>
          <a:blip r:embed="rId2"/>
          <a:stretch/>
        </p:blipFill>
        <p:spPr>
          <a:xfrm>
            <a:off x="285840" y="1214280"/>
            <a:ext cx="8001000" cy="54295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7366680" y="0"/>
            <a:ext cx="17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ОЙ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152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Здание  драматического  теат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Воронеж 1973 год"/>
          <p:cNvPicPr/>
          <p:nvPr/>
        </p:nvPicPr>
        <p:blipFill>
          <a:blip r:embed="rId1"/>
          <a:stretch/>
        </p:blipFill>
        <p:spPr>
          <a:xfrm>
            <a:off x="0" y="857160"/>
            <a:ext cx="89298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06:58:51Z</dcterms:created>
  <dc:creator>User</dc:creator>
  <dc:description/>
  <dc:language>en-US</dc:language>
  <cp:lastModifiedBy>User</cp:lastModifiedBy>
  <dcterms:modified xsi:type="dcterms:W3CDTF">2017-02-15T17:16:34Z</dcterms:modified>
  <cp:revision>46</cp:revision>
  <dc:subject/>
  <dc:title>Слайд 1</dc:title>
</cp:coreProperties>
</file>