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523-7A1C-4A9C-981F-7A56C369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E4C1-AA7D-4588-8908-25F10A76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41BF-E9BF-4FC2-92A6-6E6C174F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1CAB-B0A9-47ED-B18A-DBB0A5F3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1DD7-E6DB-4A4E-8BA4-D6496025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9CA9-6048-4AF7-9140-09182DFD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5734-AF06-4400-BA06-6380D3E4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50E1-F3ED-44BC-9108-F40DEFB7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0996-618E-4BEB-BAB9-93611CFD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3E6C-4979-4865-93BA-BAA4F7E0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B1AE-EE58-4CE9-9ABF-551183D0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DFE8-67AD-46A6-884C-F0CEECDC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22E3-9826-471A-9625-7D8C2AC4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0CF7-8033-44E7-9092-75B8F876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2F20-455A-4AEA-8881-296E6B16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CB78-0095-4355-B6A4-58CC6330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E2FD-ADBA-4A90-910D-2990DF2A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9F9-95BE-43B0-9F99-F77F8DFB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DD17-D50C-4A24-9CE7-E8794538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E7F-B400-45A8-BFF0-E9AB113F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FDA-597B-45E9-82F6-CABF8F2C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6BD9-DBE8-43CB-A687-5DE1F1AD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F11C-9DC7-43BE-A176-7945A1DE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6DE-0F80-4E64-8334-837FD2D8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4552-9F4C-43BD-95A4-1465319395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99B4-3805-498C-AB42-734F16CE1CA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772400" cy="2449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ecff"/>
                </a:solidFill>
                <a:uFillTx/>
                <a:latin typeface="Arial"/>
              </a:rPr>
              <a:t>Планирование предметно-развивающей среды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Тема: </a:t>
            </a:r>
            <a:r>
              <a:rPr b="1" lang="ru-RU" sz="2800" spc="-1" strike="noStrike" u="sng">
                <a:solidFill>
                  <a:srgbClr val="ccecff"/>
                </a:solidFill>
                <a:uFillTx/>
                <a:latin typeface="Arial"/>
              </a:rPr>
              <a:t>«Здравствуй, Пушкин!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50560" y="3499920"/>
            <a:ext cx="8569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готовительная груп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а: Устюгова Е.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БДОУ № 2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.Красноярс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Физическое направления развития дете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Формировать потребности в ежедневной двигательной актив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Развивать физические качества (ловкость, выносливость, координация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оддерживать интерес к различным видам спор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снащ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Центр двигательной активности  «Уголок здоровь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ячи малые, сред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ьцеброс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гл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Дорожки движения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тильная дорожка (ребристые, массажные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шень на ковролиновой основе с набором дротиков и мячиков на «липучках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антели детск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шествующая работа: утренняя гимнастика «Герои сказок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вижная игра «Ветер», хороводная игра «Прялица»; народные игры «Дедушка», «Заря заряниц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8792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разовательная область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здоров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егрируется с образовательными областя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муникац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зна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ализац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оровь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зопас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ункциональная зона: актив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изайн и рекомендации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культурный уголок размещен в нише групповой комнаты. Учитывается взаимосочетание отдельных снарядов по форме, цвету, величине. Все пособия доступны детям, побуждают их делать самим все, что им посильно и интерес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Художественно-эстетическое направлени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совершенствовать навыки работы мелкой мотори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развивать детское творчест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формировать представления о художественном эстетическом вку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снащ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ворческая мастерская «Талантливые пальчи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ИЗО центр, дополнительные столы и стуль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Кисти, краски (акварель, гуашь, витражная), цветные карандаши, фломастеры  и 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ластилин, глина, масса для леп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Трафареты, формочки, рамоч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Материалы : бумага разных фактур и цвета, картон,  пуговицы, ножницы, клей, дырокол, и т.д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Информационный стенд-выставка «Сказки Пушкин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екомендац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изация выставки рисунков «Сказки Пушкин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пка «Белка песенки поет, да орешки все грызет», «Царевна Лебедь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создание коллективной аппликации «У Лукоморь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разовательная обла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ь: художественное творч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егрируется с образовательными областя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Коммуникац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циализац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Труд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Безопас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ункциональная зо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рабоч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изайн и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нтр располагается рядом с книжным уголком, хорошо освещенное в группе место. Здесь воспитанники в свободное время рисуют, лепят, выполняют аппликации. Полки заполнены необходимым изобразительным материалом, который находится в тумбах, на полках. Здесь же есть  место для небольшой выставки с образцами народного художественного творч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Итоговое мероприятие: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онкурс чтецов отрывок из произведений А.С.Пушкина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ccecff"/>
                </a:solidFill>
                <a:latin typeface="Arial"/>
              </a:rPr>
              <a:t>Актуальность темы «Здравствуй, Пушкин!»</a:t>
            </a:r>
            <a:endParaRPr b="0" lang="en-US" sz="3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усство - одно из мощных средств воспитания чувств, поэтому надо учить детей понимать и любить произведения литературы, научить понимать, что чрезвычайно важную роль играет худ.средства, с помощью которых художник создает образ. Когда мы знакомим  ребенка с каким-либо видом творческой деятельности, это положительно влияет на него, обогащает опыт, вызывает глубокие чувства и эмоции. Одним из самых ярких творцов художественных образов, доступных пониманию детей являются произведения А.С.Пушкина.  Напевность, ритмичность, лаконичность, выразительность, музыкальность его стихов всегда находит отклик в душе, как взрослого, так и ребенка. Рано или поздно поэт становится другом каждому читающему человеку, и задача взрослых познакомить с ним ребенка как можно раньше и сделать его стихи, сказки, жизнь частью внутреннего мира растущего человек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23640" y="476280"/>
            <a:ext cx="835164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расширение представлений детей о творчестве А.С.Пушкина, разнообразии произведений; формирование интереса к творчеству поэта; воспитание нравственных и эстетических чувств реб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Познавательно-речевое направление развития детей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общить знания детей о творчестве А.С.Пушк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питывать любовь и уважение к русским писател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вать эстетические и познавательные устремления дошкольн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95280" y="115560"/>
            <a:ext cx="82072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снащ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нижный уголо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Полка умных книг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ортрет А.С.Пушкин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казки А.С.Пушкина «Сказка о рыбаке и рыбке», «Сказка о мертвой царевне и о семи богатырях», «Сказка о золотом петушке», «Сказка о попе и о работнике его Балде», «Лукоморье», «Царевна Лебедь», «Шамаханская цариц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иллюстрации к сказкам: «Царевна с яблоком. Пробуждение царевны. «Дочка царская жива!», «Воротился старик ко старухе…», «Избушка там на курьях ножках…» Т.А.Маврина; «Царевна-Лебедь» М.Врубель; «Бочка по морю плывет», «Тридцать три богатыря» И.Билиб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мультфильмы по сказка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аудиосказ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азлы «Сказки Пушкин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идактические игры: «Доскажи словечко», «Придумай рифму», «Вспомни сказку», «Подбери схему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екомендац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роведение тематических занятий и бесед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роведение литературной викторины по произведения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рганизация книжной выставки по сказкам А.С.Пушкина совместно с родител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11280" y="333000"/>
            <a:ext cx="792144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разовательная обла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ь: позн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егрируется с образовательными областями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муникац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ализац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ение художественной литерату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ункциональная зо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спокойная, рабоч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изайн и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голок располагается вдали от мест игр детей, чтобы шумные игры не отвлекали от сосредоточенного общения с книгой. Освещение естественное (окно) и электрическое (настольная лампа) для вечернего чтения. Оформлен уголок в виде полок, открытых витрин, где хранятся книги, картины и дидактические игры. Обустроено место для работы с литературой, специально выделен столик, два стульчика, мягкий диван, светильник, чтобы ребенку было уют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оциально-личностное направление развития детей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99640" y="1628280"/>
            <a:ext cx="748836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ч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Развивать речевого творчества детей на основе произведений А.С.Пушкин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вать навыки слуш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Обучать перевоплощаться в сказочных героев с использованием мимики, пантомимики, голоса, интон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снащ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еатральная  студия «Театр сказо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Костюмы, маски, атрибуты для постановки сказ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Куклы и игрушки для различных видов теат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Атрибуты для теневого теат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Атрибуты для ряженья (шляпы, очки, бусы, шарфы, сарафаны, юбки и т.п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Магнитофо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Аудиокассеты с записью музыки для спектакл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Игры-драматизации: «У самого синего моря», «Свет мой, зеркальце», «В чешуе, как жар горя, тридцать три богатыря», «Чем вы гости, торг ведете и куда теперь плывете?»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екомендац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изготовление настольных театров из бросового и природного материала; вырезание героев для теневого театра; изготовление героев для теневого теат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разовательная обла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ь: художественное творч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егрируется с образовательными областями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муникац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ализац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зна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ение художественной литерату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ункциональная зо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рабоч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изайн и рекомендации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ширма, отделяющая зону от подвижных игр; две маленькие ширмы для настольного театра, ковролиновое наборное полотно и картинки, подиу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2:21:08Z</dcterms:created>
  <dc:creator>Пользователь</dc:creator>
  <dc:description/>
  <dc:language>en-US</dc:language>
  <cp:lastModifiedBy>Александр Устюгов</cp:lastModifiedBy>
  <dcterms:modified xsi:type="dcterms:W3CDTF">2017-02-15T13:00:27Z</dcterms:modified>
  <cp:revision>35</cp:revision>
  <dc:subject/>
  <dc:title>Планирование предметно-развивающей среды  Тема: «Здравствуй, Пушкин!»</dc:title>
</cp:coreProperties>
</file>