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5.jpeg" ContentType="image/jpeg"/>
  <Override PartName="/ppt/media/image22.gif" ContentType="image/gif"/>
  <Override PartName="/ppt/media/image20.jpeg" ContentType="image/jpeg"/>
  <Override PartName="/ppt/media/image21.gif" ContentType="image/gif"/>
  <Override PartName="/ppt/media/image26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2.gif" ContentType="image/gif"/>
  <Override PartName="/ppt/media/image18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10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4.jpeg" ContentType="image/jpeg"/>
  <Override PartName="/ppt/media/image5.jpeg" ContentType="image/jpeg"/>
  <Override PartName="/ppt/media/image15.gif" ContentType="image/gif"/>
  <Override PartName="/ppt/media/image6.gif" ContentType="image/gif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8.jpeg" ContentType="image/jpeg"/>
  <Override PartName="/ppt/media/image27.gif" ContentType="image/gif"/>
  <Override PartName="/ppt/media/image16.gif" ContentType="image/gif"/>
  <Override PartName="/ppt/media/image32.jpeg" ContentType="image/jpeg"/>
  <Override PartName="/ppt/media/image17.png" ContentType="image/png"/>
  <Override PartName="/ppt/media/image19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D03-E2D8-4F5C-AD44-D8403330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B4B-1093-49E2-80A1-DA8D6C1A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6C8-F761-4CBF-9E96-3F454372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4FA-5BFA-42B2-A81A-1C2CC71B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2BC-9492-4C2F-A88D-D568BEEF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461-F036-4EFB-AC2F-D192024E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353-3D21-4113-B0A8-43220242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6A78-86B4-40A2-A510-AB3F156F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ED94-63E5-4CC7-AE9A-F97357F1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D9E-2EF5-4244-8856-C77FA467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945-E1F3-430B-A684-DEF8EFAD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83D9-D5A0-4FD2-8BFB-32AFA576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AD8B-8181-48BD-9443-49C29128E2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7375e"/>
                </a:solidFill>
                <a:latin typeface="Calibri"/>
              </a:rPr>
              <a:t>Путешествие </a:t>
            </a:r>
            <a:br>
              <a:rPr sz="8000"/>
            </a:br>
            <a:r>
              <a:rPr b="1" lang="en-US" sz="8000" spc="-1" strike="noStrike">
                <a:solidFill>
                  <a:srgbClr val="17375e"/>
                </a:solidFill>
                <a:latin typeface="Calibri"/>
              </a:rPr>
              <a:t>в страну веселого детства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Рисунок 12" descr="i2362.gif"/>
          <p:cNvPicPr/>
          <p:nvPr/>
        </p:nvPicPr>
        <p:blipFill>
          <a:blip r:embed="rId2"/>
          <a:stretch/>
        </p:blipFill>
        <p:spPr>
          <a:xfrm>
            <a:off x="1357200" y="257184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1" descr="p154165.jpg"/>
          <p:cNvPicPr/>
          <p:nvPr/>
        </p:nvPicPr>
        <p:blipFill>
          <a:blip r:embed="rId3"/>
          <a:stretch/>
        </p:blipFill>
        <p:spPr>
          <a:xfrm>
            <a:off x="6500880" y="5902200"/>
            <a:ext cx="71424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1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Стоит дом: </a:t>
            </a:r>
            <a:br>
              <a:rPr sz="5400"/>
            </a:b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Кто в него войдет,</a:t>
            </a:r>
            <a:br>
              <a:rPr sz="5400"/>
            </a:b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Тот и ум приобретет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1071720" y="357120"/>
            <a:ext cx="778644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Отгадайте загадку: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Рисунок 5" descr="balloons4.gif"/>
          <p:cNvPicPr/>
          <p:nvPr/>
        </p:nvPicPr>
        <p:blipFill>
          <a:blip r:embed="rId2"/>
          <a:stretch/>
        </p:blipFill>
        <p:spPr>
          <a:xfrm>
            <a:off x="8001000" y="1643040"/>
            <a:ext cx="1000080" cy="2500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sw201.gif"/>
          <p:cNvPicPr/>
          <p:nvPr/>
        </p:nvPicPr>
        <p:blipFill>
          <a:blip r:embed="rId3"/>
          <a:stretch/>
        </p:blipFill>
        <p:spPr>
          <a:xfrm>
            <a:off x="0" y="4000680"/>
            <a:ext cx="150012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Calibri"/>
              </a:rPr>
              <a:t>«Школа»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2792520" y="1857240"/>
            <a:ext cx="4011480" cy="29941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i2389.gif"/>
          <p:cNvPicPr/>
          <p:nvPr/>
        </p:nvPicPr>
        <p:blipFill>
          <a:blip r:embed="rId3"/>
          <a:stretch/>
        </p:blipFill>
        <p:spPr>
          <a:xfrm>
            <a:off x="6715080" y="1643040"/>
            <a:ext cx="1050840" cy="15159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i2389.gif"/>
          <p:cNvPicPr/>
          <p:nvPr/>
        </p:nvPicPr>
        <p:blipFill>
          <a:blip r:embed="rId4"/>
          <a:stretch/>
        </p:blipFill>
        <p:spPr>
          <a:xfrm>
            <a:off x="1785960" y="4357800"/>
            <a:ext cx="105084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3 вопроса</a:t>
            </a:r>
            <a:br>
              <a:rPr sz="5400"/>
            </a:b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 думающего читателя: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99760" y="2214360"/>
            <a:ext cx="72867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10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Откуда появилась эта информация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Для чего она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Где мне пригодится?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Рисунок 4" descr="sw203.gif"/>
          <p:cNvPicPr/>
          <p:nvPr/>
        </p:nvPicPr>
        <p:blipFill>
          <a:blip r:embed="rId2"/>
          <a:stretch/>
        </p:blipFill>
        <p:spPr>
          <a:xfrm>
            <a:off x="7429680" y="3000240"/>
            <a:ext cx="1285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-155520" y="0"/>
            <a:ext cx="9451800" cy="70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Image6.bmp"/>
          <p:cNvPicPr/>
          <p:nvPr/>
        </p:nvPicPr>
        <p:blipFill>
          <a:blip r:embed="rId2"/>
          <a:stretch/>
        </p:blipFill>
        <p:spPr>
          <a:xfrm>
            <a:off x="3429000" y="1785960"/>
            <a:ext cx="3429000" cy="4755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99800" y="357120"/>
            <a:ext cx="6286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1f497d"/>
                </a:solidFill>
                <a:latin typeface="Calibri"/>
              </a:rPr>
              <a:t>Любочк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Рисунок 2" descr="butterfl.gif"/>
          <p:cNvPicPr/>
          <p:nvPr/>
        </p:nvPicPr>
        <p:blipFill>
          <a:blip r:embed="rId3"/>
          <a:stretch/>
        </p:blipFill>
        <p:spPr>
          <a:xfrm>
            <a:off x="2571840" y="1428840"/>
            <a:ext cx="685800" cy="6253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butterfu.gif"/>
          <p:cNvPicPr/>
          <p:nvPr/>
        </p:nvPicPr>
        <p:blipFill>
          <a:blip r:embed="rId4"/>
          <a:stretch/>
        </p:blipFill>
        <p:spPr>
          <a:xfrm>
            <a:off x="6858000" y="1428840"/>
            <a:ext cx="685800" cy="6253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butterfn.gif"/>
          <p:cNvPicPr/>
          <p:nvPr/>
        </p:nvPicPr>
        <p:blipFill>
          <a:blip r:embed="rId5"/>
          <a:stretch/>
        </p:blipFill>
        <p:spPr>
          <a:xfrm>
            <a:off x="2500200" y="5929200"/>
            <a:ext cx="857520" cy="7146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butterg8.gif"/>
          <p:cNvPicPr/>
          <p:nvPr/>
        </p:nvPicPr>
        <p:blipFill>
          <a:blip r:embed="rId6"/>
          <a:stretch/>
        </p:blipFill>
        <p:spPr>
          <a:xfrm rot="20741400">
            <a:off x="7072200" y="5857560"/>
            <a:ext cx="771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Сонечка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71720" y="235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714680" y="1714680"/>
            <a:ext cx="6357600" cy="47145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" descr="butterfl.gif"/>
          <p:cNvPicPr/>
          <p:nvPr/>
        </p:nvPicPr>
        <p:blipFill>
          <a:blip r:embed="rId3"/>
          <a:stretch/>
        </p:blipFill>
        <p:spPr>
          <a:xfrm>
            <a:off x="1071720" y="1214280"/>
            <a:ext cx="685800" cy="6256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butterfu.gif"/>
          <p:cNvPicPr/>
          <p:nvPr/>
        </p:nvPicPr>
        <p:blipFill>
          <a:blip r:embed="rId4"/>
          <a:stretch/>
        </p:blipFill>
        <p:spPr>
          <a:xfrm>
            <a:off x="8215200" y="1428840"/>
            <a:ext cx="685800" cy="625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butterfn.gif"/>
          <p:cNvPicPr/>
          <p:nvPr/>
        </p:nvPicPr>
        <p:blipFill>
          <a:blip r:embed="rId5"/>
          <a:stretch/>
        </p:blipFill>
        <p:spPr>
          <a:xfrm>
            <a:off x="857160" y="5929200"/>
            <a:ext cx="857520" cy="7146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butterg8.gif"/>
          <p:cNvPicPr/>
          <p:nvPr/>
        </p:nvPicPr>
        <p:blipFill>
          <a:blip r:embed="rId6"/>
          <a:stretch/>
        </p:blipFill>
        <p:spPr>
          <a:xfrm rot="20741400">
            <a:off x="8305920" y="6129000"/>
            <a:ext cx="771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Calibri"/>
              </a:rPr>
              <a:t>«Лялечка»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28920" y="1574640"/>
            <a:ext cx="4143240" cy="5283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butterfl.gif"/>
          <p:cNvPicPr/>
          <p:nvPr/>
        </p:nvPicPr>
        <p:blipFill>
          <a:blip r:embed="rId3"/>
          <a:stretch/>
        </p:blipFill>
        <p:spPr>
          <a:xfrm>
            <a:off x="1643040" y="1357200"/>
            <a:ext cx="685800" cy="6256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butterfu.gif"/>
          <p:cNvPicPr/>
          <p:nvPr/>
        </p:nvPicPr>
        <p:blipFill>
          <a:blip r:embed="rId4"/>
          <a:stretch/>
        </p:blipFill>
        <p:spPr>
          <a:xfrm>
            <a:off x="6715080" y="1357200"/>
            <a:ext cx="685800" cy="6256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butterfn.gif"/>
          <p:cNvPicPr/>
          <p:nvPr/>
        </p:nvPicPr>
        <p:blipFill>
          <a:blip r:embed="rId5"/>
          <a:stretch/>
        </p:blipFill>
        <p:spPr>
          <a:xfrm>
            <a:off x="1571760" y="5857920"/>
            <a:ext cx="857160" cy="714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butterg8.gif"/>
          <p:cNvPicPr/>
          <p:nvPr/>
        </p:nvPicPr>
        <p:blipFill>
          <a:blip r:embed="rId6"/>
          <a:stretch/>
        </p:blipFill>
        <p:spPr>
          <a:xfrm rot="20741400">
            <a:off x="6783480" y="5943240"/>
            <a:ext cx="771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497d"/>
                </a:solidFill>
                <a:latin typeface="Calibri"/>
              </a:rPr>
              <a:t>«Вовка – </a:t>
            </a:r>
            <a:br>
              <a:rPr sz="6000"/>
            </a:br>
            <a:r>
              <a:rPr b="1" lang="en-US" sz="6000" spc="-1" strike="noStrike">
                <a:solidFill>
                  <a:srgbClr val="1f497d"/>
                </a:solidFill>
                <a:latin typeface="Calibri"/>
              </a:rPr>
              <a:t>добрая душа»: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00040" y="2428920"/>
            <a:ext cx="84297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Как Вовка бабушек выручил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Как Вовка стал старшим братом»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Про Вовку, черепаху и кошку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Как спасал от жары прохожих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Сережа учит уроки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700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3 вопроса</a:t>
            </a:r>
            <a:br>
              <a:rPr sz="5400"/>
            </a:b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 думающего читателя: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57200" y="2286000"/>
            <a:ext cx="640080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Откуда появилась эта информация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Для чего она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Где мне пригодится?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Рисунок 3" descr="sw203.gif"/>
          <p:cNvPicPr/>
          <p:nvPr/>
        </p:nvPicPr>
        <p:blipFill>
          <a:blip r:embed="rId2"/>
          <a:stretch/>
        </p:blipFill>
        <p:spPr>
          <a:xfrm>
            <a:off x="7643880" y="3571920"/>
            <a:ext cx="12859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8800" y="2214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Страну чудес откроем мы</a:t>
            </a: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И встретимся с героями,</a:t>
            </a: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В строчках, на листочках,</a:t>
            </a: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Где станции на точках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643040" y="857160"/>
            <a:ext cx="64008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Отгадайте загадку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Рисунок 2" descr="i2417.gif"/>
          <p:cNvPicPr/>
          <p:nvPr/>
        </p:nvPicPr>
        <p:blipFill>
          <a:blip r:embed="rId2"/>
          <a:stretch/>
        </p:blipFill>
        <p:spPr>
          <a:xfrm>
            <a:off x="7643880" y="357120"/>
            <a:ext cx="11430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f497d"/>
                </a:solidFill>
                <a:latin typeface="Calibri"/>
              </a:rPr>
              <a:t>«Шуточная»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497d"/>
                </a:solidFill>
                <a:latin typeface="Calibri"/>
              </a:rPr>
              <a:t>«Отложу на потом»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497d"/>
                </a:solidFill>
                <a:latin typeface="Calibri"/>
              </a:rPr>
              <a:t>«Было у бабушки сорок внучат»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f497d"/>
                </a:solidFill>
                <a:latin typeface="Calibri"/>
              </a:rPr>
              <a:t>«Звенигород»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Содержимое 4" descr="h_shNgtQLx4DnHeYw2UTlr73SOuPypFI8j_.jpg"/>
          <p:cNvPicPr/>
          <p:nvPr/>
        </p:nvPicPr>
        <p:blipFill>
          <a:blip r:embed="rId2"/>
          <a:stretch/>
        </p:blipFill>
        <p:spPr>
          <a:xfrm>
            <a:off x="4500720" y="1628640"/>
            <a:ext cx="3962160" cy="49453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0" y="1571760"/>
            <a:ext cx="435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В 1947 году вышла в свет ее поэма «Звенигород», в которой Барто, побывавшая в этом городе, описала детский дом для детей, чьи родители погибли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716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Calibri"/>
              </a:rPr>
              <a:t>«Найти человека»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927 семей обрели своих родственников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Рисунок 4" descr="7071.gif"/>
          <p:cNvPicPr/>
          <p:nvPr/>
        </p:nvPicPr>
        <p:blipFill>
          <a:blip r:embed="rId2"/>
          <a:stretch/>
        </p:blipFill>
        <p:spPr>
          <a:xfrm>
            <a:off x="3071880" y="4643280"/>
            <a:ext cx="33526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Вопрос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071800" y="1785960"/>
            <a:ext cx="65721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1. Как звали мальчика, который взял свою тетрадь – решил учить уроки: озера начал повторять и горы на востоке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2. Девочка, которая «тронь ее нечаянно, сразу «Караул!»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Рисунок 3" descr="balloons17.gif"/>
          <p:cNvPicPr/>
          <p:nvPr/>
        </p:nvPicPr>
        <p:blipFill>
          <a:blip r:embed="rId2"/>
          <a:stretch/>
        </p:blipFill>
        <p:spPr>
          <a:xfrm>
            <a:off x="0" y="2857680"/>
            <a:ext cx="1684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Вопрос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240" y="1714680"/>
            <a:ext cx="6915240" cy="39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3. Назовите причину по которой Любочка за хлебом не пойдет?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4. Что кричал Вовка из окна?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5. Чем не нравились Лялечке ее платья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Рисунок 3" descr="balloons17.gif"/>
          <p:cNvPicPr/>
          <p:nvPr/>
        </p:nvPicPr>
        <p:blipFill>
          <a:blip r:embed="rId2"/>
          <a:stretch/>
        </p:blipFill>
        <p:spPr>
          <a:xfrm>
            <a:off x="7572240" y="4071960"/>
            <a:ext cx="12859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Вопрос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1356840"/>
            <a:ext cx="6400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6. Что повторял Сережа в стихотворении «Сережа учит уроки»?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7. Сколько юных граждан проживает в Звенигороде?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Рисунок 3" descr="balloons17.gif"/>
          <p:cNvPicPr/>
          <p:nvPr/>
        </p:nvPicPr>
        <p:blipFill>
          <a:blip r:embed="rId2"/>
          <a:stretch/>
        </p:blipFill>
        <p:spPr>
          <a:xfrm rot="19513200">
            <a:off x="5786280" y="4349520"/>
            <a:ext cx="12859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Эти книги вы можете взять в библиотеке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1500120"/>
            <a:ext cx="64008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Рисунок 3" descr="67326.jpg"/>
          <p:cNvPicPr/>
          <p:nvPr/>
        </p:nvPicPr>
        <p:blipFill>
          <a:blip r:embed="rId2"/>
          <a:stretch/>
        </p:blipFill>
        <p:spPr>
          <a:xfrm>
            <a:off x="4286160" y="3929040"/>
            <a:ext cx="211788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1259061308_pomoshhnica.jpg"/>
          <p:cNvPicPr/>
          <p:nvPr/>
        </p:nvPicPr>
        <p:blipFill>
          <a:blip r:embed="rId3"/>
          <a:stretch/>
        </p:blipFill>
        <p:spPr>
          <a:xfrm>
            <a:off x="2000160" y="3809880"/>
            <a:ext cx="2247840" cy="30481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b27674.jpg"/>
          <p:cNvPicPr/>
          <p:nvPr/>
        </p:nvPicPr>
        <p:blipFill>
          <a:blip r:embed="rId4"/>
          <a:stretch/>
        </p:blipFill>
        <p:spPr>
          <a:xfrm>
            <a:off x="6786720" y="1500120"/>
            <a:ext cx="1790640" cy="24289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p150475.jpg"/>
          <p:cNvPicPr/>
          <p:nvPr/>
        </p:nvPicPr>
        <p:blipFill>
          <a:blip r:embed="rId5"/>
          <a:stretch/>
        </p:blipFill>
        <p:spPr>
          <a:xfrm>
            <a:off x="179280" y="1628640"/>
            <a:ext cx="1928880" cy="27590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p167585.jpg"/>
          <p:cNvPicPr/>
          <p:nvPr/>
        </p:nvPicPr>
        <p:blipFill>
          <a:blip r:embed="rId6"/>
          <a:stretch/>
        </p:blipFill>
        <p:spPr>
          <a:xfrm>
            <a:off x="2143080" y="1357200"/>
            <a:ext cx="2087640" cy="28004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8" descr="180700.jpg"/>
          <p:cNvPicPr/>
          <p:nvPr/>
        </p:nvPicPr>
        <p:blipFill>
          <a:blip r:embed="rId7"/>
          <a:stretch/>
        </p:blipFill>
        <p:spPr>
          <a:xfrm>
            <a:off x="4572000" y="1357200"/>
            <a:ext cx="1905120" cy="27212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9" descr="1246527622_bartoo.jpg"/>
          <p:cNvPicPr/>
          <p:nvPr/>
        </p:nvPicPr>
        <p:blipFill>
          <a:blip r:embed="rId8"/>
          <a:stretch/>
        </p:blipFill>
        <p:spPr>
          <a:xfrm>
            <a:off x="0" y="4357800"/>
            <a:ext cx="1989000" cy="250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9"/>
          <a:stretch/>
        </p:blipFill>
        <p:spPr>
          <a:xfrm>
            <a:off x="6621480" y="4357800"/>
            <a:ext cx="25225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7160" y="500076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«Я дарила детям радость, а дети возвратили мне молодость. Даже в 75 лет!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Рисунок 3" descr="barto_std.jpg"/>
          <p:cNvPicPr/>
          <p:nvPr/>
        </p:nvPicPr>
        <p:blipFill>
          <a:blip r:embed="rId2"/>
          <a:stretch/>
        </p:blipFill>
        <p:spPr>
          <a:xfrm>
            <a:off x="2286000" y="571680"/>
            <a:ext cx="4714920" cy="35366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butterfn.gif"/>
          <p:cNvPicPr/>
          <p:nvPr/>
        </p:nvPicPr>
        <p:blipFill>
          <a:blip r:embed="rId3"/>
          <a:stretch/>
        </p:blipFill>
        <p:spPr>
          <a:xfrm>
            <a:off x="357120" y="3786120"/>
            <a:ext cx="600120" cy="500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butterg8.gif"/>
          <p:cNvPicPr/>
          <p:nvPr/>
        </p:nvPicPr>
        <p:blipFill>
          <a:blip r:embed="rId4"/>
          <a:stretch/>
        </p:blipFill>
        <p:spPr>
          <a:xfrm>
            <a:off x="7858080" y="642960"/>
            <a:ext cx="771480" cy="642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butterg8.gif"/>
          <p:cNvPicPr/>
          <p:nvPr/>
        </p:nvPicPr>
        <p:blipFill>
          <a:blip r:embed="rId5"/>
          <a:stretch/>
        </p:blipFill>
        <p:spPr>
          <a:xfrm>
            <a:off x="7858080" y="2357280"/>
            <a:ext cx="771480" cy="6429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butterfn.gif"/>
          <p:cNvPicPr/>
          <p:nvPr/>
        </p:nvPicPr>
        <p:blipFill>
          <a:blip r:embed="rId6"/>
          <a:stretch/>
        </p:blipFill>
        <p:spPr>
          <a:xfrm>
            <a:off x="928800" y="2571840"/>
            <a:ext cx="600120" cy="5000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butterg8.gif"/>
          <p:cNvPicPr/>
          <p:nvPr/>
        </p:nvPicPr>
        <p:blipFill>
          <a:blip r:embed="rId7"/>
          <a:stretch/>
        </p:blipFill>
        <p:spPr>
          <a:xfrm>
            <a:off x="7929720" y="3929040"/>
            <a:ext cx="771480" cy="642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butterfn.gif"/>
          <p:cNvPicPr/>
          <p:nvPr/>
        </p:nvPicPr>
        <p:blipFill>
          <a:blip r:embed="rId8"/>
          <a:stretch/>
        </p:blipFill>
        <p:spPr>
          <a:xfrm>
            <a:off x="1143000" y="1428840"/>
            <a:ext cx="600120" cy="50004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857160" y="4143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Агния Львовна Барто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(1906-1981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Рисунок 1" descr="p154165.jpg"/>
          <p:cNvPicPr/>
          <p:nvPr/>
        </p:nvPicPr>
        <p:blipFill>
          <a:blip r:embed="rId2"/>
          <a:stretch/>
        </p:blipFill>
        <p:spPr>
          <a:xfrm>
            <a:off x="235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857680" y="4285800"/>
            <a:ext cx="628632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Уронили мишку на пол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Оторвали мишке лапу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Всё равно его не брошу –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Потому что он хороший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2" descr="C:\Documents and Settings\Учитель\Рабочий стол\clip_image002.jpg"/>
          <p:cNvPicPr/>
          <p:nvPr/>
        </p:nvPicPr>
        <p:blipFill>
          <a:blip r:embed="rId2"/>
          <a:stretch/>
        </p:blipFill>
        <p:spPr>
          <a:xfrm>
            <a:off x="0" y="0"/>
            <a:ext cx="5786280" cy="43401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balloons17.gif"/>
          <p:cNvPicPr/>
          <p:nvPr/>
        </p:nvPicPr>
        <p:blipFill>
          <a:blip r:embed="rId3"/>
          <a:stretch/>
        </p:blipFill>
        <p:spPr>
          <a:xfrm>
            <a:off x="7429680" y="1000080"/>
            <a:ext cx="10983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5:23:53Z</dcterms:created>
  <dc:creator>Бойкова О. В.</dc:creator>
  <dc:description>АГНИЯ ЛЬВОВНА БАРТО</dc:description>
  <dc:language>en-US</dc:language>
  <cp:lastModifiedBy>Iksanov</cp:lastModifiedBy>
  <dcterms:modified xsi:type="dcterms:W3CDTF">2012-05-30T18:31:59Z</dcterms:modified>
  <cp:revision>43</cp:revision>
  <dc:subject/>
  <dc:title>АГНИЯ ЛЬВОВНА БАРТ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АГНИЯ ЛЬВОВНА БАРТО</vt:lpwstr>
  </property>
  <property fmtid="{D5CDD505-2E9C-101B-9397-08002B2CF9AE}" pid="3" name="SlideDescription">
    <vt:lpwstr>АГНИЯ ЛЬВОВНА БАРТО</vt:lpwstr>
  </property>
</Properties>
</file>