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2610-FB1A-4AF3-8672-FF0686D7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B64-7780-41B4-A2B7-9D2E0F6A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DD18-AA2F-42EB-9666-74785295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A7E9-864A-420A-84FB-1F29B4F0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A0EE-1F90-4826-9F1B-CF56D888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4FBB-82A4-4799-9E39-F3C7C74E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137D-7303-4BBB-8847-A8C38A20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59E5-87EF-4DB8-8058-3EADB763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4F07-D1D3-4EF2-98C4-CBEEB2F2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F0E8-01B6-4F24-B6B2-5318EA7C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8DAE-D9A4-463E-9171-84D35E63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1267-8987-453D-ACA0-28B37028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09C4-EA1A-4242-83C9-79437AAF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CF45-08DC-468C-A086-D9ECE2E5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93CA-650A-42CF-B02D-D4B60B6E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7485-D681-4A4D-AD56-BD1FC8BF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13E6-630D-42CE-8C13-F4DDD6C8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D975-5AC3-415F-BD7E-1E5341B5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F189-1666-437F-875F-B3193AB6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A138-5248-47BA-A00F-057331EB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5759-C35E-4ED5-90EE-7505FC03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DFA2-C6FA-4EE9-A522-E8DE4DE6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39C0-317A-4E1E-9286-9B728F2F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C0B8-CB0D-491C-914F-82F04FDD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BD43-F3E2-40B5-8F57-7C4159A586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955F-7FF7-48F3-95A9-C4382C807F8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Безопасность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Нельзя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баловаться огнем. Зажигалка и спички детям не игрушк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5" descr="спичка перечеркнутая"/>
          <p:cNvPicPr/>
          <p:nvPr/>
        </p:nvPicPr>
        <p:blipFill>
          <a:blip r:embed="rId1"/>
          <a:stretch/>
        </p:blipFill>
        <p:spPr>
          <a:xfrm>
            <a:off x="179280" y="1773360"/>
            <a:ext cx="4105440" cy="4105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не баловаться с огнем 2"/>
          <p:cNvPicPr/>
          <p:nvPr/>
        </p:nvPicPr>
        <p:blipFill>
          <a:blip r:embed="rId2"/>
          <a:stretch/>
        </p:blipFill>
        <p:spPr>
          <a:xfrm>
            <a:off x="4643280" y="1844640"/>
            <a:ext cx="435636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56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гда уходишь из дома,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проверяй и выключай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электроприборы и газ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Picture 5" descr="уходишь выключи"/>
          <p:cNvPicPr/>
          <p:nvPr/>
        </p:nvPicPr>
        <p:blipFill>
          <a:blip r:embed="rId1"/>
          <a:stretch/>
        </p:blipFill>
        <p:spPr>
          <a:xfrm>
            <a:off x="2411280" y="2128680"/>
            <a:ext cx="410544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Не трогай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лектроприборы мокрыми рукам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6" name="Picture 5" descr="не используй приборы мокрыми руками"/>
          <p:cNvPicPr/>
          <p:nvPr/>
        </p:nvPicPr>
        <p:blipFill>
          <a:blip r:embed="rId1"/>
          <a:stretch/>
        </p:blipFill>
        <p:spPr>
          <a:xfrm>
            <a:off x="2771640" y="2492280"/>
            <a:ext cx="3240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Нельзя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открывать дверь незнакомым людям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Picture 5" descr="не открывать дверь"/>
          <p:cNvPicPr/>
          <p:nvPr/>
        </p:nvPicPr>
        <p:blipFill>
          <a:blip r:embed="rId1"/>
          <a:stretch/>
        </p:blipFill>
        <p:spPr>
          <a:xfrm>
            <a:off x="324000" y="1844640"/>
            <a:ext cx="3992400" cy="4176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Копия 0006-006-Esli-prozvenel-zvonok-Posmotri-sperva-v-glazok-V-gosti-kto-prishjol"/>
          <p:cNvPicPr/>
          <p:nvPr/>
        </p:nvPicPr>
        <p:blipFill>
          <a:blip r:embed="rId2"/>
          <a:stretch/>
        </p:blipFill>
        <p:spPr>
          <a:xfrm>
            <a:off x="5435640" y="1773360"/>
            <a:ext cx="336060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Сначал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посмотри в дверной глазок, а потом открой дверь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Picture 5" descr="посмотри в дверной глазок"/>
          <p:cNvPicPr/>
          <p:nvPr/>
        </p:nvPicPr>
        <p:blipFill>
          <a:blip r:embed="rId1"/>
          <a:stretch/>
        </p:blipFill>
        <p:spPr>
          <a:xfrm>
            <a:off x="1258920" y="2205000"/>
            <a:ext cx="669780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cc"/>
                </a:solidFill>
                <a:latin typeface="Arial"/>
              </a:rPr>
              <a:t>Безопасность на прогулке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Picture 5" descr="безопасная прогулка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264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Никогд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не разговаривай с незнакомыми людьми.</a:t>
            </a:r>
            <a:br>
              <a:rPr sz="4400"/>
            </a:b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Ничег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у них не бери.</a:t>
            </a:r>
            <a:br>
              <a:rPr sz="4400"/>
            </a:b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Никуд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с ними не иди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Picture 5" descr="не иди с незнакомцами"/>
          <p:cNvPicPr/>
          <p:nvPr/>
        </p:nvPicPr>
        <p:blipFill>
          <a:blip r:embed="rId1"/>
          <a:stretch/>
        </p:blipFill>
        <p:spPr>
          <a:xfrm>
            <a:off x="0" y="3068640"/>
            <a:ext cx="3132000" cy="1873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ничего не бери с рук у"/>
          <p:cNvPicPr/>
          <p:nvPr/>
        </p:nvPicPr>
        <p:blipFill>
          <a:blip r:embed="rId2"/>
          <a:stretch/>
        </p:blipFill>
        <p:spPr>
          <a:xfrm>
            <a:off x="5940360" y="2924280"/>
            <a:ext cx="3203640" cy="2017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ничего не бери с рук  2у"/>
          <p:cNvPicPr/>
          <p:nvPr/>
        </p:nvPicPr>
        <p:blipFill>
          <a:blip r:embed="rId3"/>
          <a:stretch/>
        </p:blipFill>
        <p:spPr>
          <a:xfrm>
            <a:off x="2268360" y="5013360"/>
            <a:ext cx="43912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Если ты увидел сумку, коробку на улице,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не трогай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 Там может оказаться бомб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Picture 5" descr="бомба в сумке"/>
          <p:cNvPicPr/>
          <p:nvPr/>
        </p:nvPicPr>
        <p:blipFill>
          <a:blip r:embed="rId1"/>
          <a:stretch/>
        </p:blipFill>
        <p:spPr>
          <a:xfrm>
            <a:off x="2050920" y="4653000"/>
            <a:ext cx="4249800" cy="2089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никогда не трогай сумку"/>
          <p:cNvPicPr/>
          <p:nvPr/>
        </p:nvPicPr>
        <p:blipFill>
          <a:blip r:embed="rId2"/>
          <a:stretch/>
        </p:blipFill>
        <p:spPr>
          <a:xfrm>
            <a:off x="4427640" y="2205000"/>
            <a:ext cx="4560840" cy="2303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никогда не трогай сумку 2"/>
          <p:cNvPicPr/>
          <p:nvPr/>
        </p:nvPicPr>
        <p:blipFill>
          <a:blip r:embed="rId3"/>
          <a:stretch/>
        </p:blipFill>
        <p:spPr>
          <a:xfrm>
            <a:off x="179280" y="2205000"/>
            <a:ext cx="3924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Не гуляй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один вечером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Picture 5" descr="не гуляй вечером"/>
          <p:cNvPicPr/>
          <p:nvPr/>
        </p:nvPicPr>
        <p:blipFill>
          <a:blip r:embed="rId1"/>
          <a:stretch/>
        </p:blipFill>
        <p:spPr>
          <a:xfrm>
            <a:off x="1258920" y="2060640"/>
            <a:ext cx="6626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207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сли потерялся,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стой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и жди родителей или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попроси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помощи у полицейского, охранника или у продавц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Picture 5" descr="полиция-ребенок-зонт"/>
          <p:cNvPicPr/>
          <p:nvPr/>
        </p:nvPicPr>
        <p:blipFill>
          <a:blip r:embed="rId1"/>
          <a:stretch/>
        </p:blipFill>
        <p:spPr>
          <a:xfrm>
            <a:off x="1042920" y="2852640"/>
            <a:ext cx="6985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4" descr="дорога без опаснос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Спасибо за внимание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еходи улицу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только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по пешеходным пешеходам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Picture 5" descr="1307198404_zh"/>
          <p:cNvPicPr/>
          <p:nvPr/>
        </p:nvPicPr>
        <p:blipFill>
          <a:blip r:embed="rId1"/>
          <a:stretch/>
        </p:blipFill>
        <p:spPr>
          <a:xfrm>
            <a:off x="179280" y="1484280"/>
            <a:ext cx="2737080" cy="2479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подземный переход"/>
          <p:cNvPicPr/>
          <p:nvPr/>
        </p:nvPicPr>
        <p:blipFill>
          <a:blip r:embed="rId2"/>
          <a:stretch/>
        </p:blipFill>
        <p:spPr>
          <a:xfrm>
            <a:off x="5651640" y="1557360"/>
            <a:ext cx="3001680" cy="2519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надземный переход"/>
          <p:cNvPicPr/>
          <p:nvPr/>
        </p:nvPicPr>
        <p:blipFill>
          <a:blip r:embed="rId3"/>
          <a:stretch/>
        </p:blipFill>
        <p:spPr>
          <a:xfrm>
            <a:off x="2340000" y="4221000"/>
            <a:ext cx="42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3683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Нельзя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еходить улицу на красный свет, даже если нет машин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5" descr="красный цвет для пешехода"/>
          <p:cNvPicPr/>
          <p:nvPr/>
        </p:nvPicPr>
        <p:blipFill>
          <a:blip r:embed="rId1"/>
          <a:stretch/>
        </p:blipFill>
        <p:spPr>
          <a:xfrm>
            <a:off x="4284720" y="1197000"/>
            <a:ext cx="4402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038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Можн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переходить улицу только на зеленый свет светофор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7" descr="зеленый цвет пешеходный"/>
          <p:cNvPicPr/>
          <p:nvPr/>
        </p:nvPicPr>
        <p:blipFill>
          <a:blip r:embed="rId1"/>
          <a:stretch/>
        </p:blipFill>
        <p:spPr>
          <a:xfrm>
            <a:off x="5327640" y="1052640"/>
            <a:ext cx="3816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еходя через дорогу посмотри сначала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налево,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том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направ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10" descr="переходя дорогу, смотри налево"/>
          <p:cNvPicPr/>
          <p:nvPr/>
        </p:nvPicPr>
        <p:blipFill>
          <a:blip r:embed="rId1"/>
          <a:stretch/>
        </p:blipFill>
        <p:spPr>
          <a:xfrm>
            <a:off x="2195640" y="1484280"/>
            <a:ext cx="4465440" cy="2160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13" descr="Копия потом направо"/>
          <p:cNvPicPr/>
          <p:nvPr/>
        </p:nvPicPr>
        <p:blipFill>
          <a:blip r:embed="rId2"/>
          <a:stretch/>
        </p:blipFill>
        <p:spPr>
          <a:xfrm>
            <a:off x="2195640" y="4581360"/>
            <a:ext cx="4464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Никогд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не выбегай на дорогу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0" y="386028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Нельзя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играть на дорог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i"/>
          <p:cNvPicPr/>
          <p:nvPr/>
        </p:nvPicPr>
        <p:blipFill>
          <a:blip r:embed="rId1"/>
          <a:stretch/>
        </p:blipFill>
        <p:spPr>
          <a:xfrm>
            <a:off x="468360" y="1557360"/>
            <a:ext cx="2914560" cy="1809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не выбегай резко на дорогу"/>
          <p:cNvPicPr/>
          <p:nvPr/>
        </p:nvPicPr>
        <p:blipFill>
          <a:blip r:embed="rId2"/>
          <a:stretch/>
        </p:blipFill>
        <p:spPr>
          <a:xfrm>
            <a:off x="5508720" y="1628640"/>
            <a:ext cx="2697120" cy="1832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208-5-pravila-dorozhnogo-dvizheniya-detyam-kartinki"/>
          <p:cNvPicPr/>
          <p:nvPr/>
        </p:nvPicPr>
        <p:blipFill>
          <a:blip r:embed="rId3"/>
          <a:stretch/>
        </p:blipFill>
        <p:spPr>
          <a:xfrm>
            <a:off x="250920" y="4653000"/>
            <a:ext cx="3241440" cy="2025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11265098"/>
          <p:cNvPicPr/>
          <p:nvPr/>
        </p:nvPicPr>
        <p:blipFill>
          <a:blip r:embed="rId4"/>
          <a:stretch/>
        </p:blipFill>
        <p:spPr>
          <a:xfrm>
            <a:off x="5508720" y="4681440"/>
            <a:ext cx="31669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Всегда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ходи по тротуару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Picture 5" descr="ходи только по тротуару"/>
          <p:cNvPicPr/>
          <p:nvPr/>
        </p:nvPicPr>
        <p:blipFill>
          <a:blip r:embed="rId1"/>
          <a:stretch/>
        </p:blipFill>
        <p:spPr>
          <a:xfrm>
            <a:off x="1547640" y="1916280"/>
            <a:ext cx="633744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530028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cc"/>
                </a:solidFill>
                <a:latin typeface="Arial"/>
              </a:rPr>
              <a:t>Безопасный дом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Picture 5" descr="безопасный 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9T11:21:42Z</dcterms:created>
  <dc:creator>*</dc:creator>
  <dc:description/>
  <dc:language>en-US</dc:language>
  <cp:lastModifiedBy>110</cp:lastModifiedBy>
  <cp:lastPrinted>2015-11-26T09:50:15Z</cp:lastPrinted>
  <dcterms:modified xsi:type="dcterms:W3CDTF">2017-02-16T14:38:15Z</dcterms:modified>
  <cp:revision>3</cp:revision>
  <dc:subject/>
  <dc:title>Слайд 1</dc:title>
</cp:coreProperties>
</file>