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656-598D-4AE6-806D-F1E4435E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453-9257-44D4-ACBF-41AA0AB3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20D-0D26-4AEC-837C-41D7B8E6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AA9-78C4-4232-ACEF-5519C58D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4ECC-8DDD-45B7-9FA9-0EA56C65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561F-ADEB-47B8-A447-0A766E1F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D4CB-AE01-442C-AB13-16A37D34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EF6F-A77E-41D5-BDE2-C0C76351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BA39-3F0F-4C65-B3E0-2A23A41A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80D8-15A4-456C-B273-E6E75D7A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8E2E-BA60-4D60-B3DD-A4DCEEE6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649-609B-44AC-99E6-25ABF066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A700-3D62-4983-8B87-15213B7E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438F-832A-4B5C-AC77-730FEEE3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8674-0190-4278-8CF8-25CC40D4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964F-DD9F-4D2D-96B8-907D7054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A7A7-1FC9-4FD5-AE59-35839A7E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4BF-756E-40A5-B90C-7972889D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67F-967B-4643-BD6C-DCFFCB6C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CA2-FFF9-4F8B-9753-680F2526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209-8710-4B05-AF20-2875BA5A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046-91CB-4AE7-8746-1B3A8ED0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D61-21C1-495E-8F38-E312CDA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49B-60FE-4340-9FE2-7131B620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4035-EE1D-4A33-9C7A-49C2A1BEAA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CEC0-0913-4154-A35D-2BE320F97C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24000" y="4941360"/>
            <a:ext cx="4319640" cy="7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800000"/>
                </a:solidFill>
                <a:latin typeface="Monotype Corsiva"/>
              </a:rPr>
              <a:t>Денежко Лариса Александровна, педагог дополнительного образования МАУ ДО ДДТ «Маленький принц» г. Хабаровск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1640" y="1700280"/>
            <a:ext cx="6840360" cy="2773440"/>
          </a:xfrm>
          <a:prstGeom prst="rect">
            <a:avLst/>
          </a:prstGeom>
          <a:solidFill>
            <a:srgbClr val="ffffcc"/>
          </a:solidFill>
          <a:ln w="15840">
            <a:solidFill>
              <a:srgbClr val="800000"/>
            </a:solidFill>
            <a:prstDash val="sysDot"/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Дополнительная общеразвивающая програм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13"/>
          <p:cNvPicPr/>
          <p:nvPr/>
        </p:nvPicPr>
        <p:blipFill>
          <a:blip r:embed="rId2"/>
          <a:stretch/>
        </p:blipFill>
        <p:spPr>
          <a:xfrm>
            <a:off x="755640" y="4076640"/>
            <a:ext cx="29908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4"/>
          <p:cNvPicPr/>
          <p:nvPr/>
        </p:nvPicPr>
        <p:blipFill>
          <a:blip r:embed="rId1"/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2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1428840" y="228600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85880" y="1589400"/>
            <a:ext cx="7715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направленность дополнительной образовательной программ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новизну, актуальность, педагогическую целесообраз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цель и задачи дополнительной образовательной программ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отличительные особенности данной дополнительной образовательной программы от уже существующих образовательных програм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возраст детей, участвующих в реализации данной дополнительной программ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сроки реализации дополнительной программы (продолжительность образовательного процесса, этапы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формы и режим занят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ожидаемые результаты и способы определения их результативнос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0000"/>
                </a:solidFill>
                <a:latin typeface="Times New Roman"/>
                <a:ea typeface="Calibri"/>
              </a:rPr>
              <a:t>формы подведения итогов реализации дополнительной образовательной програм­мы (выставки, фестивали, соревнования, учебно-исследовательские конференции и т.д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7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1143000" y="1643040"/>
            <a:ext cx="6357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0000"/>
                </a:solidFill>
                <a:latin typeface="Times New Roman"/>
              </a:rPr>
              <a:t>Направленность дополнительных образовательных програм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Военно-патриоти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физкультурно-спортивн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социально- педагоги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эколого-биологи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научно-техни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спортивно-техни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художественн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туристско-краевед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социально-экономическ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0000"/>
                </a:solidFill>
                <a:latin typeface="Times New Roman"/>
              </a:rPr>
              <a:t>естественно-научн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1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714240" y="1500120"/>
            <a:ext cx="800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</a:rPr>
              <a:t>Новизна програм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Новое решение проблем дополнительного образов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Новые методики преподав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Новые педагогические технологии в проведении занят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Нововведения в формах диагностики и подведения итогов реализации програм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овизна следует указывать при условии наличия таковой.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5" name="Picture 5" descr="13"/>
          <p:cNvPicPr/>
          <p:nvPr/>
        </p:nvPicPr>
        <p:blipFill>
          <a:blip r:embed="rId2"/>
          <a:stretch/>
        </p:blipFill>
        <p:spPr>
          <a:xfrm>
            <a:off x="-25560" y="5087880"/>
            <a:ext cx="2051280" cy="15224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714240" y="3000240"/>
            <a:ext cx="77155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d0d0d"/>
                </a:solidFill>
                <a:uFillTx/>
                <a:latin typeface="Times New Roman"/>
              </a:rPr>
              <a:t>Актуальность может базироваться н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анализе социальных пробле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материалах научных исследовани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анализе педагогического опыт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анализе детского или родительского спрос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современных требованиях модернизации системы образовани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потенциале 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социальном заказе муниципального образования и др. фактор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000080" y="1857240"/>
            <a:ext cx="7929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65d"/>
                </a:solidFill>
                <a:latin typeface="Times New Roman"/>
              </a:rPr>
              <a:t>Актуальность программы.</a:t>
            </a:r>
            <a:r>
              <a:rPr b="1" lang="ru-RU" sz="2400" spc="-1" strike="noStrike">
                <a:solidFill>
                  <a:srgbClr val="00165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165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165d"/>
                </a:solidFill>
                <a:latin typeface="Times New Roman"/>
              </a:rPr>
              <a:t>ответ на вопрос, зачем современным детям в современных условиях нужна конкретная программа.</a:t>
            </a:r>
            <a:r>
              <a:rPr b="1" i="1" lang="ru-RU" sz="1800" spc="-1" strike="noStrike">
                <a:solidFill>
                  <a:srgbClr val="00165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Пояснительная записка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0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1214280" y="164304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0000"/>
                </a:solidFill>
                <a:latin typeface="Times New Roman"/>
              </a:rPr>
              <a:t>Педагогическая целесообразность</a:t>
            </a:r>
            <a:r>
              <a:rPr b="0" lang="ru-RU" sz="1600" spc="-1" strike="noStrike">
                <a:solidFill>
                  <a:srgbClr val="4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785880" y="2286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раздел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ается аргументированное обосн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х действий в рамках дополнительной програм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бранных фор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ов образовательной деятельн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редств образовательной деятельности (в соответствии с целями и задачами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и образовательного процес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5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928800" y="2286000"/>
            <a:ext cx="7858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то, к чему стремятся, чего хотят достигнуть, осуществить (С.И. Ожегов. Словарь русского языка).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должна быть конкретна, результаты ее достижения должны быть измерим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оэтапный способ достижения цели, т.е. тактика педагогических действий (предметные, метапредметные, личност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9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6"/>
          <p:cNvSpPr/>
          <p:nvPr/>
        </p:nvSpPr>
        <p:spPr>
          <a:xfrm>
            <a:off x="785880" y="1928880"/>
            <a:ext cx="792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тельные особен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й дополнительной программы от уже существующих програм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разделе следует указать названия и авторов предшествующих аналогичных программ и отличие данной программы от предыдущ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детей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ющих в реализации данной образовательной программы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наб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в кружки, секции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Образовательная организация самостоятельно определяет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53" name="Picture 5" descr="13"/>
          <p:cNvPicPr/>
          <p:nvPr/>
        </p:nvPicPr>
        <p:blipFill>
          <a:blip r:embed="rId2"/>
          <a:stretch/>
        </p:blipFill>
        <p:spPr>
          <a:xfrm>
            <a:off x="6858000" y="3857760"/>
            <a:ext cx="1636560" cy="12142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6"/>
          <p:cNvSpPr/>
          <p:nvPr/>
        </p:nvSpPr>
        <p:spPr>
          <a:xfrm>
            <a:off x="1214280" y="2286000"/>
            <a:ext cx="628668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роки реализации програм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год обучения – 72 часа, 2 год обучения (3, 4 и т.д.) - 108 (144, 216 часов)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ормы и режим занят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зать количество занятий в неделю, их продолжительность, количество уч. часов в г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олняемость группы по год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ы организации  де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ы проведения заня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57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500040" y="1643040"/>
            <a:ext cx="86439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0000"/>
                </a:solidFill>
                <a:latin typeface="Times New Roman"/>
              </a:rPr>
              <a:t>Ожидаемые результаты и способы определения их результатив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857160" y="300024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идаемый результат должен соотноситься с целью и задачами обучения, развития, воспит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-170280" y="90360"/>
            <a:ext cx="94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в задачах прописано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учить выразительному чтению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, то в результатах должно быт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учащийся научится выразительно читать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-170280" y="90360"/>
            <a:ext cx="94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в задачах прописано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учить выразительному чтению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, то в результатах должно быт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учащийся научится выразительно читать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-170280" y="90360"/>
            <a:ext cx="94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в задачах прописано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учить выразительному чтению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, то в результатах должно быт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учащийся научится выразительно читать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-170280" y="90360"/>
            <a:ext cx="94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в задачах прописано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учить выразительному чтению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, то в результатах должно быт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учащийся научится выразительно читать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2143080" y="43578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Если в задачах прописано «научить выразительному чтению», то в результатах должно быть «учащийся научится выразительно читать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Пояснительная записка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67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500040" y="1643040"/>
            <a:ext cx="86439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0000"/>
                </a:solidFill>
                <a:latin typeface="Times New Roman"/>
              </a:rPr>
              <a:t>Ожидаемые результаты и способы определения их результатив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2428920" y="4429080"/>
            <a:ext cx="564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ормами подведения итогов работы по теме, разделу, программе могут бы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тавка, концерт, открытое занятие, показ детских достижений (моделей, спектакля, работ и т.д.)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857160" y="2714760"/>
            <a:ext cx="55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кументальные формы, отражающие достижения каждого обучающегося могут быть представлены в виде дневников достижений обучающихся, карт оценки результатов освоения программы, дневников педагогических наблюдений, портфолио учащихся и т.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"/>
          <p:cNvPicPr/>
          <p:nvPr/>
        </p:nvPicPr>
        <p:blipFill>
          <a:blip r:embed="rId1"/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Дополнительное образование детей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1" name="Picture 5" descr="13"/>
          <p:cNvPicPr/>
          <p:nvPr/>
        </p:nvPicPr>
        <p:blipFill>
          <a:blip r:embed="rId2"/>
          <a:stretch/>
        </p:blipFill>
        <p:spPr>
          <a:xfrm>
            <a:off x="642960" y="4643280"/>
            <a:ext cx="2317680" cy="17193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1071720" y="2000160"/>
            <a:ext cx="7429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.10 ст. 75  ФЗ-27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полнительное образование детей обеспечивает их адаптацию к жизни в обществе, профессиональную ориентацию, а также выявление и поддержку детей, проявивших выдающиеся способност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полнительные общеобразовательные программы для детей должны учитывать возрастные и индивидуальные особенности детей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Monotype Corsiva"/>
              </a:rPr>
              <a:t>Заголовок слайда</a:t>
            </a:r>
            <a:endParaRPr b="1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72" name="Picture 7" descr="13"/>
          <p:cNvPicPr/>
          <p:nvPr/>
        </p:nvPicPr>
        <p:blipFill>
          <a:blip r:embed="rId1"/>
          <a:stretch/>
        </p:blipFill>
        <p:spPr>
          <a:xfrm>
            <a:off x="179280" y="5495760"/>
            <a:ext cx="1835280" cy="1362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6"/>
          <p:cNvSpPr/>
          <p:nvPr/>
        </p:nvSpPr>
        <p:spPr>
          <a:xfrm>
            <a:off x="1714680" y="50004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УЧЕБНО-ТЕМАТИЧЕСКИЙ ПЛ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1000080" y="1428840"/>
            <a:ext cx="728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ел должен содержать перечень тем, распределенных по этапам обучения, с указанием количеством часов по каждой теме, с разбивкой на теоретические и практические  виды занят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3071880" y="250020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римерное соотношение: теория 30%, практика 7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28800" y="3000240"/>
          <a:ext cx="7643880" cy="3121200"/>
        </p:xfrm>
        <a:graphic>
          <a:graphicData uri="http://schemas.openxmlformats.org/drawingml/2006/table">
            <a:tbl>
              <a:tblPr/>
              <a:tblGrid>
                <a:gridCol w="939600"/>
                <a:gridCol w="3884760"/>
                <a:gridCol w="939600"/>
                <a:gridCol w="939960"/>
                <a:gridCol w="939960"/>
              </a:tblGrid>
              <a:tr h="2811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разделов и тем занят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ча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о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водное заня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1. Знакомство с миром кук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 кукольного теат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кукол. Кукла своими рукам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………………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дел 2.  ………………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1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9701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1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99760" y="356760"/>
            <a:ext cx="666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ТЕЛЬНЫЙ РАЗДЕЛ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0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8"/>
          <p:cNvSpPr/>
          <p:nvPr/>
        </p:nvSpPr>
        <p:spPr>
          <a:xfrm>
            <a:off x="714240" y="1928880"/>
            <a:ext cx="7929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В содержании программы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 указываетс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название темы (количество и название разделов и тем должно совпадать с перечисленными разделами и темами УТП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телеграфным стилем перечисляются все вопросы, которые раскрывают тему (без методики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указываются основные теоретические понятия (без описания) и практическая деятельность обучающихся на занят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при включении в дополнительную программу экскурсий, игровых занятий, досугово-массовых мероприятий и др. в содержании указывается тема и место их прове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99760" y="356760"/>
            <a:ext cx="666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ТЕЛЬНЫЙ РАЗДЕЛ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4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8"/>
          <p:cNvSpPr/>
          <p:nvPr/>
        </p:nvSpPr>
        <p:spPr>
          <a:xfrm>
            <a:off x="785880" y="1928880"/>
            <a:ext cx="7929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d0d0d"/>
                </a:solidFill>
                <a:uFillTx/>
                <a:latin typeface="Times New Roman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Тема 5.1. Холодный батик (10 час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d0d0d"/>
                </a:solidFill>
                <a:uFillTx/>
                <a:latin typeface="Times New Roman"/>
              </a:rPr>
              <a:t>Теория (2 ч)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: Технология холодного батика. Характерные особенности. Техника безопасности работы с резервирующим составом. Роспись декоративного панно на тему «Геометрический орнамент». Знакомство с характеристикой цветов, которые входят в цветовое решение «орнамента». Ахроматические и хроматические цвета. Ознакомление с различными геометрическими и растительными орнаментами и их характерными признак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d0d0d"/>
                </a:solidFill>
                <a:uFillTx/>
                <a:latin typeface="Times New Roman"/>
              </a:rPr>
              <a:t>Практика (8 ч)</a:t>
            </a: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: Выполнение росписи в технике холодного батика на тему: «Геометрический орнамент» с учетом линейности и замкнутости контура цветовых участ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14320" y="333000"/>
            <a:ext cx="607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ЕТОДИЧЕСКОЕ ОБЕСПЕЧЕНИЕ ПРОГРАММЫ</a:t>
            </a:r>
            <a:br>
              <a:rPr sz="2800"/>
            </a:b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8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285840" y="1857240"/>
          <a:ext cx="7905600" cy="2940120"/>
        </p:xfrm>
        <a:graphic>
          <a:graphicData uri="http://schemas.openxmlformats.org/drawingml/2006/table">
            <a:tbl>
              <a:tblPr/>
              <a:tblGrid>
                <a:gridCol w="662040"/>
                <a:gridCol w="909360"/>
                <a:gridCol w="1341720"/>
                <a:gridCol w="1625400"/>
                <a:gridCol w="952560"/>
                <a:gridCol w="1343160"/>
                <a:gridCol w="1071360"/>
              </a:tblGrid>
              <a:tr h="210528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я разделов и т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занят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ёмы и мето­ды организации образовательно­го процесса (в рамках занят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дактические материал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подведения итого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ально-техническое обеспе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Monotype Corsiva"/>
              </a:rPr>
              <a:t>Заголовок слайда</a:t>
            </a:r>
            <a:endParaRPr b="1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91" name="Picture 6" descr="6"/>
          <p:cNvPicPr/>
          <p:nvPr/>
        </p:nvPicPr>
        <p:blipFill>
          <a:blip r:embed="rId1"/>
          <a:stretch/>
        </p:blipFill>
        <p:spPr>
          <a:xfrm>
            <a:off x="-21420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13"/>
          <p:cNvPicPr/>
          <p:nvPr/>
        </p:nvPicPr>
        <p:blipFill>
          <a:blip r:embed="rId2"/>
          <a:stretch/>
        </p:blipFill>
        <p:spPr>
          <a:xfrm>
            <a:off x="179280" y="5495760"/>
            <a:ext cx="1835280" cy="13622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1214280" y="642960"/>
            <a:ext cx="707256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ребования к оформлению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Списки литературы должны содержать перечень изданий, в том числе опубликованных за предыдущие пять лет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общей педагоги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методике данного вида деятельности; — по методике воспит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общей и возрастной психолог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еории и истории выбранного вида деятельно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убликованные учебные, методические и дидактические пособ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Перечень указанной литературы должен отражать уровень и широту теоретической подготовленности педагога в данной област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Список литературы составляется в алфавитном порядке и нумеруется. При написании списка литературы рекомендуется использовать следующую схему описания издан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Образовательная организация самостоятельно определяет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5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1214280" y="2286000"/>
            <a:ext cx="62866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х развивающих програм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обу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Целями и задачами дополнительных общеразвивающих  программ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" name="Picture 5" descr="13"/>
          <p:cNvPicPr/>
          <p:nvPr/>
        </p:nvPicPr>
        <p:blipFill>
          <a:blip r:embed="rId2"/>
          <a:stretch/>
        </p:blipFill>
        <p:spPr>
          <a:xfrm>
            <a:off x="785880" y="478620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642960" y="1714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является обеспечение обучения, воспитания, развития детей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3" descr="http://sunroze.ru/_ld/3/51896140.jpg"/>
          <p:cNvPicPr/>
          <p:nvPr/>
        </p:nvPicPr>
        <p:blipFill>
          <a:blip r:embed="rId3"/>
          <a:stretch/>
        </p:blipFill>
        <p:spPr>
          <a:xfrm>
            <a:off x="2428920" y="285768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 Narrow"/>
              </a:rPr>
              <a:t>Дополнительное  образование направлено н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4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928800" y="1643040"/>
            <a:ext cx="7715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создание условий для развития личности ребен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развитие мотивации личности ребенка к познанию и творчеств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обеспечение эмоционального благополучия ребен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приобщение обучающихся к общечеловеческим ценностя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профилактику асоциального поведе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создание условий для социального, культурного и профессионального самоопределе­ния, творческой самореализации личности ребенка, его интеграции в системе мировой и оте­чественной культур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целостность процесса психического и физического, умственного и духовного разви­тия личности ребен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укрепление психического и физического здоровья дете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взаимодействие педагога с семь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Основные нормативные документы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8" name="Picture 5" descr="13"/>
          <p:cNvPicPr/>
          <p:nvPr/>
        </p:nvPicPr>
        <p:blipFill>
          <a:blip r:embed="rId2"/>
          <a:stretch/>
        </p:blipFill>
        <p:spPr>
          <a:xfrm>
            <a:off x="0" y="5335560"/>
            <a:ext cx="2050920" cy="15224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1143000" y="1714680"/>
            <a:ext cx="757224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Государственная программа Российской Федерации «Развитие образования» на 2013-2020 год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Приказ Министерства образования и науки РФ от 29 августа 2013 г. № 1008 «Об утверждении порядка организации и осуществления образовательной деятельности по дополнительным общеобразовательным программа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Санитарно-эпидемиологические правила и нормативы СанПи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Приложение к письму Департамента молодежной политики, воспитания и социальной поддержки детей Минобразования и науки России от 11.12.2006 г. № 06-1844 «О примерных требованиях к программам дополнительного образования детей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Устав учре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Структура программы дополнительного образования детей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тульный ли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ительная запи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тематический пл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програм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ическое обеспечение и условия реал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литера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ложения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13"/>
          <p:cNvPicPr/>
          <p:nvPr/>
        </p:nvPicPr>
        <p:blipFill>
          <a:blip r:embed="rId2"/>
          <a:stretch/>
        </p:blipFill>
        <p:spPr>
          <a:xfrm>
            <a:off x="6143760" y="4857840"/>
            <a:ext cx="208116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Титульный лист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менование образовательного учреждения, учред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, когда и кем утверждена дополнительная образовательная програм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звание дополнительной образовательной програ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детей, на которых рассчитана дополнительная образовательная програм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дополнительной образовательной програ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О., должность автора (авторов) дополнительной образовательной програ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города, населенного пункта, в котором реализуется дополнительная обра­зовательная програм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разработки дополнительной образовательной програм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13"/>
          <p:cNvPicPr/>
          <p:nvPr/>
        </p:nvPicPr>
        <p:blipFill>
          <a:blip r:embed="rId2"/>
          <a:stretch/>
        </p:blipFill>
        <p:spPr>
          <a:xfrm>
            <a:off x="6072120" y="5572080"/>
            <a:ext cx="15098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Monotype Corsiva"/>
              </a:rPr>
              <a:t>Заголовок слайда</a:t>
            </a:r>
            <a:endParaRPr b="1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9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04:26:35Z</dcterms:created>
  <dc:creator>Юлия</dc:creator>
  <dc:description/>
  <dc:language>en-US</dc:language>
  <cp:lastModifiedBy>Zam_Dir</cp:lastModifiedBy>
  <dcterms:modified xsi:type="dcterms:W3CDTF">2017-02-16T06:33:56Z</dcterms:modified>
  <cp:revision>49</cp:revision>
  <dc:subject/>
  <dc:title>Слайд 1</dc:title>
</cp:coreProperties>
</file>