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3059-7B4F-4DB8-B46C-D31170E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89CA-54A0-4142-B617-A3174A3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E587-CD2B-41A5-91C0-F938FE7F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A77A4-A90A-435D-BE79-88B8AFB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62751-A39A-4F19-9BD4-151689D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FB39A-A79E-4902-BB83-D90F496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EFAB-11C6-4373-818A-92A12434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7FDC2-54FA-4181-971D-43637CE9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9D183-0D97-4946-96BE-70074671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FC930-BF6D-4AAC-B1FC-EE29A843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2D4A-0B20-4CC6-9F7D-E085977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7386E-BC6D-48A0-AD56-8D730E5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7B047-3002-46D9-9391-3FCF7F3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8649-28A9-4483-9BD9-4C49AFDC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3420-DB66-4B91-BFDE-60EE4A0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77FE0-47DA-4A94-8B9B-69CC673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381B-F8C9-477D-B11C-CC3A3A4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0303A-1983-4DD6-B762-6153892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FECAF-A733-4C93-856F-EDDB86B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3376-066A-494A-8F02-D4628765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F3AE-4D13-4D27-8CA3-980A080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CE149-7495-47A9-9E3B-8CF1AD0A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05E56-DDE7-423D-82FF-83E7731D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EF311-009C-4365-BFB5-ED58A555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8096-6322-47A1-988D-067AE659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C750-090A-4AFF-A9EC-6340A68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8D67-BFA3-4C32-83A7-9BE7EF84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06BC7-4D72-4E08-9509-ACE1407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7E00A-39BD-409E-B574-BB73469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E4AFE-09FD-4578-8B1A-FC87F7B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ED2FE-1262-4C0B-BF9B-E207DD9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31E14-23C4-4A39-9B6A-B7583B6C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D2E43-E29D-49F6-89B9-DDBAF3B8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222E4-260B-4085-BA90-2FCD015A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1D42D-AADC-442A-94FD-3997A45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50689-19D0-4A9D-B030-32C384F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751BF-8A6D-44AF-8005-B0E393A7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A1B91-7155-4AD0-ADB5-DD077DD2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F96FB-A296-4D18-A0EC-9751CC1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E1206-9A1C-42F5-8162-7AE7A67C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58586-B057-458D-9F40-4562F6B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6D077-C7E8-464A-959F-C6040B3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FDEF-BDFD-4FD4-93E4-C1ECB46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8C390-8B8B-4B1C-BC93-569DF20B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9894C-6102-48C2-8CBC-F82E00B2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E49-2589-4C49-BC73-23B5F3A0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B6B-8958-4F1F-A25A-3069D55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800-FF51-4FF7-A1C6-EE972F7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E88-45EB-4199-B5CB-68AB816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318-26C1-4CD9-A764-0CC20425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FBE-0988-4CD6-B0EE-3E22CE96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207-48FF-4703-9F32-AE88A9D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097-00C8-414B-920D-92A1812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7EB-9F01-42A9-A182-892CFCD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7A2-AC15-4DCB-B251-94453A5A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4A7-497D-4B91-8A3F-ECD76EC2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773-2D2B-4C7D-B21E-939F686B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6E2-63FC-42FD-8769-8F5173E6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941D-1CC7-4935-8B72-9C37049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B429-9436-4002-BDDE-8FCB2D8C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40FF-F6B1-4FCE-AFA9-CEAE01D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45C6-7A4B-42F7-B11F-F2592F9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8314-9B20-4B74-9602-0B28E149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DE76-7E6C-47AC-971C-444B6DC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883B-17DB-4615-8AC0-C5F14FF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90A6-F537-4152-B0AD-3B00F03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22EF-0796-49B8-98A1-AF8577A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67BD-D3A4-422D-93F0-0BBB96C9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E5D-F8A7-4B6F-B9B4-CBE8F243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8C5C-57C9-4AA7-ADEC-0D174179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B82B-CDB2-4A1D-A83D-774362B4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A13C-968E-4059-813F-58DBEE7E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F45C-428D-48FA-9600-60275C6A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2FBB-1F2A-46FE-A116-A447A84B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CF54-F22D-4BDE-A54E-723FC26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8E89-C8BF-4FFB-9540-BC2AFD4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9E2E-FA73-4984-9879-B983296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61DF-8616-452C-A75C-4C9BF73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B365-240C-4EED-AB1F-C498FE5C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FD1B-64C9-4FEC-AB63-CE17650A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2961-E4DF-4229-9E3F-FF7CD4C5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CE5D-5EA4-41F7-9985-557355EF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6747-8D21-4C30-8C58-661D6EE8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383D-7F48-40E9-B4DC-18D04762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1BDB-31BB-4DEF-A4DD-BF08BF4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EB3C-A3B9-4EA7-955D-AAE3D31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5E93-63F8-4BAD-A409-7A0F76A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6AF7-950A-4486-A612-1A54842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33AD-120F-45C3-913A-CDC0041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74FE-550A-43F1-AEC2-ECFDC84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C1E6-6400-461E-A882-93D0371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213F-FEE8-4CDF-B096-7D02DFA2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8F35-8A84-4BD3-927F-1AAFACF5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205E3-5ED8-4A41-AF11-C80F7BBD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FA18-CE60-4902-AF82-8E91D200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A844-249B-4E1F-9AC8-28807292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CB60F-9B65-41B0-97B6-FB5475E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CE20-0B96-4E38-95E0-60282837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F94E-A62F-4BF3-83BD-3716E2F4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91ED6-6D23-4B25-A549-03684B4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61EB-DEEA-4886-B0D7-9D6E42A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D4BC-D241-4751-BE75-EDF220F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7EF5-6D94-44CE-853B-5458C355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A394-69CC-4309-BF5A-F9914627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47C0-8938-46A7-940E-19DF48E4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5F92-329F-4614-8673-EAB47DA9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2DAD-2B3A-4356-B121-F8658C05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DD54-6C88-40CE-BD04-416F962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7A3BE-60C1-40EF-AB47-1E1C8F4C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6A29-029D-4822-BBEC-FD84D33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76C6-CBF9-4E2A-8802-2D00C52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C628-EEF5-492D-8373-D3A988E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9BA1-2380-429E-A28D-9FDCE14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0A48-4F28-4FA1-8167-2F0D4A3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029B-6B98-4296-BEA0-D586601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B993-1816-40AD-926D-C292C75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6BF6-774A-49FC-A36B-4EFDEED6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2A9D-2F26-45D2-B28B-0BC790DA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83B2-21E9-467D-8466-DAB547C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90194-E91E-48D8-8FF3-067682C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50C-5381-41CC-9A46-E912338CA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446-31B2-4F5E-BC0D-BFC3FEE73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563-7C78-4AF3-B4A5-BF5EA470C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:\Users\CC\Desktop\Новая папка (2)\Kino2.png"/>
          <p:cNvPicPr/>
          <p:nvPr/>
        </p:nvPicPr>
        <p:blipFill>
          <a:blip r:embed="rId2"/>
          <a:stretch/>
        </p:blipFill>
        <p:spPr>
          <a:xfrm>
            <a:off x="-9360" y="0"/>
            <a:ext cx="9165960" cy="687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Users\CC\Desktop\Новая папка (2)\Kino.png"/>
          <p:cNvPicPr/>
          <p:nvPr/>
        </p:nvPicPr>
        <p:blipFill>
          <a:blip r:embed="rId3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33E2-6B02-4AA0-914C-EBEA0C21D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37AF-6E18-494D-8C8F-7CE694883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E547-DB86-4CEA-9B5D-1441237F7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BEC0-35F4-4F1F-A1C3-82AEB6338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2EA-AA82-46AB-A243-EB32D61D4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B1E-A283-4A19-8682-C82E65DA6F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8FE-427D-44DF-935A-E079FB3ED2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9280" y="4365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5200920"/>
            <a:ext cx="4681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Зора» (Сар пи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46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нове фильма повесть Н.Гарина-Михайловского «Зор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ом фильме два действующих лица: Волга и чувашская девушка Зора. Она-вольный побег, органическая часть своего народа. Стремясь "к другой жизни", она уходит от народа,  и тут начинается ее др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Текст 2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811680" cy="399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 пи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Текст 2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08280" cy="4525920"/>
          </a:xfrm>
          <a:prstGeom prst="rect">
            <a:avLst/>
          </a:prstGeom>
          <a:ln w="0">
            <a:noFill/>
          </a:ln>
        </p:spPr>
      </p:pic>
      <p:pic>
        <p:nvPicPr>
          <p:cNvPr id="526" name="Текст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ъемках фильма «Апайка» - Г. Парне, Кошкинский, Э. Никулес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Текст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00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и Юн в филь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Текст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4751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601640"/>
            <a:ext cx="3756240" cy="5256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6842160" cy="5040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716360" y="1268280"/>
            <a:ext cx="3710160" cy="535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елось бы, чтобы наравне с Кошкинским и Тани Юн чувашский народ помнил о деятельности следующих их  сподвиж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жиссёра, сценариста, актёра театра и кино Г. В. Парне (Васильев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а Константина Михайловича Васильева (Катну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аматурга, актёра театра и кино П. Н. Осип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жиссёра Шелонцева Бориса Михайлови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640" y="259920"/>
            <a:ext cx="8229600" cy="849240"/>
          </a:xfrm>
          <a:prstGeom prst="rect">
            <a:avLst/>
          </a:prstGeom>
          <a:solidFill>
            <a:srgbClr val="ffffff">
              <a:alpha val="92000"/>
            </a:srgbClr>
          </a:solidFill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ольная научно-практическая конференция обучающихся «Открытия юны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95280" y="1413000"/>
            <a:ext cx="8424720" cy="4464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ковлева Елена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ница 8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ОУ «СОШ №22» г. Чебокс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ОДВИЖНИКИ И.С. МАКСИМОВА-КОШКИНСКОГО В КИНОИСКУС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ипова Ольга Григор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чуваш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24000" y="1125000"/>
            <a:ext cx="8496000" cy="4535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подвижники И. С. Максимова-Кошкинского в киноискусст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ить ближайших сподвижников И. С. Максимов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кинского в ки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черкнуть значимость «Чувашкино» в культуре              чувашского нар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ти информацию о единомышленниках Кошкинского в Чувашкино – сценаристах,      постановщиках, режиссёрах, художниках, актёр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рить собственные знания о чувашской культу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ботать  навыки исследовательск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, содержащий сведения о чувашском кино 20—30-х годов 20 ве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ография Максимова-Кошкинског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СМИ, литературы, энциклопедий, интернет-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ность полученных результа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я о чувашском кино 20-30-х годов 20 века расширят кругозор учащихся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арне Георгий Васил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сильев Г.В. родился в 1901 году в д. Салагаево нынешнего Янтик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нчил режиссерский факультет Всероссийского государственного института кинематографии в Моск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24-1929 гг. он актер, режиссер Чувашского драматического театра и студии «Чувашки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Текст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ётр Николаевич Осип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д. Кудемеры Козловского района Чувашской Республ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аматург, член Союза писателей СССР, режиссер, актер, кандидат медицинских наук, заслуженный деятель искусств Чувашской АССР и участник Гражданск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Текст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243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антин Михайлович Васильев-Катну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32944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лся в Казанской художествен. школе (1912–1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вовал в оформлении первой постановки на чувашском языке пьесы А.Н. Островского «Хăв пурăнас тенĕ пек ан пурăн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л декорации и костюмы к фильмам «Чувашкино»: «Сарпиге», 1926), «Хура юпа» (Чёрный столб, 1927), «Атăл пăлхавçисем» (Вихрь на Волге, 1928), «Киремет кати» (Священная роща, 1930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конце 1950-х гг. занимался архитектурой, внедрял национальный орнамент в декор современных соору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Текст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1464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елонцев Борис Михайл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284360" y="1484280"/>
            <a:ext cx="43974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ценарист, режиссё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1897 г. в городе Алатыр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ино — с 1924 года. Первые три года был редактором-монтажером в Московском прокатном отделении «Севзапкино», «Госкино» и "Союзкино», затем — на студии «Чувашкино», где совместно с Кошкинским был режиссёром фильма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Хура юпа»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емьера фильма состоялась17 февраля 1928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Текст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9052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дры из фильма «Хура юп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Текст 2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0480" cy="4525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24000" y="5805360"/>
            <a:ext cx="3671640" cy="916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др из фильма «Чёрный столб». Обложка немецкого журнала «AIZ». Берлин. 19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Текст 2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3:35:31Z</dcterms:created>
  <dc:creator>User</dc:creator>
  <dc:description>freeppt.ru - коллекция бесплатных шаблонов и презентаций по архитектуре и искусству</dc:description>
  <dc:language>en-US</dc:language>
  <cp:lastModifiedBy>User</cp:lastModifiedBy>
  <dcterms:modified xsi:type="dcterms:W3CDTF">2017-01-26T16:58:21Z</dcterms:modified>
  <cp:revision>4</cp:revision>
  <dc:subject/>
  <dc:title>Слайд 1</dc:title>
</cp:coreProperties>
</file>