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BEF5-EED3-47CF-8954-D138272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9DD7-49EB-4E39-B693-179A2C4F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383B-03E9-478F-85EE-C042AAB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135C-068A-4327-B5E3-402B99BD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469A-1DA2-48C5-BAC3-55E9739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6CA9-F1EC-4071-9B34-9992E19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D7DF-733F-4433-84D6-661E3B0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2FF56-89FD-4A2E-A3D9-AFDC1947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B545-C1C7-4545-8CFC-35BC75A2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E0BA-1497-4456-8849-4244ECB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0759-EE12-4CF6-A4EC-EE03E6C8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22F0-C034-4A61-B290-B36E85C8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C5F5-068D-4E04-9665-6C4259F1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39E68-12C3-458D-A0CB-1090094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E04EB-38D7-4086-819E-E17A7DC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EA00-326C-4126-8FF0-B9901C7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B299-5A74-4F9E-A4A6-BB5113F6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C8897-01D7-44A9-B892-F9DFAD4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4044-2BE9-41A0-9202-6453990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AADB-BCD0-46A3-90EA-47A6A59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4BB1-2323-44C3-BAD5-3914BCE6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78CE4-D7C7-4369-90E2-2EB27ED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ADF6-E210-47F7-A4F2-5930D06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86EB-E50F-478D-87B9-02BA878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E3BED-BE99-4613-91F9-08317E2B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8D6DB-9250-47CB-B2F8-75AAD9E8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3C103-D30F-4540-8AA8-07D048B2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0D769-F200-4C40-A8E2-350F94F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7DF0B-C623-4728-9F0B-1EB4C07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C8C30-74D0-42AE-B34F-C11598B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9C505-2767-45F9-A582-06545EC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1278C-3C1B-4C10-8429-56275124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81203-3AE6-47E5-B5A5-05A1C0AE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B82F-E0BF-4099-B0CE-AC463503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853B5-88EE-49E3-A32F-0CD639D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68C37-7464-4A9F-A213-5F91379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683ED-E14F-4EDE-B33C-2E0E7C6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6EBAB-1986-4D66-A8FC-5F5A2E25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A8A02-62E4-4681-BE6D-2860285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16585-6EF3-4955-9F00-E63D105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9910-9894-4AC3-9FE0-6746784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2F7F-F535-4C5D-B90B-36FDB607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C0D22-A5D6-4C03-8257-8532726E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8DA36-3C19-43EB-8825-D9695E5D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4A272-536A-4931-A750-F06C5E3C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217-40EC-4CD8-977B-890D151A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844-F524-46A9-A17C-FA0E92C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F07-C24C-4E67-A585-A66A0418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16-9371-4D24-8ED8-50C22E7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B7D-B87C-471E-BA67-83E8320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45D-3EC4-4A21-B111-95058F6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D68-E5A0-4DF4-B139-DBF4721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390-0EE8-45F0-BC47-105076B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988-E613-44C8-A2B6-11D2118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CA8-3602-4C06-A896-E653F34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CD4-3680-42E5-B35E-D17C9961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2B9-174E-4003-8C2A-8C1C63F1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866F-C0EE-454C-850C-9C096E9D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6DD-C500-4622-ABFD-E5CA624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F2DC-F6DA-4772-9C3F-72E7456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3D7-0F69-444D-8012-ADE3A22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565D-BAB0-4ABB-8E4E-C72E2E5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7015-13E7-4903-ACA9-359A62F0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119C-ABF2-470A-BD98-ECCF871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611-2737-466A-965A-329CBA9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9F2C-1A5F-4A70-8B86-E4ED22B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418-986B-492D-81A9-3C64841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072F-684B-4F9F-9149-4385DF44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D928-677D-4C20-89B4-769029D6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3856-D1A4-4901-AC10-5A074E53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4538-F8DA-4244-B8A9-3F0D9D1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74D9-D3CC-4307-814F-328F91D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E505-7EF7-4DA0-8444-311512D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D9AD-3B7B-4E11-B6AB-821805A3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98A3-D390-46F3-9A12-18FECF09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E039-B0AD-4E54-A35B-28E490B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DD49-6F49-46B1-940B-B53D595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7363-C356-44D0-9F37-B261B27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CBE71-F4BE-4987-ABFE-A10F43E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1A00-C06F-4D4D-9A96-8900CB2A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E91D-CFA4-43DC-801C-66830022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1D32-66D5-4EAA-855A-825D2853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3CD1-CD62-4D41-9953-0240563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0CE8-71C2-4986-AE65-3E7B25F8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F691-CEE4-4441-8AAD-5D5A19F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8786-F2B7-4C0A-B938-55EF8CD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7CD8-4334-4144-9E58-EC479432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5484-C75B-4118-9D18-E860A1C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1460-38ED-4EA8-A294-FDE412D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D308-2FC4-4314-8855-A5C9F4B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0497-67BD-4854-82F1-FB15AC4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360C-6FCB-4ECF-82D0-D7377310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EF81-3428-4698-86E1-B91F9C9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0486-3A35-4824-B0FE-B5DCB316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C62F-86D4-41B3-B422-F5DFF99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67CC-F8FD-4C87-B8A5-D7F6F209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747A-B201-41C7-BB00-1C4FFEE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7209-44A9-4BB4-B3AC-A0577BA5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263F-04BD-4535-8F51-751BED4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8C8B-F642-47ED-A2C0-5810125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89C4-368D-41A2-A0C8-3104130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E4227-09F5-42E7-A46F-0F107E5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8C0C-1356-4680-9454-5D594ACD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33A2-8C08-43EF-B9A5-FE0B4A24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EF3E9-995F-4E90-8482-82B5C96A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D8CC-BB0E-4F11-82C8-B366F10D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8DB4-0FDD-4D6D-9FEA-C7AE15B4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BE0CE-7323-4C17-943C-CE58D79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8652-6696-491E-84D9-40FADF2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9214-CBC8-49CC-BA84-EDDE01F0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24D5-562C-40AE-A6B7-EB7813F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FC3A1-3BF9-44D5-8706-DEBDEDA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16182-8460-4BC6-96A4-B48628D2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3BD4-2E50-4532-8E90-E9CF3D01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3305-3F5F-4325-9395-A66B79D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67578-6D66-47CE-940D-A05D5092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9D80-E0A7-41B4-B77A-838733CC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855B-CB1F-4C5F-ADDE-D3E85F55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B7C3-237E-4289-BF8D-A995E70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C7D20-4AE3-402B-8A74-9FB6350C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80AF-EE77-466A-8D21-341CA61D94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1167-42B1-4753-83D7-ABFD95EBF5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8E5-1A3E-41EC-BF28-172A66BF6A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:\Users\CC\Desktop\Новая папка (2)\Kino2.png"/>
          <p:cNvPicPr/>
          <p:nvPr/>
        </p:nvPicPr>
        <p:blipFill>
          <a:blip r:embed="rId2"/>
          <a:stretch/>
        </p:blipFill>
        <p:spPr>
          <a:xfrm>
            <a:off x="-9360" y="0"/>
            <a:ext cx="9165960" cy="687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Users\CC\Desktop\Новая папка (2)\Kino.png"/>
          <p:cNvPicPr/>
          <p:nvPr/>
        </p:nvPicPr>
        <p:blipFill>
          <a:blip r:embed="rId3"/>
          <a:stretch/>
        </p:blipFill>
        <p:spPr>
          <a:xfrm>
            <a:off x="22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F437-C731-447C-A32B-05ABC707A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4CA4-BA8B-4BD2-A3BE-9B1FFA3E4C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FB1C-4B69-484B-A921-B196FFDB4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772-20AA-4348-8A9E-2EB3FF3F2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3890-1784-4A14-B21C-238401283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D50-ED4D-43E3-8CB4-E4AF6CF25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CC\Desktop\Новая папка (2)\Kino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1ED-69C4-48F2-A15E-99086EB7F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9280" y="4365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5200920"/>
            <a:ext cx="4681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Зора» (Сар пиг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46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нове фильма повесть Н.Гарина-Михайловского «Зор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том фильме два действующих лица: Волга и чувашская девушка Зора. Она-вольный побег, органическая часть своего народа. Стремясь "к другой жизни", она уходит от народа,  и тут начинается ее др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Текст 2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811680" cy="399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 пи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Текст 2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08280" cy="4525920"/>
          </a:xfrm>
          <a:prstGeom prst="rect">
            <a:avLst/>
          </a:prstGeom>
          <a:ln w="0">
            <a:noFill/>
          </a:ln>
        </p:spPr>
      </p:pic>
      <p:pic>
        <p:nvPicPr>
          <p:cNvPr id="526" name="Текст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ъемках фильма «Апайка» - Г. Парне, Кошкинский, Э. Никулес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Текст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00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и Юн в филь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Текст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4751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716360" y="1601640"/>
            <a:ext cx="3756240" cy="5256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6842160" cy="5040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716360" y="1268280"/>
            <a:ext cx="3710160" cy="535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елось бы, чтобы наравне с Кошкинским и Тани Юн чувашский народ помнил о деятельности следующих их  сподвиж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жиссёра, сценариста, актёра театра и кино Г. В. Парне (Васильев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а Константина Михайловича Васильева (Катну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аматурга, актёра театра и кино П. Н. Осипо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жиссёра Шелонцева Бориса Михайлови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640" y="259920"/>
            <a:ext cx="8229600" cy="849240"/>
          </a:xfrm>
          <a:prstGeom prst="rect">
            <a:avLst/>
          </a:prstGeom>
          <a:solidFill>
            <a:srgbClr val="ffffff">
              <a:alpha val="92000"/>
            </a:srgbClr>
          </a:solidFill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ольная научно-практическая конференция обучающихся «Открытия юны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95280" y="1413000"/>
            <a:ext cx="8424720" cy="4464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ковлева Елена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ница 8Б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ОУ «СОШ №22» г. Чебокс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ОДВИЖНИКИ И.С. МАКСИМОВА-КОШКИНСКОГО В КИНОИСКУС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ипова Ольга Григор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чуваш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24000" y="1125000"/>
            <a:ext cx="8496000" cy="4535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подвижники И. С. Максимова-Кошкинского в киноискусст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явить ближайших сподвижников И. С. Максимов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кинского в ки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черкнуть значимость «Чувашкино» в культуре              чувашского нар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ти информацию о единомышленниках Кошкинского в Чувашкино – сценаристах,      постановщиках, режиссёрах, художниках, актёр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рить собственные знания о чувашской культу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ботать  навыки исследовательской деятельнос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, содержащий сведения о чувашском кино 20—30-х годов 20 ве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ография Максимова-Кошкинског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СМИ, литературы, энциклопедий, интернет-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ность полученных результа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я о чувашском кино 20-30-х годов 20 века расширят кругозор учащихся 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арне Георгий Васил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сильев Г.В. родился в 1901 году в д. Салагаево нынешнего Янтик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нчил режиссерский факультет Всероссийского государственного института кинематографии в Моск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24-1929 гг. он актер, режиссер Чувашского драматического театра и студии «Чувашки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Текст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ётр Николаевич Осип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д. Кудемеры Козловского района Чувашской Республ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аматург, член Союза писателей СССР, режиссер, актер, кандидат медицинских наук, заслуженный деятель искусств Чувашской АССР и участник Гражданско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Текст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243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антин Михайлович Васильев-Катну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32944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лся в Казанской художествен. школе (1912–18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вовал в оформлении первой постановки на чувашском языке пьесы А.Н. Островского «Хăв пурăнас тенĕ пек ан пурăн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л декорации и костюмы к фильмам «Чувашкино»: «Сарпиге», 1926), «Хура юпа» (Чёрный столб, 1927), «Атăл пăлхавçисем» (Вихрь на Волге, 1928), «Киремет кати» (Священная роща, 1930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конце 1950-х гг. занимался архитектурой, внедрял национальный орнамент в декор современных соору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Текст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1464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елонцев Борис Михайл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284360" y="1484280"/>
            <a:ext cx="43974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ценарист, режиссё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1897 г. в городе Алатыр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ино — с 1924 года. Первые три года был редактором-монтажером в Московском прокатном отделении «Севзапкино», «Госкино» и "Союзкино», затем — на студии «Чувашкино», где совместно с Кошкинским был режиссёром фильма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Хура юпа»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емьера фильма состоялась17 февраля 1928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Текст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9052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дры из фильма «Хура юп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Текст 2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0480" cy="45259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24000" y="5805360"/>
            <a:ext cx="3671640" cy="916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др из фильма «Чёрный столб». Обложка немецкого журнала «AIZ». Берлин. 19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Текст 2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13:35:31Z</dcterms:created>
  <dc:creator>User</dc:creator>
  <dc:description>freeppt.ru - коллекция бесплатных шаблонов и презентаций по архитектуре и искусству</dc:description>
  <dc:language>en-US</dc:language>
  <cp:lastModifiedBy>User</cp:lastModifiedBy>
  <dcterms:modified xsi:type="dcterms:W3CDTF">2017-01-26T16:58:21Z</dcterms:modified>
  <cp:revision>4</cp:revision>
  <dc:subject/>
  <dc:title>Слайд 1</dc:title>
</cp:coreProperties>
</file>