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B7626-0E23-4FE4-BC89-9FDD8888BE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5C425-7A40-4DA9-A7FB-ABDEF337CE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AEA-3D54-4289-A2C2-D017E2FB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9E0-52D7-4037-B781-7B1A7997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5D4-F0FE-4261-890C-F8DC5FCD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0E8-11F2-4042-B4AE-1EC51573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51FF-DC0B-484D-94CB-045D210B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CC35-8CE4-4EFD-9C65-324010C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D4D0-99DA-4B01-940A-BA0BD044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7955-11D3-49B9-BC9A-AADB1080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4B70-C54C-49E5-971C-3ACA49E0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DFAA-A139-486E-92BF-6091A112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F82C-2EC6-4536-8E02-E3F284A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437-EA92-4215-8AF8-0314BD70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A46F-E0FD-4154-892B-7BC0E78D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7F36-94C8-4250-9B23-E2CFDB50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D1C6-3E86-490E-94EB-E18A460D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792C-B104-4890-8343-2A8B2E24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FA2B-89F1-4A2A-BDFE-DA33F859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BD050-9D08-4D9D-8B20-1EB06EE0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0391-2D0A-4B39-BB34-027A44DE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D8E55-A7B6-473C-9275-50E299FD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FD54-F607-4F0D-9B0D-C20D240C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14E0-09EE-4658-B886-79DE28D8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94F-E123-4768-9803-E704B7F9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7BA4-44F6-460A-B14D-2CDA295F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1D04-4B0E-467A-AB2A-24286889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E187-F31A-4B24-855E-E6389A87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2E02-30EF-41AF-A2AA-61D98AF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6531-9D50-4393-B611-74A3610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928C-4780-4C64-A8E2-077A4884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A02F-EDB4-46CA-87DB-6F4EEA8D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9752-4FE0-44EB-A3D2-EBE30A5B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97156-472E-4900-8481-DC33B7AA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B055-1728-46AC-9D49-F6FB8948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A04-08A5-4362-95E2-1577E30E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4633E-CD15-409E-BE7B-DF202567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DCA6-9ACE-4760-BD8F-2DBC4D5C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3FC4-9BAE-4598-B297-172EFBAE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2A5C-DFCA-418B-9FBB-60B6D038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4B48-092E-4610-9072-BD758A42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8EC0-282C-4684-92C2-82E06AA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F7560-237B-4DEB-B462-BD0F9C8B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579D-2C23-42D7-BCD5-E96C91F0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13124-D3B2-4A52-A7CD-7B84ACC8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9EBAD-3964-4A20-AB50-6B42D41E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C83-6683-433B-BBBA-E32BF93E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5A579-7672-4BE8-8E80-9FC0DE7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604C8-B317-456C-A4E3-46D7C7B1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3C747-660E-4A62-BCAB-8369A69D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8B12F-D91B-4AF0-A3B0-7C379301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BFF40-A041-4749-A71D-EEDACD8A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0CB4B-D973-4211-A5D9-1758F57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4C531-B38F-48CA-996F-B4D2C81D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08A53-5325-4D2A-9D48-A08D2C6C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F1CB-FD3B-46A9-8E60-3BBAEADB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70E82-EF3E-4BE9-B168-D61D0059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4D7-4E1D-4D46-A3FD-6C46CE0F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CE09-2190-45FD-8070-0D536DF7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68238-C4D2-471E-B752-253B3035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2E9D-3063-4194-9DF1-0EEB3F77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E43EA-01C5-4576-997F-578F904B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8060B-82A5-4A47-98A2-70EB66A5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9685B-5B71-4531-8FD5-BC1BE4B9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57465-3F55-4B41-A227-B8186272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BF988-AE94-404B-9E98-31753F3C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2CC08-3792-44A3-A765-4123AD46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08453-E040-4292-876C-71CC9CB8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7D9-4056-406E-8768-2F6D7A68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A934-8BD3-4C70-B8A6-D5F10BF0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55AB9-47EA-45A1-B735-03223E96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C50D8-B80D-45DA-A4C6-5BE2C10F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D230D-2E63-4743-86F2-62E70F30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17625-66DC-482C-842B-D41FFB25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DC1B3-A492-4290-8C1A-AC78B7D6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CA2B-5A34-4A2B-B830-CB977599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08008-61F2-47F2-8D51-57725C02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18E9-6A70-4C74-A1C3-37E1F548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4D938-3B89-4705-BC95-EA73EC15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FB1-D63D-4D92-B669-3246C616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53720-8F19-42AE-9B1F-C8457615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8FF50-0C34-4C0C-9C05-5336F659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1C2FF-57A6-4869-8B13-EA5D8299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6AF00-E883-4C53-9C36-8E56FF16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FBABA-859A-4F79-886C-14EB9D9C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23EE9-052E-4FAE-B08B-042A94C2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9937A-7118-48C4-80CA-6A963D17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99526-681B-4A90-BA5D-D73430A1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8079D-C305-42D5-8F98-185CE467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97BAE-7380-474E-9D52-AF222550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C08-AA9B-460F-B8A9-424A33C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97011-B786-4503-BA33-4F417774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D749C-2A4D-40F0-A1F4-83FCEA2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6FAD7-F530-4371-B3D0-924BB2B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197D0-B5E9-448A-AB98-11CD66E8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E2A37-8C46-4A74-BB71-90FFEE8E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D4FA6-3251-4650-9302-4B27821A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FFA92-E893-4558-A8CE-7B7F6E92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4ACD04-F8F4-484C-A899-D9F6122B2BAC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25B370-E0EA-4F07-881D-EE061F336B5B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5322960" y="1184400"/>
            <a:ext cx="4765680" cy="6383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6383160"/>
              <a:gd name="textAreaBottom" fmla="*/ 6383520 h 638316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412920" y="0"/>
            <a:ext cx="6078240" cy="7291440"/>
          </a:xfrm>
          <a:custGeom>
            <a:avLst/>
            <a:gdLst>
              <a:gd name="textAreaLeft" fmla="*/ 0 w 6078240"/>
              <a:gd name="textAreaRight" fmla="*/ 6078600 w 6078240"/>
              <a:gd name="textAreaTop" fmla="*/ 0 h 7291440"/>
              <a:gd name="textAreaBottom" fmla="*/ 7291800 h 729144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919760" y="1635120"/>
            <a:ext cx="4535280" cy="1309680"/>
          </a:xfrm>
          <a:custGeom>
            <a:avLst/>
            <a:gdLst>
              <a:gd name="textAreaLeft" fmla="*/ 0 w 4535280"/>
              <a:gd name="textAreaRight" fmla="*/ 4535640 w 453528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6551640" y="0"/>
            <a:ext cx="3025800" cy="4703760"/>
          </a:xfrm>
          <a:custGeom>
            <a:avLst/>
            <a:gdLst>
              <a:gd name="textAreaLeft" fmla="*/ 0 w 3025800"/>
              <a:gd name="textAreaRight" fmla="*/ 3026160 w 3025800"/>
              <a:gd name="textAreaTop" fmla="*/ 0 h 4703760"/>
              <a:gd name="textAreaBottom" fmla="*/ 4703760 h 470376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6551640" y="4703760"/>
            <a:ext cx="3529080" cy="126036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6551640" y="0"/>
            <a:ext cx="1512720" cy="470376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4703760"/>
              <a:gd name="textAreaBottom" fmla="*/ 4703760 h 470376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6558120" y="4681440"/>
            <a:ext cx="2304720" cy="2878200"/>
          </a:xfrm>
          <a:custGeom>
            <a:avLst/>
            <a:gdLst>
              <a:gd name="textAreaLeft" fmla="*/ 0 w 2304720"/>
              <a:gd name="textAreaRight" fmla="*/ 2305080 w 2304720"/>
              <a:gd name="textAreaTop" fmla="*/ 0 h 2878200"/>
              <a:gd name="textAreaBottom" fmla="*/ 2878200 h 287820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6551640" y="4703760"/>
            <a:ext cx="1765440" cy="285588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6551640" y="1511280"/>
            <a:ext cx="3529080" cy="319248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6551640" y="1932120"/>
            <a:ext cx="3529080" cy="277164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2771640"/>
              <a:gd name="textAreaBottom" fmla="*/ 2771640 h 277164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1092240" y="4703760"/>
            <a:ext cx="5459400" cy="2855880"/>
          </a:xfrm>
          <a:custGeom>
            <a:avLst/>
            <a:gdLst>
              <a:gd name="textAreaLeft" fmla="*/ 0 w 5459400"/>
              <a:gd name="textAreaRight" fmla="*/ 5459760 w 545940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87520" y="4703760"/>
            <a:ext cx="5881680" cy="2855880"/>
          </a:xfrm>
          <a:custGeom>
            <a:avLst/>
            <a:gdLst>
              <a:gd name="textAreaLeft" fmla="*/ 0 w 5881680"/>
              <a:gd name="textAreaRight" fmla="*/ 5882040 w 5881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404640" y="2687760"/>
            <a:ext cx="6216840" cy="2016000"/>
          </a:xfrm>
          <a:custGeom>
            <a:avLst/>
            <a:gdLst>
              <a:gd name="textAreaLeft" fmla="*/ 0 w 6216840"/>
              <a:gd name="textAreaRight" fmla="*/ 6217200 w 621684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404640" y="2352600"/>
            <a:ext cx="6216840" cy="2351160"/>
          </a:xfrm>
          <a:custGeom>
            <a:avLst/>
            <a:gdLst>
              <a:gd name="textAreaLeft" fmla="*/ 0 w 6216840"/>
              <a:gd name="textAreaRight" fmla="*/ 6217200 w 6216840"/>
              <a:gd name="textAreaTop" fmla="*/ 0 h 2351160"/>
              <a:gd name="textAreaBottom" fmla="*/ 2351520 h 23511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5040360" y="4703760"/>
            <a:ext cx="1511280" cy="28558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99960" y="442800"/>
            <a:ext cx="9375840" cy="97812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40896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52520" y="750960"/>
            <a:ext cx="316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92840" y="750960"/>
            <a:ext cx="111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525600" y="750960"/>
            <a:ext cx="93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52600" y="750960"/>
            <a:ext cx="3960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7A56E0-B767-4B02-98BF-19E4F967A373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B204A6-B730-45F1-B500-187BD99AC738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42800"/>
            <a:ext cx="9775800" cy="97812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96840" y="750960"/>
            <a:ext cx="507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52560" y="750960"/>
            <a:ext cx="298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31680" y="750960"/>
            <a:ext cx="972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750960"/>
            <a:ext cx="93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64520" y="750960"/>
            <a:ext cx="298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208080" y="750960"/>
            <a:ext cx="316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48400" y="750960"/>
            <a:ext cx="111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81160" y="750960"/>
            <a:ext cx="93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307800" y="750960"/>
            <a:ext cx="399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DD2ED9-EC7D-4B23-ABA7-516678CAC3E3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E5B05B-09AE-42FF-877A-735A95F42D51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406440" y="0"/>
            <a:ext cx="9677520" cy="20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99960" y="2077920"/>
            <a:ext cx="9682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9388440" y="1341360"/>
            <a:ext cx="142560" cy="145800"/>
            <a:chOff x="9388440" y="1341360"/>
            <a:chExt cx="142560" cy="1458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9448200" y="1341360"/>
              <a:ext cx="82800" cy="73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9388440" y="1414440"/>
              <a:ext cx="117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9448200" y="1412640"/>
              <a:ext cx="82800" cy="74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9556920" y="1509840"/>
            <a:ext cx="141480" cy="145440"/>
            <a:chOff x="9556920" y="1509840"/>
            <a:chExt cx="141480" cy="14544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9621000" y="1509840"/>
              <a:ext cx="77400" cy="72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9556920" y="1582560"/>
              <a:ext cx="110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9621000" y="1580760"/>
              <a:ext cx="77400" cy="74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9174240" y="1623960"/>
            <a:ext cx="142560" cy="145800"/>
            <a:chOff x="9174240" y="1623960"/>
            <a:chExt cx="142560" cy="1458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9234000" y="1623960"/>
              <a:ext cx="82800" cy="73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9174240" y="1697040"/>
              <a:ext cx="117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9234000" y="1695240"/>
              <a:ext cx="82800" cy="74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7140240" y="6192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1007640" y="61920"/>
            <a:ext cx="61326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9493200" y="61920"/>
            <a:ext cx="503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1B35D4-5A36-4556-988B-403F76C1F967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48C3BC-43AD-41C9-982E-3027F819ECD3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1eeff"/>
                </a:solidFill>
                <a:latin typeface="Arial Black"/>
              </a:rPr>
              <a:t>Нижний Новгород</a:t>
            </a:r>
            <a:endParaRPr b="0" lang="en-US" sz="6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6" name="Picture 5" descr="Герб Нижегородской области"/>
          <p:cNvPicPr/>
          <p:nvPr/>
        </p:nvPicPr>
        <p:blipFill>
          <a:blip r:embed="rId1"/>
          <a:stretch/>
        </p:blipFill>
        <p:spPr>
          <a:xfrm>
            <a:off x="1511280" y="1201680"/>
            <a:ext cx="62658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        </a:t>
            </a: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Саров</a:t>
            </a:r>
            <a:endParaRPr b="0" lang="en-US" sz="8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4" name="Picture 2" descr="Саров"/>
          <p:cNvPicPr/>
          <p:nvPr/>
        </p:nvPicPr>
        <p:blipFill>
          <a:blip r:embed="rId1"/>
          <a:stretch/>
        </p:blipFill>
        <p:spPr>
          <a:xfrm>
            <a:off x="1727280" y="1619280"/>
            <a:ext cx="715644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8" name="Picture 5" descr="Нижний Новгород"/>
          <p:cNvPicPr/>
          <p:nvPr/>
        </p:nvPicPr>
        <p:blipFill>
          <a:blip r:embed="rId1"/>
          <a:stretch/>
        </p:blipFill>
        <p:spPr>
          <a:xfrm>
            <a:off x="1871640" y="0"/>
            <a:ext cx="612144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1eeff"/>
                </a:solidFill>
                <a:latin typeface="Arial Black"/>
              </a:rPr>
              <a:t>            </a:t>
            </a:r>
            <a:r>
              <a:rPr b="0" lang="ru-RU" sz="7200" spc="-1" strike="noStrike">
                <a:solidFill>
                  <a:srgbClr val="c1eeff"/>
                </a:solidFill>
                <a:latin typeface="Arial Black"/>
              </a:rPr>
              <a:t>Бор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Picture 2" descr="Бор"/>
          <p:cNvPicPr/>
          <p:nvPr/>
        </p:nvPicPr>
        <p:blipFill>
          <a:blip r:embed="rId1"/>
          <a:stretch/>
        </p:blipFill>
        <p:spPr>
          <a:xfrm>
            <a:off x="2879640" y="1908000"/>
            <a:ext cx="432144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     </a:t>
            </a: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Городец</a:t>
            </a:r>
            <a:endParaRPr b="0" lang="en-US" sz="8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2" name="Picture 2" descr="Городец"/>
          <p:cNvPicPr/>
          <p:nvPr/>
        </p:nvPicPr>
        <p:blipFill>
          <a:blip r:embed="rId1"/>
          <a:stretch/>
        </p:blipFill>
        <p:spPr>
          <a:xfrm>
            <a:off x="2664000" y="1763640"/>
            <a:ext cx="40320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      </a:t>
            </a: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Семенов</a:t>
            </a:r>
            <a:endParaRPr b="0" lang="en-US" sz="8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4" name="Picture 2" descr="Семенов"/>
          <p:cNvPicPr/>
          <p:nvPr/>
        </p:nvPicPr>
        <p:blipFill>
          <a:blip r:embed="rId1"/>
          <a:stretch/>
        </p:blipFill>
        <p:spPr>
          <a:xfrm>
            <a:off x="2664000" y="1763640"/>
            <a:ext cx="44640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1eeff"/>
                </a:solidFill>
                <a:latin typeface="Arial Black"/>
              </a:rPr>
              <a:t>     </a:t>
            </a:r>
            <a:r>
              <a:rPr b="0" lang="ru-RU" sz="8800" spc="-1" strike="noStrike">
                <a:solidFill>
                  <a:srgbClr val="c1eeff"/>
                </a:solidFill>
                <a:latin typeface="Arial Black"/>
              </a:rPr>
              <a:t>Починки</a:t>
            </a:r>
            <a:endParaRPr b="0" lang="en-US" sz="8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6" name="Picture 2" descr="Починки"/>
          <p:cNvPicPr/>
          <p:nvPr/>
        </p:nvPicPr>
        <p:blipFill>
          <a:blip r:embed="rId1"/>
          <a:stretch/>
        </p:blipFill>
        <p:spPr>
          <a:xfrm>
            <a:off x="2735280" y="1692360"/>
            <a:ext cx="4890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1eeff"/>
                </a:solidFill>
                <a:latin typeface="Arial Black"/>
              </a:rPr>
              <a:t>       </a:t>
            </a:r>
            <a:r>
              <a:rPr b="0" lang="ru-RU" sz="8800" spc="-1" strike="noStrike">
                <a:solidFill>
                  <a:srgbClr val="c1eeff"/>
                </a:solidFill>
                <a:latin typeface="Arial Black"/>
              </a:rPr>
              <a:t>Сергач</a:t>
            </a:r>
            <a:endParaRPr b="0" lang="en-US" sz="8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8" name="Picture 2" descr="Сергач"/>
          <p:cNvPicPr/>
          <p:nvPr/>
        </p:nvPicPr>
        <p:blipFill>
          <a:blip r:embed="rId1"/>
          <a:stretch/>
        </p:blipFill>
        <p:spPr>
          <a:xfrm>
            <a:off x="3024360" y="1692360"/>
            <a:ext cx="4464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1eeff"/>
                </a:solidFill>
                <a:latin typeface="Arial Black"/>
              </a:rPr>
              <a:t>     </a:t>
            </a:r>
            <a:r>
              <a:rPr b="0" lang="ru-RU" sz="7200" spc="-1" strike="noStrike">
                <a:solidFill>
                  <a:srgbClr val="c1eeff"/>
                </a:solidFill>
                <a:latin typeface="Arial Black"/>
              </a:rPr>
              <a:t>Дзержинск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0" name="Picture 2" descr="Дзержинск (Растяпино)"/>
          <p:cNvPicPr/>
          <p:nvPr/>
        </p:nvPicPr>
        <p:blipFill>
          <a:blip r:embed="rId1"/>
          <a:stretch/>
        </p:blipFill>
        <p:spPr>
          <a:xfrm>
            <a:off x="2592360" y="1619280"/>
            <a:ext cx="43927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      </a:t>
            </a: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Заволжье</a:t>
            </a:r>
            <a:endParaRPr b="0" lang="en-US" sz="8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2" name="Picture 2" descr="Заволжье"/>
          <p:cNvPicPr/>
          <p:nvPr/>
        </p:nvPicPr>
        <p:blipFill>
          <a:blip r:embed="rId1"/>
          <a:stretch/>
        </p:blipFill>
        <p:spPr>
          <a:xfrm>
            <a:off x="2952720" y="1692360"/>
            <a:ext cx="381636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</cp:lastModifiedBy>
  <dcterms:modified xsi:type="dcterms:W3CDTF">2017-01-23T22:01:41Z</dcterms:modified>
  <cp:revision>4</cp:revision>
  <dc:subject/>
  <dc:title>Нижний Новгород</dc:title>
</cp:coreProperties>
</file>