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dt" idx="2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F71BB-CE21-4BD2-8329-971F9E410F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CA405-C858-4B68-8814-3CBA7460FD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857-8DD8-451B-AD61-9FAFB624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952-A5AC-4816-8AC7-C2AF051C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820-569C-42D4-8819-0132087A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A92-A9A5-40C4-83E9-E79F91D2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A00C-D114-4265-8798-69C879A1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7555-0945-428E-B639-3B8ECB95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95E2-7AB6-4746-867E-D725E0E4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E654-8A5E-4B21-8BCF-BF005A23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AC8A-4981-430C-8C5B-C8EA3603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7F18-C544-4C39-A22E-D57E1FFC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5153-69EF-4A78-99DE-D5BE87AC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5E9-2253-4245-8C35-D595DD62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3CC8-D9F9-4BB5-828B-C3DFDD5C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6991-AFED-4FE1-872C-3667472F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39F7-9691-4083-8CD2-452F7A86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E95D-3FDB-46A7-A551-6AD64723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9237-B226-4C7C-980F-F2646C41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EE3F-4076-4253-8928-0FE20D17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FA7E2-7CA3-400B-8DD9-76BF3E77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0AC05-A46A-4041-8BC5-D3FD48DF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A14E5-509E-435F-8AAD-E94FDF59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BC79-341C-43A7-8D36-C8E8684D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6E3-7AD2-443C-9875-A5A3D409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91606-529D-4FF6-B711-224D63F6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A8D82-7EED-4947-994E-A546C7D0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861F9-37E4-481D-87A2-833E0F68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F4D9-517C-4588-8ED1-BB17ACE6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4D9D0-04C5-4B16-BE54-1ABDD458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29627-8BAB-4CFC-A812-1354F965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44B2E-FCE0-4FFE-BF28-1B2B3F85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788BE-D2F2-4578-BDAE-3EEA46EA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F7EB1-DD4A-487E-818F-C690A9CA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EA46A-3ECE-49A0-AE14-157404B4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F62-3159-4A75-8668-11AA3522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BECBE-CE79-44C5-9804-4F8B2A3B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E8FA6-2671-4B67-A09A-57D6F678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1BD1B-D89B-4CFC-BC4D-96673418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7656B-BD65-4E0B-8F3C-05C77CA3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2C406-00AA-4698-AD00-35F63FDC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8366A-8FF8-4DFF-B795-D53A1FC6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59A60-A001-4634-894A-8A0F8EC3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F0F32-3943-4595-B105-6BB5E502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F4D4F-C8AC-436B-8A3E-93C0A01E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91937-CB3C-4E35-B188-71BFBD27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2F8-4353-43D7-A80E-CC2152F5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9BBD1-DC44-4F3D-99F0-5B064815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B2D99-250E-4DB9-8366-7CDC25F5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5D13F-77D0-46C2-BEF2-F6B53EE8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0056D-126F-4DE6-98DB-7A0B0720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3F5DE-DC6D-459E-A828-B7A88E5F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A0626-6324-4BED-80A1-6CCA0169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D9BA0-BD85-48CB-B7C0-1335DE6B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F3B4E-AE33-432F-B53B-0E2FC99D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4A0E4-C357-4610-B16A-385AB6B2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176B8-A3BA-443F-961B-AEAF4199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DFE-A285-4A97-9DCC-2AB76561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FE600-6006-43E3-A12E-DFFEC9B2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42972-2AA3-4EB6-ACCC-FEF506E0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28714-5038-4E5E-B42C-FC03535D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6F06C-DA76-4CA5-9C35-AC76D6EA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6FD43-B439-493B-8D16-4EE0AE40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EE0A9-A408-4516-A842-3DBF36C5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A4EF8-BF41-40F3-AF24-00F84B42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EAF0F-2F0A-45BB-9C2E-4F8BC2DB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7C0CA-C1AA-4AE9-9BEA-AF00756C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DE02B-6189-4359-8C02-15A95A2B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0D8-A988-4883-9473-EE4F9B25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9BECA-D9C2-4305-AE71-F7680321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86B67-6C9A-4C5A-849A-E0995791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DC9D4-7D68-429B-9875-D2C417BD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31220-DEAF-44D2-B5B4-67B5D588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FA87A-62A5-4FE4-A450-A3BE039B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ED39D-DC46-4C83-9F5E-9B66E0B3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A642C-927E-45BC-839C-3F370578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D838A-FB38-4440-8A95-3BB010A3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EF6A6-384A-4DF6-B186-28B72736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0C26E-7CA3-4153-AB7C-CDDA5A05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CDFE-3887-4BFE-A9B0-C2C3B488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32A88-CBD0-4D2E-AB12-29448E14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20515-91F2-474C-A7B0-C4F5DFBE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3BC84-A7C9-4596-9BFB-94B9B6A6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8E1A4-D0E4-4395-BB7B-06995935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26342-6E1F-473C-9C7B-79BFFC91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04D2E-FA6C-4DB2-9D7F-798584A7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DD72D-D5C4-4C86-A422-4987412C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B1A14-1BE1-4274-9213-C150518E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F6922-F241-44A5-BD2A-876E9CF2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0479E-F3CF-47DC-8933-16BF1640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7A4A-0E3A-4AB0-9845-ABF2E069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08179-231B-4255-AC85-27D33A80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06D7A-BF99-48F9-91EB-EEA54C48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84EEE-AAA6-4283-A832-196FE5B2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5DDF8-A833-4A1F-93FE-C21DA5A1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273CD-82BF-4577-91A7-7AECD81A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A0755-A24B-4DCB-94B8-91FFF6E9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74632-0A7A-4CCC-9B24-8F9FDD87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C0C35A-3882-4809-8FC2-D6AD0857A62F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529B4B-51AC-4DEB-89CD-EEE68AEF092F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5322960" y="1184400"/>
            <a:ext cx="4765680" cy="6383160"/>
          </a:xfrm>
          <a:custGeom>
            <a:avLst/>
            <a:gdLst>
              <a:gd name="textAreaLeft" fmla="*/ 0 w 4765680"/>
              <a:gd name="textAreaRight" fmla="*/ 4766040 w 4765680"/>
              <a:gd name="textAreaTop" fmla="*/ 0 h 6383160"/>
              <a:gd name="textAreaBottom" fmla="*/ 6383520 h 638316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412920" y="0"/>
            <a:ext cx="6078240" cy="7291440"/>
          </a:xfrm>
          <a:custGeom>
            <a:avLst/>
            <a:gdLst>
              <a:gd name="textAreaLeft" fmla="*/ 0 w 6078240"/>
              <a:gd name="textAreaRight" fmla="*/ 6078600 w 6078240"/>
              <a:gd name="textAreaTop" fmla="*/ 0 h 7291440"/>
              <a:gd name="textAreaBottom" fmla="*/ 7291800 h 729144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919760" y="1635120"/>
            <a:ext cx="4535280" cy="1309680"/>
          </a:xfrm>
          <a:custGeom>
            <a:avLst/>
            <a:gdLst>
              <a:gd name="textAreaLeft" fmla="*/ 0 w 4535280"/>
              <a:gd name="textAreaRight" fmla="*/ 4535640 w 453528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6551640" y="0"/>
            <a:ext cx="3025800" cy="4703760"/>
          </a:xfrm>
          <a:custGeom>
            <a:avLst/>
            <a:gdLst>
              <a:gd name="textAreaLeft" fmla="*/ 0 w 3025800"/>
              <a:gd name="textAreaRight" fmla="*/ 3026160 w 3025800"/>
              <a:gd name="textAreaTop" fmla="*/ 0 h 4703760"/>
              <a:gd name="textAreaBottom" fmla="*/ 4703760 h 470376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6551640" y="4703760"/>
            <a:ext cx="3529080" cy="126036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6551640" y="0"/>
            <a:ext cx="1512720" cy="470376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4703760"/>
              <a:gd name="textAreaBottom" fmla="*/ 4703760 h 470376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6558120" y="4681440"/>
            <a:ext cx="2304720" cy="2878200"/>
          </a:xfrm>
          <a:custGeom>
            <a:avLst/>
            <a:gdLst>
              <a:gd name="textAreaLeft" fmla="*/ 0 w 2304720"/>
              <a:gd name="textAreaRight" fmla="*/ 2305080 w 2304720"/>
              <a:gd name="textAreaTop" fmla="*/ 0 h 2878200"/>
              <a:gd name="textAreaBottom" fmla="*/ 2878200 h 287820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6551640" y="4703760"/>
            <a:ext cx="1765440" cy="2855880"/>
          </a:xfrm>
          <a:custGeom>
            <a:avLst/>
            <a:gdLst>
              <a:gd name="textAreaLeft" fmla="*/ 0 w 1765440"/>
              <a:gd name="textAreaRight" fmla="*/ 1765800 w 176544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6551640" y="1511280"/>
            <a:ext cx="3529080" cy="319248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6551640" y="1932120"/>
            <a:ext cx="3529080" cy="277164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2771640"/>
              <a:gd name="textAreaBottom" fmla="*/ 2771640 h 277164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1092240" y="4703760"/>
            <a:ext cx="5459400" cy="2855880"/>
          </a:xfrm>
          <a:custGeom>
            <a:avLst/>
            <a:gdLst>
              <a:gd name="textAreaLeft" fmla="*/ 0 w 5459400"/>
              <a:gd name="textAreaRight" fmla="*/ 5459760 w 545940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87520" y="4703760"/>
            <a:ext cx="5881680" cy="2855880"/>
          </a:xfrm>
          <a:custGeom>
            <a:avLst/>
            <a:gdLst>
              <a:gd name="textAreaLeft" fmla="*/ 0 w 5881680"/>
              <a:gd name="textAreaRight" fmla="*/ 5882040 w 5881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404640" y="2687760"/>
            <a:ext cx="6216840" cy="2016000"/>
          </a:xfrm>
          <a:custGeom>
            <a:avLst/>
            <a:gdLst>
              <a:gd name="textAreaLeft" fmla="*/ 0 w 6216840"/>
              <a:gd name="textAreaRight" fmla="*/ 6217200 w 621684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404640" y="2352600"/>
            <a:ext cx="6216840" cy="2351160"/>
          </a:xfrm>
          <a:custGeom>
            <a:avLst/>
            <a:gdLst>
              <a:gd name="textAreaLeft" fmla="*/ 0 w 6216840"/>
              <a:gd name="textAreaRight" fmla="*/ 6217200 w 6216840"/>
              <a:gd name="textAreaTop" fmla="*/ 0 h 2351160"/>
              <a:gd name="textAreaBottom" fmla="*/ 2351520 h 23511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5040360" y="4703760"/>
            <a:ext cx="1511280" cy="28558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99960" y="442800"/>
            <a:ext cx="9375840" cy="97812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40896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52520" y="750960"/>
            <a:ext cx="316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92840" y="750960"/>
            <a:ext cx="111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525600" y="750960"/>
            <a:ext cx="93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52600" y="750960"/>
            <a:ext cx="3960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6DACC5-6BED-459C-8D6D-03D88F8E077B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7D7A9D-CBB0-4ECA-8D95-0364617180D6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42800"/>
            <a:ext cx="9775800" cy="97812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96840" y="750960"/>
            <a:ext cx="507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52560" y="750960"/>
            <a:ext cx="2988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31680" y="750960"/>
            <a:ext cx="972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750960"/>
            <a:ext cx="93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64520" y="750960"/>
            <a:ext cx="2988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208080" y="750960"/>
            <a:ext cx="3168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48400" y="750960"/>
            <a:ext cx="111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81160" y="750960"/>
            <a:ext cx="93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307800" y="750960"/>
            <a:ext cx="399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4CDD8A-8C47-4977-90FC-430775CF519B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8C2D83-213C-48D5-916B-6393CF6639E9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406440" y="0"/>
            <a:ext cx="9677520" cy="20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99960" y="2077920"/>
            <a:ext cx="9682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9388440" y="1341360"/>
            <a:ext cx="142560" cy="145800"/>
            <a:chOff x="9388440" y="1341360"/>
            <a:chExt cx="142560" cy="1458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9448200" y="1341360"/>
              <a:ext cx="82800" cy="73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9388440" y="1414440"/>
              <a:ext cx="117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9448200" y="1412640"/>
              <a:ext cx="82800" cy="74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9556920" y="1509840"/>
            <a:ext cx="141480" cy="145440"/>
            <a:chOff x="9556920" y="1509840"/>
            <a:chExt cx="141480" cy="14544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9621000" y="1509840"/>
              <a:ext cx="77400" cy="72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9556920" y="1582560"/>
              <a:ext cx="110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9621000" y="1580760"/>
              <a:ext cx="77400" cy="74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9174240" y="1623960"/>
            <a:ext cx="142560" cy="145800"/>
            <a:chOff x="9174240" y="1623960"/>
            <a:chExt cx="142560" cy="1458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9234000" y="1623960"/>
              <a:ext cx="82800" cy="73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9174240" y="1697040"/>
              <a:ext cx="117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9234000" y="1695240"/>
              <a:ext cx="82800" cy="74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7140240" y="61920"/>
            <a:ext cx="23526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1007640" y="61920"/>
            <a:ext cx="61326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9493200" y="61920"/>
            <a:ext cx="503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7FE590-C9CD-45A3-9CF2-0CFD7F55E1B3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2B8E98-6C4B-403A-B543-26D15C64CE39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1eeff"/>
                </a:solidFill>
                <a:latin typeface="Arial Black"/>
              </a:rPr>
              <a:t>Нижний Новгород</a:t>
            </a:r>
            <a:endParaRPr b="0" lang="en-US" sz="6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6" name="Picture 5" descr="Герб Нижегородской области"/>
          <p:cNvPicPr/>
          <p:nvPr/>
        </p:nvPicPr>
        <p:blipFill>
          <a:blip r:embed="rId1"/>
          <a:stretch/>
        </p:blipFill>
        <p:spPr>
          <a:xfrm>
            <a:off x="1511280" y="1201680"/>
            <a:ext cx="62658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1eeff"/>
                </a:solidFill>
                <a:latin typeface="Arial Black"/>
              </a:rPr>
              <a:t>        </a:t>
            </a:r>
            <a:r>
              <a:rPr b="0" lang="ru-RU" sz="8000" spc="-1" strike="noStrike">
                <a:solidFill>
                  <a:srgbClr val="c1eeff"/>
                </a:solidFill>
                <a:latin typeface="Arial Black"/>
              </a:rPr>
              <a:t>Саров</a:t>
            </a:r>
            <a:endParaRPr b="0" lang="en-US" sz="8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44" name="Picture 2" descr="Саров"/>
          <p:cNvPicPr/>
          <p:nvPr/>
        </p:nvPicPr>
        <p:blipFill>
          <a:blip r:embed="rId1"/>
          <a:stretch/>
        </p:blipFill>
        <p:spPr>
          <a:xfrm>
            <a:off x="1727280" y="1619280"/>
            <a:ext cx="715644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8" name="Picture 5" descr="Нижний Новгород"/>
          <p:cNvPicPr/>
          <p:nvPr/>
        </p:nvPicPr>
        <p:blipFill>
          <a:blip r:embed="rId1"/>
          <a:stretch/>
        </p:blipFill>
        <p:spPr>
          <a:xfrm>
            <a:off x="1871640" y="0"/>
            <a:ext cx="612144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1eeff"/>
                </a:solidFill>
                <a:latin typeface="Arial Black"/>
              </a:rPr>
              <a:t>            </a:t>
            </a:r>
            <a:r>
              <a:rPr b="0" lang="ru-RU" sz="7200" spc="-1" strike="noStrike">
                <a:solidFill>
                  <a:srgbClr val="c1eeff"/>
                </a:solidFill>
                <a:latin typeface="Arial Black"/>
              </a:rPr>
              <a:t>Бор</a:t>
            </a: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0" name="Picture 2" descr="Бор"/>
          <p:cNvPicPr/>
          <p:nvPr/>
        </p:nvPicPr>
        <p:blipFill>
          <a:blip r:embed="rId1"/>
          <a:stretch/>
        </p:blipFill>
        <p:spPr>
          <a:xfrm>
            <a:off x="2879640" y="1908000"/>
            <a:ext cx="4321440" cy="55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1eeff"/>
                </a:solidFill>
                <a:latin typeface="Arial Black"/>
              </a:rPr>
              <a:t>     </a:t>
            </a:r>
            <a:r>
              <a:rPr b="0" lang="ru-RU" sz="8000" spc="-1" strike="noStrike">
                <a:solidFill>
                  <a:srgbClr val="c1eeff"/>
                </a:solidFill>
                <a:latin typeface="Arial Black"/>
              </a:rPr>
              <a:t>Городец</a:t>
            </a:r>
            <a:endParaRPr b="0" lang="en-US" sz="8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2" name="Picture 2" descr="Городец"/>
          <p:cNvPicPr/>
          <p:nvPr/>
        </p:nvPicPr>
        <p:blipFill>
          <a:blip r:embed="rId1"/>
          <a:stretch/>
        </p:blipFill>
        <p:spPr>
          <a:xfrm>
            <a:off x="2664000" y="1763640"/>
            <a:ext cx="40320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1eeff"/>
                </a:solidFill>
                <a:latin typeface="Arial Black"/>
              </a:rPr>
              <a:t>      </a:t>
            </a:r>
            <a:r>
              <a:rPr b="0" lang="ru-RU" sz="8000" spc="-1" strike="noStrike">
                <a:solidFill>
                  <a:srgbClr val="c1eeff"/>
                </a:solidFill>
                <a:latin typeface="Arial Black"/>
              </a:rPr>
              <a:t>Семенов</a:t>
            </a:r>
            <a:endParaRPr b="0" lang="en-US" sz="8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4" name="Picture 2" descr="Семенов"/>
          <p:cNvPicPr/>
          <p:nvPr/>
        </p:nvPicPr>
        <p:blipFill>
          <a:blip r:embed="rId1"/>
          <a:stretch/>
        </p:blipFill>
        <p:spPr>
          <a:xfrm>
            <a:off x="2664000" y="1763640"/>
            <a:ext cx="44640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1eeff"/>
                </a:solidFill>
                <a:latin typeface="Arial Black"/>
              </a:rPr>
              <a:t>     </a:t>
            </a:r>
            <a:r>
              <a:rPr b="0" lang="ru-RU" sz="8800" spc="-1" strike="noStrike">
                <a:solidFill>
                  <a:srgbClr val="c1eeff"/>
                </a:solidFill>
                <a:latin typeface="Arial Black"/>
              </a:rPr>
              <a:t>Починки</a:t>
            </a:r>
            <a:endParaRPr b="0" lang="en-US" sz="8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6" name="Picture 2" descr="Починки"/>
          <p:cNvPicPr/>
          <p:nvPr/>
        </p:nvPicPr>
        <p:blipFill>
          <a:blip r:embed="rId1"/>
          <a:stretch/>
        </p:blipFill>
        <p:spPr>
          <a:xfrm>
            <a:off x="2735280" y="1692360"/>
            <a:ext cx="4890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1eeff"/>
                </a:solidFill>
                <a:latin typeface="Arial Black"/>
              </a:rPr>
              <a:t>       </a:t>
            </a:r>
            <a:r>
              <a:rPr b="0" lang="ru-RU" sz="8800" spc="-1" strike="noStrike">
                <a:solidFill>
                  <a:srgbClr val="c1eeff"/>
                </a:solidFill>
                <a:latin typeface="Arial Black"/>
              </a:rPr>
              <a:t>Сергач</a:t>
            </a:r>
            <a:endParaRPr b="0" lang="en-US" sz="8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8" name="Picture 2" descr="Сергач"/>
          <p:cNvPicPr/>
          <p:nvPr/>
        </p:nvPicPr>
        <p:blipFill>
          <a:blip r:embed="rId1"/>
          <a:stretch/>
        </p:blipFill>
        <p:spPr>
          <a:xfrm>
            <a:off x="3024360" y="1692360"/>
            <a:ext cx="446400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1eeff"/>
                </a:solidFill>
                <a:latin typeface="Arial Black"/>
              </a:rPr>
              <a:t>     </a:t>
            </a:r>
            <a:r>
              <a:rPr b="0" lang="ru-RU" sz="7200" spc="-1" strike="noStrike">
                <a:solidFill>
                  <a:srgbClr val="c1eeff"/>
                </a:solidFill>
                <a:latin typeface="Arial Black"/>
              </a:rPr>
              <a:t>Дзержинск</a:t>
            </a: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40" name="Picture 2" descr="Дзержинск (Растяпино)"/>
          <p:cNvPicPr/>
          <p:nvPr/>
        </p:nvPicPr>
        <p:blipFill>
          <a:blip r:embed="rId1"/>
          <a:stretch/>
        </p:blipFill>
        <p:spPr>
          <a:xfrm>
            <a:off x="2592360" y="1619280"/>
            <a:ext cx="439272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1eeff"/>
                </a:solidFill>
                <a:latin typeface="Arial Black"/>
              </a:rPr>
              <a:t>      </a:t>
            </a:r>
            <a:r>
              <a:rPr b="0" lang="ru-RU" sz="8000" spc="-1" strike="noStrike">
                <a:solidFill>
                  <a:srgbClr val="c1eeff"/>
                </a:solidFill>
                <a:latin typeface="Arial Black"/>
              </a:rPr>
              <a:t>Заволжье</a:t>
            </a:r>
            <a:endParaRPr b="0" lang="en-US" sz="8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42" name="Picture 2" descr="Заволжье"/>
          <p:cNvPicPr/>
          <p:nvPr/>
        </p:nvPicPr>
        <p:blipFill>
          <a:blip r:embed="rId1"/>
          <a:stretch/>
        </p:blipFill>
        <p:spPr>
          <a:xfrm>
            <a:off x="2952720" y="1692360"/>
            <a:ext cx="381636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</cp:lastModifiedBy>
  <dcterms:modified xsi:type="dcterms:W3CDTF">2017-01-23T22:01:41Z</dcterms:modified>
  <cp:revision>4</cp:revision>
  <dc:subject/>
  <dc:title>Нижний Новгород</dc:title>
</cp:coreProperties>
</file>