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23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CC65-23C8-449A-8DA4-063E4177AD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C5F3-9EBB-49D0-B757-D8E1C4A50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ECB-1BE2-4832-A71B-F2CAB05C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E72-2984-4562-9190-9D252B59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D15B94-D823-4CCA-82C3-3EB0C4BD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74D61C-EBBE-49EB-ABD7-2A4A7197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57B466-E82C-4330-892F-9B2F1B92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DEA43C-D6A7-4F2E-82E4-B237178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EF79A1-CFF8-4CB6-AA07-9EF8FC75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F57BAA-25D0-4A12-B820-6CEA818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A6DEF2-69D6-4EB7-8F61-E7DF4978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9D76C7-DFA2-4E05-8D19-104D1A16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C4EA4D-C8BE-41A8-A5AE-B7FFB248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CF7119-DC44-4473-B457-0A9B2881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B34-1A7F-486D-91EB-7B1D031F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09D982-795C-4143-A33D-8FF91202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547605-A364-42D7-A655-C92AEEB3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E29CD1-45B9-400F-B8BB-86FA69C5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377DD5-188B-4640-8BBE-E3C1FBCD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6DD95C-1D79-4CFB-8ED1-0C1128F3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B82C44-6298-434E-9347-141B5F6A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094F44-94A9-49E8-80C9-AE0A90FB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D5A1AD-9842-4BDE-BC51-B8562A59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6D3727-BF09-4954-8963-8F136330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42CC8C-C549-4C13-A8C8-F407285B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D74-DCC3-4646-97CF-83F92EB4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638A27-B015-4FEA-B6F6-EE2229D3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08838-82B0-40E5-8E4C-FB751DA7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05D8F-3C23-4A9C-9F1C-A318D503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94C94-DD17-4FD2-90F5-C5C5ABB0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EC290-4F08-49BD-BFC7-A004BED6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1FD99-01F8-4037-91B5-D7F514EE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920A5-CA7F-43BF-99F7-3F16FB2B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5BCEA-2891-4D89-A6E1-6502A2F0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53663-42C8-48C9-B083-74BE81BD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D337A-BFE2-46E7-9E93-63FAFC6E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AB2B-DFF1-4EA7-8705-D8E40ACA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FBE8A-B599-42EC-8248-E28AE849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D1AB0-9C24-41EC-B32F-96B68F2B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75D4D-FBBB-43FB-86EC-549F4DD5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CE265-12E3-4AE0-9105-9DBB86E0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C7DC1-081A-48B1-96D9-E4BF7E49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73FED-C650-427E-AB19-819C2663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9563D-8D7A-4E84-9C24-48AAA021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9AB84-D355-446E-B875-2DAE6DD4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90177-8177-4C8C-83C6-D3D8A4FF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BBE70-117C-4C1E-A2EB-EFE7FEC1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ECD1-53AD-44DA-BCC8-F5C7BE5B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2026A-526E-4BB2-89EC-04FB4A47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DFF35-B11E-4E04-90D7-CF415838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A83F5-7246-4A94-9ADB-0F7D6B2A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0D264-1A71-4463-A0EC-C81A78F8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D4949-43E4-4381-AF76-D12B5185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197A-9D55-4EF7-92C4-9BCE0E95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1A62-4C0F-4F95-95E8-FAF0BC52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BA59-86D5-4589-8573-3A0C8A55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E10C-950C-42FD-A860-8CCF6FE1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4F29-5253-4DEE-A142-C3213F6A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FDC-15C8-429E-8AA0-87CDE8B4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6C41-685C-40D6-90C5-6BAD983A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98E8-87BD-49DD-BFAA-B457C8B7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9CF2-0B97-4E0C-9CDF-64693A9D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400B-DD2D-4B92-AEE6-BF6EA4CC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08E5-5F01-4886-8A20-5D5AD6CD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1F20B-A7B9-451E-AD02-812AB1FE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B80F9-6182-4380-AE9E-568457E1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A800F-AD35-4366-9315-0D72C06E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882AD-BEAF-4BFA-BEF7-2A37BE62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75896-9359-47AE-AEE2-C609717E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A8C-F64B-4369-9537-831A2160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70CBD-27F8-4227-85A9-C810B5C8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7241A-EFF4-493C-8604-42B9C5C0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5D54A-4A49-44B0-9B33-EE726F1F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EBB71-A77D-4982-888B-46F1B4F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59224-6C3E-45B3-9A02-1A6A4FE8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E4769-1963-4DEC-96FA-C0C7BD8D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FE394-356C-4F17-8924-6EF5130B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ADAD1-6AB7-4CE7-8826-2E94F8AF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06921-B982-48B9-8174-CD28A8AE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68239-4BE3-484D-98AB-F3EADC0B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581-C278-4453-9BB5-6449D4E9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18AC3-8F46-49AA-A7A6-95BE7013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C942C-1492-4609-8F50-EAEE49E5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CA994-8E34-4B6F-A83F-60562041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602B6-5D6D-43E0-B400-814A6555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9ACA-6887-4519-9654-89D9D435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3BB7-4DEB-47A5-B976-BD3398C1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AC30F-B0AB-4E3C-BD51-A85C7239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F39B6-344D-43EA-ACB6-86F094C6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11D60-8170-4DB7-8D8E-B53AA0BD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0637-90E3-41F6-97C8-8130E588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09C-DD0A-4E84-B3EF-39DA2DF2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12FF-D94D-4612-A9F1-CAABD3CD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0CA71-64EA-472C-9617-992CB507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823B8-8E17-4561-A943-D887BDFB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DAA62-6B7F-462F-98AC-00126D12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4911E-1F14-4829-8F75-AD8729AF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D05B3-7426-4152-8AF8-83D1322E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08E79-2ED2-4F06-9399-B4669181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5032-4AC1-4633-A824-18AD314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3DD37-1FE1-4D59-A983-DFBD3C03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564C8-D213-438F-9E75-B53A44FB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6AB-4F65-4811-9D19-D6F8A632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F6C89-4B65-484A-B4E9-56568C79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9995-1249-48FA-9465-603BE8B7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BDE32-B85B-45AF-ACE0-B3B9DAD4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929B1-10E4-4F89-B3D6-24DC35F9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54177-832B-4B10-ACBC-15366C5D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2391B-012E-4F2E-B295-EB7BD4FF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417AB-E6C4-429A-A699-70D8B5EB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E990C-45B1-4032-95FB-AA0E9A13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0F207-5ACE-446A-A162-20B420A3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76312-8EEB-4453-B25B-2DD82912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BAF-9D2B-42A8-BA0A-5F0DFA16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4B5F9-311A-4F6F-B339-68679AF1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7ACC9-86CA-4E65-8ECE-FD41DAFF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B01C-B91C-4CC5-8942-4937495C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375BE-14B3-4B55-BB58-492B2E46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55E81-F71D-40CD-91E3-398840D1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16D45-9FAF-4747-8216-388872EA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02DEB-F37A-4CAB-85D8-57CAC4EB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4C267-2202-42F0-8662-5DA584FC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913F58-1687-44B0-B971-5FB86AF6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AF1E9-D1D7-46F9-8BF4-82DBF6BE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314-A24F-4B64-A649-996228F2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7EFD2A-E4AC-44AD-8C8D-D5CF6AFF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3F672D-074F-44E4-9604-493F99A9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309CC-7598-4174-82B5-00DA82D6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2FBE1-EEC8-4A27-AF76-E04E9A85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00FCE-65BA-409F-A09A-C1DB4BA3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F8400-C052-4C74-869B-8E7303FF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7983C-385B-4245-ADBB-76A095F3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E2B77-AA64-4621-B918-03BA424A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56C23-D923-4D5C-960D-C87F3742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BD66A-7A93-45CC-8C0A-CB8135C8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486-62AD-4CD5-9877-1FFA5733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DDB45-9D10-4DDF-8081-F2655486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5E9C4-6EBC-4652-9750-A955472E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F331E-E6E5-472F-A80F-A6FFD243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3C2AE-A5C0-4818-AD1F-A50F3921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B0F57-7F65-4AE6-8744-E3A4F1D3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C113F-7F5A-4890-9D2B-58984243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F7109-5127-4C89-B6F7-E63BF06E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0001E4-5079-486E-9DB0-EFBBC8E8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B7F391-98E7-4041-A21B-55A7FC90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5F061D-C760-4CE7-9C1F-02023DC4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BA8C-5EEB-48D0-840A-DF06B124DF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7D04-BED1-4B00-81BB-4881E30F40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46EC-CAED-4F3C-9BB1-385C721A08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4973-A9EA-4CA5-8710-4DB08BCBBA3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8399-E8F2-423E-B85D-07C398AF26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9143-86A5-4E3B-84ED-55B9732B93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CFFD-9AEE-4AC1-8CB0-21FE4256A2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4EAB-CC0A-411C-9627-AA386921C4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B74B-07A9-40D5-B424-D91511E1AE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7123-878C-4766-8E2F-36A612F3761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3C25-D3CF-4C83-8627-1D4C3944AA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C552-E1D6-44B9-B998-93A2A7F82D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pedgazeta.ru/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47280" y="1628280"/>
            <a:ext cx="61722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ИСПОЛЬЗОВАНИЕ ИНФОРМАЦИОННО-КОММУНИКАЦИОННЫХ ТЕХНОЛОГИЙ В РАБОТЕ МУЗЫКАЛЬНОГО РУКОВОДИТЕЛ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1187280" y="244440"/>
            <a:ext cx="6158160" cy="4105440"/>
          </a:xfrm>
          <a:prstGeom prst="rect">
            <a:avLst/>
          </a:prstGeom>
          <a:ln w="0">
            <a:noFill/>
          </a:ln>
        </p:spPr>
      </p:pic>
      <p:sp>
        <p:nvSpPr>
          <p:cNvPr id="585" name="TextBox 2"/>
          <p:cNvSpPr/>
          <p:nvPr/>
        </p:nvSpPr>
        <p:spPr>
          <a:xfrm>
            <a:off x="1655640" y="49417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Видео профессионального исполнения та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9" descr="D:\Pictures\музыка\иллюстрации музыкальные\сказка о нотках\сказка о нотках\2699-3.gif"/>
          <p:cNvPicPr/>
          <p:nvPr/>
        </p:nvPicPr>
        <p:blipFill>
          <a:blip r:embed="rId1"/>
          <a:stretch/>
        </p:blipFill>
        <p:spPr>
          <a:xfrm>
            <a:off x="0" y="33336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C:\Users\Ирина\Pictures\матрешки.png"/>
          <p:cNvPicPr/>
          <p:nvPr/>
        </p:nvPicPr>
        <p:blipFill>
          <a:blip r:embed="rId2"/>
          <a:stretch/>
        </p:blipFill>
        <p:spPr>
          <a:xfrm>
            <a:off x="6373800" y="333360"/>
            <a:ext cx="2770200" cy="36003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2592360" cy="20606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D:\Pictures\музыка\иллюстрации музыкальные\сказка о нотках\сказка о нотках\2673.gif"/>
          <p:cNvPicPr/>
          <p:nvPr/>
        </p:nvPicPr>
        <p:blipFill>
          <a:blip r:embed="rId4"/>
          <a:stretch/>
        </p:blipFill>
        <p:spPr>
          <a:xfrm>
            <a:off x="1547640" y="184464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"/>
          <p:cNvPicPr/>
          <p:nvPr/>
        </p:nvPicPr>
        <p:blipFill>
          <a:blip r:embed="rId5"/>
          <a:stretch/>
        </p:blipFill>
        <p:spPr>
          <a:xfrm>
            <a:off x="6012000" y="4653000"/>
            <a:ext cx="2832120" cy="1871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6"/>
          <a:stretch/>
        </p:blipFill>
        <p:spPr>
          <a:xfrm>
            <a:off x="4284720" y="3429000"/>
            <a:ext cx="2609640" cy="1700280"/>
          </a:xfrm>
          <a:prstGeom prst="rect">
            <a:avLst/>
          </a:prstGeom>
          <a:ln w="0">
            <a:noFill/>
          </a:ln>
        </p:spPr>
      </p:pic>
      <p:sp>
        <p:nvSpPr>
          <p:cNvPr id="592" name="TextBox 9"/>
          <p:cNvSpPr/>
          <p:nvPr/>
        </p:nvSpPr>
        <p:spPr>
          <a:xfrm>
            <a:off x="2627280" y="333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Музыкально-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Рисунок 3" descr="Лисенок copy"/>
          <p:cNvPicPr/>
          <p:nvPr/>
        </p:nvPicPr>
        <p:blipFill>
          <a:blip r:embed="rId1"/>
          <a:stretch/>
        </p:blipFill>
        <p:spPr>
          <a:xfrm>
            <a:off x="250920" y="260280"/>
            <a:ext cx="3065400" cy="215892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4" descr="Медведь+удочка copy"/>
          <p:cNvPicPr/>
          <p:nvPr/>
        </p:nvPicPr>
        <p:blipFill>
          <a:blip r:embed="rId2"/>
          <a:stretch/>
        </p:blipFill>
        <p:spPr>
          <a:xfrm>
            <a:off x="3492360" y="907920"/>
            <a:ext cx="1871640" cy="26542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"/>
          <p:cNvPicPr/>
          <p:nvPr/>
        </p:nvPicPr>
        <p:blipFill>
          <a:blip r:embed="rId3"/>
          <a:stretch/>
        </p:blipFill>
        <p:spPr>
          <a:xfrm>
            <a:off x="5148360" y="4005360"/>
            <a:ext cx="3341520" cy="2361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D:\Pictures\музыка\иллюстрации музыкальные\2929039.jpg"/>
          <p:cNvPicPr/>
          <p:nvPr/>
        </p:nvPicPr>
        <p:blipFill>
          <a:blip r:embed="rId4"/>
          <a:stretch/>
        </p:blipFill>
        <p:spPr>
          <a:xfrm>
            <a:off x="5580000" y="549360"/>
            <a:ext cx="3216240" cy="2413080"/>
          </a:xfrm>
          <a:prstGeom prst="rect">
            <a:avLst/>
          </a:prstGeom>
          <a:ln w="0">
            <a:noFill/>
          </a:ln>
        </p:spPr>
      </p:pic>
      <p:sp>
        <p:nvSpPr>
          <p:cNvPr id="597" name="TextBox 7"/>
          <p:cNvSpPr/>
          <p:nvPr/>
        </p:nvSpPr>
        <p:spPr>
          <a:xfrm>
            <a:off x="3743280" y="260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Century Schoolbook"/>
              </a:rPr>
              <a:t>П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7" descr=""/>
          <p:cNvPicPr/>
          <p:nvPr/>
        </p:nvPicPr>
        <p:blipFill>
          <a:blip r:embed="rId5"/>
          <a:stretch/>
        </p:blipFill>
        <p:spPr>
          <a:xfrm>
            <a:off x="395280" y="3706920"/>
            <a:ext cx="3672000" cy="2673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98640" cy="1943280"/>
          </a:xfrm>
          <a:prstGeom prst="rect">
            <a:avLst/>
          </a:prstGeom>
          <a:ln w="0">
            <a:noFill/>
          </a:ln>
        </p:spPr>
      </p:pic>
      <p:sp>
        <p:nvSpPr>
          <p:cNvPr id="600" name="TextBox 4"/>
          <p:cNvSpPr/>
          <p:nvPr/>
        </p:nvSpPr>
        <p:spPr>
          <a:xfrm>
            <a:off x="0" y="2852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Интернет-ресурсы в помощь музыкальному руковод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6"/>
          <p:cNvSpPr/>
          <p:nvPr/>
        </p:nvSpPr>
        <p:spPr>
          <a:xfrm>
            <a:off x="0" y="227664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ea typeface="Times New Roman"/>
                <a:hlinkClick r:id="rId2"/>
              </a:rPr>
              <a:t>http://pedgazeta.ru/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Рисунок 10" descr=""/>
          <p:cNvPicPr/>
          <p:nvPr/>
        </p:nvPicPr>
        <p:blipFill>
          <a:blip r:embed="rId3"/>
          <a:srcRect l="-984" t="0" r="0" b="0"/>
          <a:stretch/>
        </p:blipFill>
        <p:spPr>
          <a:xfrm>
            <a:off x="2556000" y="333360"/>
            <a:ext cx="2808000" cy="1943280"/>
          </a:xfrm>
          <a:prstGeom prst="rect">
            <a:avLst/>
          </a:prstGeom>
          <a:ln w="0">
            <a:noFill/>
          </a:ln>
        </p:spPr>
      </p:pic>
      <p:sp>
        <p:nvSpPr>
          <p:cNvPr id="603" name="Прямоугольник 12"/>
          <p:cNvSpPr/>
          <p:nvPr/>
        </p:nvSpPr>
        <p:spPr>
          <a:xfrm>
            <a:off x="2709720" y="234936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ttp://pedmir.ru/about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14"/>
          <p:cNvSpPr/>
          <p:nvPr/>
        </p:nvSpPr>
        <p:spPr>
          <a:xfrm>
            <a:off x="6026760" y="234936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ttp://numi.ru/index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Рисунок 15" descr=""/>
          <p:cNvPicPr/>
          <p:nvPr/>
        </p:nvPicPr>
        <p:blipFill>
          <a:blip r:embed="rId4"/>
          <a:stretch/>
        </p:blipFill>
        <p:spPr>
          <a:xfrm>
            <a:off x="5651640" y="404640"/>
            <a:ext cx="3205080" cy="1800360"/>
          </a:xfrm>
          <a:prstGeom prst="rect">
            <a:avLst/>
          </a:prstGeom>
          <a:ln w="0">
            <a:noFill/>
          </a:ln>
        </p:spPr>
      </p:pic>
      <p:pic>
        <p:nvPicPr>
          <p:cNvPr id="606" name="Рисунок 16" descr=""/>
          <p:cNvPicPr/>
          <p:nvPr/>
        </p:nvPicPr>
        <p:blipFill>
          <a:blip r:embed="rId5"/>
          <a:stretch/>
        </p:blipFill>
        <p:spPr>
          <a:xfrm>
            <a:off x="395280" y="3933720"/>
            <a:ext cx="3745080" cy="2016360"/>
          </a:xfrm>
          <a:prstGeom prst="rect">
            <a:avLst/>
          </a:prstGeom>
          <a:ln w="0">
            <a:noFill/>
          </a:ln>
        </p:spPr>
      </p:pic>
      <p:sp>
        <p:nvSpPr>
          <p:cNvPr id="607" name="Прямоугольник 17"/>
          <p:cNvSpPr/>
          <p:nvPr/>
        </p:nvSpPr>
        <p:spPr>
          <a:xfrm>
            <a:off x="416880" y="609300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ttp://borovik.ucoz.ru/forum/0-0-1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Рисунок 19" descr=""/>
          <p:cNvPicPr/>
          <p:nvPr/>
        </p:nvPicPr>
        <p:blipFill>
          <a:blip r:embed="rId6"/>
          <a:stretch/>
        </p:blipFill>
        <p:spPr>
          <a:xfrm>
            <a:off x="4859280" y="3933720"/>
            <a:ext cx="3816360" cy="215928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20"/>
          <p:cNvSpPr/>
          <p:nvPr/>
        </p:nvSpPr>
        <p:spPr>
          <a:xfrm>
            <a:off x="4875120" y="609300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ttp://www.musical-sad.ru/index/0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642600" y="571320"/>
            <a:ext cx="746748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entury Schoolbook"/>
              </a:rPr>
              <a:t>Использование ИКТ в музыкальном воспитании дошкольников </a:t>
            </a: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-это только средство для реализации целей и задач, поставленных перед педагого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entury Schoolbook"/>
              </a:rPr>
              <a:t>Главенствующая роль в музыкальном воспитании всегда останется за музыкальным руководителем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214200"/>
            <a:ext cx="836280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«Каждый участник образовательного процесса сам решает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идти в ногу с будущи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или вышагивать пятками назад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Анатолий Гин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entury Schoolbook"/>
              </a:rPr>
              <a:t>( Руководитель международной Лаборатори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entury Schoolbook"/>
              </a:rPr>
              <a:t>технологий «Образование для Новой  Эры»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4" name="Рисунок 5" descr="ноут.png"/>
          <p:cNvPicPr/>
          <p:nvPr/>
        </p:nvPicPr>
        <p:blipFill>
          <a:blip r:embed="rId1"/>
          <a:stretch/>
        </p:blipFill>
        <p:spPr>
          <a:xfrm>
            <a:off x="971640" y="3213000"/>
            <a:ext cx="3227400" cy="3338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0" y="1268280"/>
            <a:ext cx="914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44583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244583"/>
                </a:solidFill>
                <a:latin typeface="Century Schoolbook"/>
              </a:rPr>
              <a:t>Использование информационных технологий позволяет эффективней развивать все виды восприятия у детей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4583"/>
                </a:solidFill>
                <a:latin typeface="Century Schoolbook"/>
              </a:rPr>
              <a:t>зрительного, слухового, чувственного, </a:t>
            </a:r>
            <a:r>
              <a:rPr b="0" lang="ru-RU" sz="3200" spc="-1" strike="noStrike">
                <a:solidFill>
                  <a:srgbClr val="244583"/>
                </a:solidFill>
                <a:latin typeface="Century Schoolbook"/>
              </a:rPr>
              <a:t>задействовать на занятии все виды памяти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4583"/>
                </a:solidFill>
                <a:latin typeface="Century Schoolbook"/>
              </a:rPr>
              <a:t>зрительную, слуховую, образную, ассоциативную и др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Содержимое 3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1"/>
          <p:cNvSpPr/>
          <p:nvPr/>
        </p:nvSpPr>
        <p:spPr>
          <a:xfrm>
            <a:off x="395280" y="333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Использование компьютерных презентаций в досугов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rcRect l="0" t="-389" r="0" b="-389"/>
          <a:stretch/>
        </p:blipFill>
        <p:spPr>
          <a:xfrm>
            <a:off x="755640" y="1413000"/>
            <a:ext cx="3024360" cy="2325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http://img0.liveinternet.ru/images/attach/b/2/24/500/24500432_pobeda01_copy.gif"/>
          <p:cNvPicPr/>
          <p:nvPr/>
        </p:nvPicPr>
        <p:blipFill>
          <a:blip r:embed="rId2">
            <a:lum contrast="6000"/>
          </a:blip>
          <a:srcRect l="1074" t="0" r="0" b="0"/>
          <a:stretch/>
        </p:blipFill>
        <p:spPr>
          <a:xfrm>
            <a:off x="5219640" y="4292640"/>
            <a:ext cx="3471840" cy="23367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"/>
          <p:cNvPicPr/>
          <p:nvPr/>
        </p:nvPicPr>
        <p:blipFill>
          <a:blip r:embed="rId3"/>
          <a:stretch/>
        </p:blipFill>
        <p:spPr>
          <a:xfrm>
            <a:off x="3132000" y="285264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Прямоугольник 3"/>
          <p:cNvSpPr/>
          <p:nvPr/>
        </p:nvSpPr>
        <p:spPr>
          <a:xfrm>
            <a:off x="0" y="18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 (Заголовки)"/>
              </a:rPr>
              <a:t>Использование И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 (Заголовки)"/>
              </a:rPr>
              <a:t>по  видам музыкаль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539640" y="1197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Century Schoolbook (Заголовки)"/>
              </a:rPr>
              <a:t>Восприятие муз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900000" y="1720800"/>
            <a:ext cx="1801800" cy="2162160"/>
          </a:xfrm>
          <a:prstGeom prst="rect">
            <a:avLst/>
          </a:prstGeom>
          <a:ln w="0">
            <a:noFill/>
          </a:ln>
        </p:spPr>
      </p:pic>
      <p:sp>
        <p:nvSpPr>
          <p:cNvPr id="564" name="TextBox 9"/>
          <p:cNvSpPr/>
          <p:nvPr/>
        </p:nvSpPr>
        <p:spPr>
          <a:xfrm>
            <a:off x="552600" y="397044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 (Заголовки)"/>
              </a:rPr>
              <a:t>Портреты, биографии компози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Рисунок 11" descr="09f709b29699.jpg"/>
          <p:cNvPicPr/>
          <p:nvPr/>
        </p:nvPicPr>
        <p:blipFill>
          <a:blip r:embed="rId2"/>
          <a:stretch/>
        </p:blipFill>
        <p:spPr>
          <a:xfrm>
            <a:off x="5364000" y="1484280"/>
            <a:ext cx="2627640" cy="1849320"/>
          </a:xfrm>
          <a:prstGeom prst="rect">
            <a:avLst/>
          </a:prstGeom>
          <a:ln w="0">
            <a:noFill/>
          </a:ln>
        </p:spPr>
      </p:pic>
      <p:sp>
        <p:nvSpPr>
          <p:cNvPr id="566" name="TextBox 12"/>
          <p:cNvSpPr/>
          <p:nvPr/>
        </p:nvSpPr>
        <p:spPr>
          <a:xfrm>
            <a:off x="5003640" y="3573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 (Заголовки)"/>
              </a:rPr>
              <a:t>Иллюстрации к музыкальным произвед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Рисунок 15" descr="поют без надписи.jpg"/>
          <p:cNvPicPr/>
          <p:nvPr/>
        </p:nvPicPr>
        <p:blipFill>
          <a:blip r:embed="rId3"/>
          <a:stretch/>
        </p:blipFill>
        <p:spPr>
          <a:xfrm>
            <a:off x="900000" y="4797360"/>
            <a:ext cx="1817640" cy="12844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6"/>
          <p:cNvSpPr/>
          <p:nvPr/>
        </p:nvSpPr>
        <p:spPr>
          <a:xfrm>
            <a:off x="179280" y="6237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 (Заголовки)"/>
              </a:rPr>
              <a:t>Жанровые 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Рисунок 17" descr="98.jpg"/>
          <p:cNvPicPr/>
          <p:nvPr/>
        </p:nvPicPr>
        <p:blipFill>
          <a:blip r:embed="rId4"/>
          <a:stretch/>
        </p:blipFill>
        <p:spPr>
          <a:xfrm>
            <a:off x="5508720" y="4292640"/>
            <a:ext cx="2338200" cy="18190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8"/>
          <p:cNvSpPr/>
          <p:nvPr/>
        </p:nvSpPr>
        <p:spPr>
          <a:xfrm>
            <a:off x="4859280" y="62118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Знакомство с музыкальными инструм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"/>
          <p:cNvSpPr/>
          <p:nvPr/>
        </p:nvSpPr>
        <p:spPr>
          <a:xfrm>
            <a:off x="250920" y="33336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 (Заголовки)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Century Schoolbook (Заголовки)"/>
                <a:ea typeface="Arial"/>
              </a:rPr>
              <a:t>Клипы к песн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7" descr="9c790f8f631ff2d17ecdbb77fe0f4fb7"/>
          <p:cNvPicPr/>
          <p:nvPr/>
        </p:nvPicPr>
        <p:blipFill>
          <a:blip r:embed="rId1"/>
          <a:stretch/>
        </p:blipFill>
        <p:spPr>
          <a:xfrm>
            <a:off x="500040" y="1214280"/>
            <a:ext cx="4105440" cy="25909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1219467900"/>
          <p:cNvPicPr/>
          <p:nvPr/>
        </p:nvPicPr>
        <p:blipFill>
          <a:blip r:embed="rId2"/>
          <a:stretch/>
        </p:blipFill>
        <p:spPr>
          <a:xfrm>
            <a:off x="4859280" y="3933720"/>
            <a:ext cx="38880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1"/>
          <p:cNvSpPr/>
          <p:nvPr/>
        </p:nvSpPr>
        <p:spPr>
          <a:xfrm>
            <a:off x="0" y="333360"/>
            <a:ext cx="81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entury Schoolbook (Заголовки)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Century Schoolbook (Заголовки)"/>
              </a:rPr>
              <a:t>Классическая музыка в мультфиль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8" descr="500_7b1a18caaa936387c17cf10d1e79d005"/>
          <p:cNvPicPr/>
          <p:nvPr/>
        </p:nvPicPr>
        <p:blipFill>
          <a:blip r:embed="rId1"/>
          <a:stretch/>
        </p:blipFill>
        <p:spPr>
          <a:xfrm>
            <a:off x="4859280" y="1052640"/>
            <a:ext cx="3745080" cy="2520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detskij"/>
          <p:cNvPicPr/>
          <p:nvPr/>
        </p:nvPicPr>
        <p:blipFill>
          <a:blip r:embed="rId2"/>
          <a:stretch/>
        </p:blipFill>
        <p:spPr>
          <a:xfrm>
            <a:off x="539640" y="3500280"/>
            <a:ext cx="367200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611280" y="475920"/>
            <a:ext cx="914400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-171720" algn="ctr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Century Schoolbook"/>
              </a:rPr>
              <a:t>Музыкально-ритмические движ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TextBox 7"/>
          <p:cNvSpPr/>
          <p:nvPr/>
        </p:nvSpPr>
        <p:spPr>
          <a:xfrm>
            <a:off x="1042920" y="3716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 (Заголовки)"/>
              </a:rPr>
              <a:t>Использование мнемотаблиц и схем та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5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095640" cy="2522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138480" cy="2519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D:\Pictures\музыка\иллюстрации музыкальные\движения\движения\парный танец.png"/>
          <p:cNvPicPr/>
          <p:nvPr/>
        </p:nvPicPr>
        <p:blipFill>
          <a:blip r:embed="rId3"/>
          <a:stretch/>
        </p:blipFill>
        <p:spPr>
          <a:xfrm>
            <a:off x="395280" y="4292640"/>
            <a:ext cx="2317680" cy="18190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9" descr="D:\Pictures\музыка\иллюстрации музыкальные\движения\движения\сканир.png"/>
          <p:cNvPicPr/>
          <p:nvPr/>
        </p:nvPicPr>
        <p:blipFill>
          <a:blip r:embed="rId4"/>
          <a:stretch/>
        </p:blipFill>
        <p:spPr>
          <a:xfrm>
            <a:off x="5724360" y="4076640"/>
            <a:ext cx="3124440" cy="220824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11" descr="вальс.png"/>
          <p:cNvPicPr/>
          <p:nvPr/>
        </p:nvPicPr>
        <p:blipFill>
          <a:blip r:embed="rId5"/>
          <a:stretch/>
        </p:blipFill>
        <p:spPr>
          <a:xfrm>
            <a:off x="3348000" y="3992400"/>
            <a:ext cx="2054160" cy="2865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4:29:56Z</dcterms:created>
  <dc:creator>ASUS</dc:creator>
  <dc:description/>
  <dc:language>en-US</dc:language>
  <cp:lastModifiedBy>Мария Александровна</cp:lastModifiedBy>
  <dcterms:modified xsi:type="dcterms:W3CDTF">2017-02-16T14:58:43Z</dcterms:modified>
  <cp:revision>200</cp:revision>
  <dc:subject/>
  <dc:title>Использование информационно-коммуникационных технологий в музыкальном воспитании дошкольников</dc:title>
</cp:coreProperties>
</file>