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23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4E2D-3136-4062-A2E0-A2BE20FEC1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F737-BDE7-41BB-A3DC-BB51F3D374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D0F-E004-4E53-BD22-50E1F0AF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D12-1A1D-4A77-9C7E-5133EABA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6F9D32-4721-4CA7-944B-1659C1F7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4E0AEB-A760-426C-8514-41867C1C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7DAFD3-B34F-44CD-9EA6-25E2F338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9E64CA-42D3-48C9-A2E5-6A106BDC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65B681-C5E3-4C25-8468-8A181B83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A58AFF-BFD2-4196-B04A-E3C1F767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257E32-D626-423F-B35D-1099D853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773E4E-2AFF-492A-B0E8-9D438D80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A33207-FA10-4E6C-9068-C3087B82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82BF42-BB44-4054-ADE1-5FB81BBC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1AB7-B915-45FC-AEB4-5EAB8BBD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D5471E-1D6D-4967-95B9-A5B8F477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7754B3-2669-4147-82EE-45CF8C16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CA52DE-47ED-476C-9E6C-8550130E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C7893B-7CA0-4553-A13C-99FBC8B2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23B6E3-E2F3-4B27-8362-19A595DC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AF1F33-8B4E-4D19-B786-1A787DB3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3700FF-8438-46E8-B0EC-6EC690A4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C970EE-4541-4D80-93F9-D5E09576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87BDCC-91AD-4784-B85C-5B791C5A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CF8497-633D-48C5-A50B-41F1158F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025-2EC3-4A53-B49B-2E846278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2BD902-20D8-444C-8A68-9AFF2E8E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6B4BE-4F7E-4DCB-91B9-E703C782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C29EB-E4EF-47BB-94F8-EC3D09B1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42055-F664-4976-8931-AF5BF509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5F30A-8108-48BB-A2B0-CF529EC2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3F13B-E1E8-4F1C-ADF8-F523A105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8284E-5576-4DD0-8483-D8A1F637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2D09F-7DBD-4832-A373-AEEFB43A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D3F99-ACEE-49F8-905E-91F54A44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B9C56-DA01-4B70-99DA-8C4A9FE7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851D-FDC2-46D5-95AC-07D7D413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35B11-70A7-48D7-AAC5-FA13B5E4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086F6-BA2C-425E-9F70-9617C06C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CE300-DC74-4E29-A75D-2CCD23FC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DBDEF-633D-43A0-B933-316DA6AD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28FDC-084B-4D61-9C83-EA40F7CF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886FD-9D19-4859-904A-3006D9E7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9BB4E-23A6-4492-BA12-DE7814EB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33885-58EA-4030-A4BD-5F05C8FB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BDB6C-5D64-4D13-A1CA-7E081F65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FFBB1-5025-4C81-A206-3F1CA713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FF58-A8D3-4409-9DF6-238C1A6D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0EB18-F05C-4273-B19E-AF105B6B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5402F-9B86-4573-983A-F61373A3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AE305-BBD4-4199-80F7-B8305D5D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686D4-EDD2-4AE9-A98B-333EF2C8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8A29F-027A-49E2-A53E-6ED58552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0D54-170C-4AFB-95FF-A9B18131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B795-DF0B-4B03-A443-AC71D599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7635-5970-4739-BE87-F47DBE1C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96B8-4A64-4F9D-B1AA-9989E10E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9F91-25E1-4AFB-8637-B7A578FB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A49-8CFB-4EDF-858B-28347C67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BA9A-B688-40BB-AA5C-A78FD902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1583-FB3D-4ECD-9098-507E4C98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DA96-DA98-44DA-9D34-A4157E2D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44F6-C413-4F47-A90A-5C9C9DE1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8165-9CAA-4821-BF12-ADBB8BC4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9DA82-F420-4957-AFFF-ADFCD953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29F92-0D42-4953-B80B-A5BCFD65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1FEDF-9552-402A-BC87-24F79E6D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797DB-76E3-4E40-8821-5B534064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EAFEE-9944-49DD-9D91-4AD054ED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C43-E17A-410B-87E2-2E3BE653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4DFE5-EF31-49F9-8D4B-53563C28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56DBA-30C3-4CF3-8E0A-8BB6EBD3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E1C3E-D86C-4700-85C7-BDDEA3BF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9EFB6-4DD7-4A0D-9FBF-EBBF34D6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6C511-9A33-4CA6-9A4F-FF1A9CE9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4D899-8A66-4564-8B9A-58D56C39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B1D73-2D3E-47BF-A862-289D86C6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23D93-2CAF-40CF-BB83-998E32A9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E1F33-A5EF-4D18-A49A-998C4191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87700-6E06-4916-9BAA-69C2FD85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73E3-1913-4F2A-ABBC-BA5F40B8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7D8D5-6AEF-4744-AA6E-503DE9C3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C3334-F501-4C88-85FF-21A85BC8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879E2-8972-4254-BB91-EB874E07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E37F1-8EAA-4F07-94C2-DAC9147B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15A79-3146-4D4E-AE47-BC70BA81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86B68-5CF6-4928-A0E2-A0D7EB1D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4D19D-B8B1-469D-9567-DA56603C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CDE94-FAF4-4D8D-85FC-4B7375FA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79733-23D5-4029-B1A8-96629473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4C85E-CF1A-4437-A9CE-EDF37498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52A-4965-4CCE-AF76-43F9E9CE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0F49E-7A71-4361-8347-FB0CE194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A8D74-6672-404D-B1B8-2FFF1F6E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4012A-535F-456E-B30C-1820FF4F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B5A00-25F9-4429-8832-8B37AA74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A3059-8AEE-4498-A371-16DBA06F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4C4AB-4A50-4E87-8F00-E261DFA4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186F3-A2E8-4D02-AA46-248F82D5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94F8B-C85C-4237-BA8A-63E7A3A9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4D935-DE83-4970-83FE-CEFD060A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AD485-E533-4F4A-B903-2BBC8FEE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C42A-83FD-4511-BD6A-6491688F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E9000-F78C-43B9-A72D-3F24C4B8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C108D-6795-4B1C-A653-29BCE068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BC0D4-777C-4D9D-9CCA-4172C3A4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C1297-6528-477E-BFDC-BB687E24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3F8F0-1E40-4280-94E3-ED34C246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7D1D1-1138-4BD1-B19F-D17A8212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B705E-70A7-4B8E-8302-6E2EFDE5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357E2-D2F2-420E-90BB-9807ABDE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9D3EF-44BB-4000-B65E-DE3EAB20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964A5-E161-4C88-8DDB-219B0EB9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9215-CDD9-4FFB-9339-855A0F90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EDF03-3B21-4E85-9B99-0C830BE4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8E450-769C-4E54-9444-69F03B13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3214F-5EC5-42CB-8131-BD7834B1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91F866-CAB1-4F50-967A-F1FF5A6E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7B8FFA-1475-428F-944E-2DC4B6E7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90BEC0-191D-43EF-B98A-19DC4605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529453-58A4-4388-B0EC-8C0BC251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D9E1FD-E879-4840-9F63-A53BE81A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FE3B6B-F20B-4F4C-92B4-A415A834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677943-B238-42E3-B682-D5599619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92E1-AF0A-4319-9B07-7A40C123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CF9758-184F-4A23-9E98-5B3791BA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87C8EB-712B-4B6B-9ED0-DEAB7932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CD3226-839D-4AF3-87EA-868EC22C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0C707C-250B-4627-BBCD-090FC596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6DAB7-9F82-4020-B9F1-133CBB95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9B089-72E3-4350-A096-594DDDCA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85752-B0B3-4DD2-AFC5-389B2049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DB662-D969-402A-9023-4A8D886F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E6F61-3379-4365-94CC-DEB1B6E1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FC9A5-86F7-4657-8F93-41751B14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681-DC38-4CBB-B09F-0AC16C3A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2DA17-56EF-4267-AB56-77D6169E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53ED6-A673-48F9-AAE3-D6FFCC25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E558E-2EBF-40F6-B2FD-2C06FE56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76240-1A2F-4D30-867C-1CC435C5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6FC74-28DC-48BD-A23F-5A0E6FF6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A7FB2-EB8B-4455-A736-30FD8693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DD482-060C-4838-9E5E-19C79FB8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15F588-6E57-4F39-BE21-DEE5E6E1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E167A3-6CC8-4B06-B849-C28889F5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FD1603-678D-4864-9C3B-1B4DF59F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5F40-23C4-4D0D-A5C6-3C06FADCA86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94BC-2430-4F85-A465-59A57FF816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44D0-DDA7-4520-A3A1-C381D3054FA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BA67-0554-4B4F-80CB-8189EE4D6F8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3B50-44F7-4324-8EE4-994C00AF484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0E79-798F-4CF8-B36F-1C470A2CDF1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A13B-4F8E-4F14-9089-CECEC832ED2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36E7-DFC3-49BD-9C15-5A3AD3F6F23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C409-C325-414D-B267-4D76188B0E7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562E-7578-436C-9066-BC186E23988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8106-3BE3-450E-8A52-62FA5B03E28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7BC1-D782-4098-9B42-FBB436DE1F9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pedgazeta.ru/" TargetMode="External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47280" y="1628280"/>
            <a:ext cx="61722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ИСПОЛЬЗОВАНИЕ ИНФОРМАЦИОННО-КОММУНИКАЦИОННЫХ ТЕХНОЛОГИЙ В РАБОТЕ МУЗЫКАЛЬНОГО РУКОВОДИТЕЛ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4" descr=""/>
          <p:cNvPicPr/>
          <p:nvPr/>
        </p:nvPicPr>
        <p:blipFill>
          <a:blip r:embed="rId1"/>
          <a:stretch/>
        </p:blipFill>
        <p:spPr>
          <a:xfrm>
            <a:off x="1187280" y="244440"/>
            <a:ext cx="6158160" cy="4105440"/>
          </a:xfrm>
          <a:prstGeom prst="rect">
            <a:avLst/>
          </a:prstGeom>
          <a:ln w="0">
            <a:noFill/>
          </a:ln>
        </p:spPr>
      </p:pic>
      <p:sp>
        <p:nvSpPr>
          <p:cNvPr id="585" name="TextBox 2"/>
          <p:cNvSpPr/>
          <p:nvPr/>
        </p:nvSpPr>
        <p:spPr>
          <a:xfrm>
            <a:off x="1655640" y="494172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Видео профессионального исполнения та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9" descr="D:\Pictures\музыка\иллюстрации музыкальные\сказка о нотках\сказка о нотках\2699-3.gif"/>
          <p:cNvPicPr/>
          <p:nvPr/>
        </p:nvPicPr>
        <p:blipFill>
          <a:blip r:embed="rId1"/>
          <a:stretch/>
        </p:blipFill>
        <p:spPr>
          <a:xfrm>
            <a:off x="0" y="33336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0" descr="C:\Users\Ирина\Pictures\матрешки.png"/>
          <p:cNvPicPr/>
          <p:nvPr/>
        </p:nvPicPr>
        <p:blipFill>
          <a:blip r:embed="rId2"/>
          <a:stretch/>
        </p:blipFill>
        <p:spPr>
          <a:xfrm>
            <a:off x="6373800" y="333360"/>
            <a:ext cx="2770200" cy="36003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"/>
          <p:cNvPicPr/>
          <p:nvPr/>
        </p:nvPicPr>
        <p:blipFill>
          <a:blip r:embed="rId3"/>
          <a:stretch/>
        </p:blipFill>
        <p:spPr>
          <a:xfrm>
            <a:off x="684360" y="4365720"/>
            <a:ext cx="2592360" cy="20606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D:\Pictures\музыка\иллюстрации музыкальные\сказка о нотках\сказка о нотках\2673.gif"/>
          <p:cNvPicPr/>
          <p:nvPr/>
        </p:nvPicPr>
        <p:blipFill>
          <a:blip r:embed="rId4"/>
          <a:stretch/>
        </p:blipFill>
        <p:spPr>
          <a:xfrm>
            <a:off x="1547640" y="184464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" descr=""/>
          <p:cNvPicPr/>
          <p:nvPr/>
        </p:nvPicPr>
        <p:blipFill>
          <a:blip r:embed="rId5"/>
          <a:stretch/>
        </p:blipFill>
        <p:spPr>
          <a:xfrm>
            <a:off x="6012000" y="4653000"/>
            <a:ext cx="2832120" cy="18716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6"/>
          <a:stretch/>
        </p:blipFill>
        <p:spPr>
          <a:xfrm>
            <a:off x="4284720" y="3429000"/>
            <a:ext cx="2609640" cy="1700280"/>
          </a:xfrm>
          <a:prstGeom prst="rect">
            <a:avLst/>
          </a:prstGeom>
          <a:ln w="0">
            <a:noFill/>
          </a:ln>
        </p:spPr>
      </p:pic>
      <p:sp>
        <p:nvSpPr>
          <p:cNvPr id="592" name="TextBox 9"/>
          <p:cNvSpPr/>
          <p:nvPr/>
        </p:nvSpPr>
        <p:spPr>
          <a:xfrm>
            <a:off x="2627280" y="33336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Century Schoolbook"/>
              </a:rPr>
              <a:t>Музыкально-дидактически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Рисунок 3" descr="Лисенок copy"/>
          <p:cNvPicPr/>
          <p:nvPr/>
        </p:nvPicPr>
        <p:blipFill>
          <a:blip r:embed="rId1"/>
          <a:stretch/>
        </p:blipFill>
        <p:spPr>
          <a:xfrm>
            <a:off x="250920" y="260280"/>
            <a:ext cx="3065400" cy="2158920"/>
          </a:xfrm>
          <a:prstGeom prst="rect">
            <a:avLst/>
          </a:prstGeom>
          <a:ln w="0">
            <a:noFill/>
          </a:ln>
        </p:spPr>
      </p:pic>
      <p:pic>
        <p:nvPicPr>
          <p:cNvPr id="594" name="Рисунок 4" descr="Медведь+удочка copy"/>
          <p:cNvPicPr/>
          <p:nvPr/>
        </p:nvPicPr>
        <p:blipFill>
          <a:blip r:embed="rId2"/>
          <a:stretch/>
        </p:blipFill>
        <p:spPr>
          <a:xfrm>
            <a:off x="3492360" y="907920"/>
            <a:ext cx="1871640" cy="26542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7" descr=""/>
          <p:cNvPicPr/>
          <p:nvPr/>
        </p:nvPicPr>
        <p:blipFill>
          <a:blip r:embed="rId3"/>
          <a:stretch/>
        </p:blipFill>
        <p:spPr>
          <a:xfrm>
            <a:off x="5148360" y="4005360"/>
            <a:ext cx="3341520" cy="23619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D:\Pictures\музыка\иллюстрации музыкальные\2929039.jpg"/>
          <p:cNvPicPr/>
          <p:nvPr/>
        </p:nvPicPr>
        <p:blipFill>
          <a:blip r:embed="rId4"/>
          <a:stretch/>
        </p:blipFill>
        <p:spPr>
          <a:xfrm>
            <a:off x="5580000" y="549360"/>
            <a:ext cx="3216240" cy="2413080"/>
          </a:xfrm>
          <a:prstGeom prst="rect">
            <a:avLst/>
          </a:prstGeom>
          <a:ln w="0">
            <a:noFill/>
          </a:ln>
        </p:spPr>
      </p:pic>
      <p:sp>
        <p:nvSpPr>
          <p:cNvPr id="597" name="TextBox 7"/>
          <p:cNvSpPr/>
          <p:nvPr/>
        </p:nvSpPr>
        <p:spPr>
          <a:xfrm>
            <a:off x="3743280" y="260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Century Schoolbook"/>
              </a:rPr>
              <a:t>П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7" descr=""/>
          <p:cNvPicPr/>
          <p:nvPr/>
        </p:nvPicPr>
        <p:blipFill>
          <a:blip r:embed="rId5"/>
          <a:stretch/>
        </p:blipFill>
        <p:spPr>
          <a:xfrm>
            <a:off x="395280" y="3706920"/>
            <a:ext cx="3672000" cy="2673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98640" cy="1943280"/>
          </a:xfrm>
          <a:prstGeom prst="rect">
            <a:avLst/>
          </a:prstGeom>
          <a:ln w="0">
            <a:noFill/>
          </a:ln>
        </p:spPr>
      </p:pic>
      <p:sp>
        <p:nvSpPr>
          <p:cNvPr id="600" name="TextBox 4"/>
          <p:cNvSpPr/>
          <p:nvPr/>
        </p:nvSpPr>
        <p:spPr>
          <a:xfrm>
            <a:off x="0" y="2852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Интернет-ресурсы в помощь музыкальному руководи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6"/>
          <p:cNvSpPr/>
          <p:nvPr/>
        </p:nvSpPr>
        <p:spPr>
          <a:xfrm>
            <a:off x="0" y="227664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2611c"/>
                </a:solidFill>
                <a:uFillTx/>
                <a:latin typeface="Arial"/>
                <a:ea typeface="Times New Roman"/>
                <a:hlinkClick r:id="rId2"/>
              </a:rPr>
              <a:t>http://pedgazeta.ru/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Рисунок 10" descr=""/>
          <p:cNvPicPr/>
          <p:nvPr/>
        </p:nvPicPr>
        <p:blipFill>
          <a:blip r:embed="rId3"/>
          <a:srcRect l="-984" t="0" r="0" b="0"/>
          <a:stretch/>
        </p:blipFill>
        <p:spPr>
          <a:xfrm>
            <a:off x="2556000" y="333360"/>
            <a:ext cx="2808000" cy="1943280"/>
          </a:xfrm>
          <a:prstGeom prst="rect">
            <a:avLst/>
          </a:prstGeom>
          <a:ln w="0">
            <a:noFill/>
          </a:ln>
        </p:spPr>
      </p:pic>
      <p:sp>
        <p:nvSpPr>
          <p:cNvPr id="603" name="Прямоугольник 12"/>
          <p:cNvSpPr/>
          <p:nvPr/>
        </p:nvSpPr>
        <p:spPr>
          <a:xfrm>
            <a:off x="2709720" y="234936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http://pedmir.ru/about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14"/>
          <p:cNvSpPr/>
          <p:nvPr/>
        </p:nvSpPr>
        <p:spPr>
          <a:xfrm>
            <a:off x="6026760" y="234936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http://numi.ru/index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Рисунок 15" descr=""/>
          <p:cNvPicPr/>
          <p:nvPr/>
        </p:nvPicPr>
        <p:blipFill>
          <a:blip r:embed="rId4"/>
          <a:stretch/>
        </p:blipFill>
        <p:spPr>
          <a:xfrm>
            <a:off x="5651640" y="404640"/>
            <a:ext cx="3205080" cy="1800360"/>
          </a:xfrm>
          <a:prstGeom prst="rect">
            <a:avLst/>
          </a:prstGeom>
          <a:ln w="0">
            <a:noFill/>
          </a:ln>
        </p:spPr>
      </p:pic>
      <p:pic>
        <p:nvPicPr>
          <p:cNvPr id="606" name="Рисунок 16" descr=""/>
          <p:cNvPicPr/>
          <p:nvPr/>
        </p:nvPicPr>
        <p:blipFill>
          <a:blip r:embed="rId5"/>
          <a:stretch/>
        </p:blipFill>
        <p:spPr>
          <a:xfrm>
            <a:off x="395280" y="3933720"/>
            <a:ext cx="3745080" cy="2016360"/>
          </a:xfrm>
          <a:prstGeom prst="rect">
            <a:avLst/>
          </a:prstGeom>
          <a:ln w="0">
            <a:noFill/>
          </a:ln>
        </p:spPr>
      </p:pic>
      <p:sp>
        <p:nvSpPr>
          <p:cNvPr id="607" name="Прямоугольник 17"/>
          <p:cNvSpPr/>
          <p:nvPr/>
        </p:nvSpPr>
        <p:spPr>
          <a:xfrm>
            <a:off x="416880" y="609300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http://borovik.ucoz.ru/forum/0-0-1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Рисунок 19" descr=""/>
          <p:cNvPicPr/>
          <p:nvPr/>
        </p:nvPicPr>
        <p:blipFill>
          <a:blip r:embed="rId6"/>
          <a:stretch/>
        </p:blipFill>
        <p:spPr>
          <a:xfrm>
            <a:off x="4859280" y="3933720"/>
            <a:ext cx="3816360" cy="215928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20"/>
          <p:cNvSpPr/>
          <p:nvPr/>
        </p:nvSpPr>
        <p:spPr>
          <a:xfrm>
            <a:off x="4875120" y="6093000"/>
            <a:ext cx="37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http://www.musical-sad.ru/index/0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642600" y="571320"/>
            <a:ext cx="746748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Century Schoolbook"/>
              </a:rPr>
              <a:t>Использование ИКТ в музыкальном воспитании дошкольников </a:t>
            </a:r>
            <a:r>
              <a:rPr b="0" lang="ru-RU" sz="3200" spc="-1" strike="noStrike">
                <a:solidFill>
                  <a:srgbClr val="000099"/>
                </a:solidFill>
                <a:latin typeface="Century Schoolbook"/>
              </a:rPr>
              <a:t>-это только средство для реализации целей и задач, поставленных перед педагогом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entury Schoolbook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Century Schoolbook"/>
              </a:rPr>
              <a:t>Главенствующая роль в музыкальном воспитании всегда останется за музыкальным руководителем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214200"/>
            <a:ext cx="836280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«Каждый участник образовательного процесса сам решает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идти в ногу с будущи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или вышагивать пятками назад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Анатолий Гин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entury Schoolbook"/>
              </a:rPr>
              <a:t>( Руководитель международной Лаборатори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entury Schoolbook"/>
              </a:rPr>
              <a:t>технологий «Образование для Новой  Эры»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54" name="Рисунок 5" descr="ноут.png"/>
          <p:cNvPicPr/>
          <p:nvPr/>
        </p:nvPicPr>
        <p:blipFill>
          <a:blip r:embed="rId1"/>
          <a:stretch/>
        </p:blipFill>
        <p:spPr>
          <a:xfrm>
            <a:off x="971640" y="3213000"/>
            <a:ext cx="3227400" cy="3338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0" y="1268280"/>
            <a:ext cx="9144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44583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244583"/>
                </a:solidFill>
                <a:latin typeface="Century Schoolbook"/>
              </a:rPr>
              <a:t>Использование информационных технологий позволяет эффективней развивать все виды восприятия у детей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44583"/>
                </a:solidFill>
                <a:latin typeface="Century Schoolbook"/>
              </a:rPr>
              <a:t>зрительного, слухового, чувственного, </a:t>
            </a:r>
            <a:r>
              <a:rPr b="0" lang="ru-RU" sz="3200" spc="-1" strike="noStrike">
                <a:solidFill>
                  <a:srgbClr val="244583"/>
                </a:solidFill>
                <a:latin typeface="Century Schoolbook"/>
              </a:rPr>
              <a:t>задействовать на занятии все виды памяти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44583"/>
                </a:solidFill>
                <a:latin typeface="Century Schoolbook"/>
              </a:rPr>
              <a:t>зрительную, слуховую, образную, ассоциативную и др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Содержимое 3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1"/>
          <p:cNvSpPr/>
          <p:nvPr/>
        </p:nvSpPr>
        <p:spPr>
          <a:xfrm>
            <a:off x="395280" y="333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Использование компьютерных презентаций в досугов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rcRect l="0" t="-389" r="0" b="-389"/>
          <a:stretch/>
        </p:blipFill>
        <p:spPr>
          <a:xfrm>
            <a:off x="755640" y="1413000"/>
            <a:ext cx="3024360" cy="23256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" descr="http://img0.liveinternet.ru/images/attach/b/2/24/500/24500432_pobeda01_copy.gif"/>
          <p:cNvPicPr/>
          <p:nvPr/>
        </p:nvPicPr>
        <p:blipFill>
          <a:blip r:embed="rId2">
            <a:lum contrast="6000"/>
          </a:blip>
          <a:srcRect l="1074" t="0" r="0" b="0"/>
          <a:stretch/>
        </p:blipFill>
        <p:spPr>
          <a:xfrm>
            <a:off x="5219640" y="4292640"/>
            <a:ext cx="3471840" cy="23367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"/>
          <p:cNvPicPr/>
          <p:nvPr/>
        </p:nvPicPr>
        <p:blipFill>
          <a:blip r:embed="rId3"/>
          <a:stretch/>
        </p:blipFill>
        <p:spPr>
          <a:xfrm>
            <a:off x="3132000" y="285264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Прямоугольник 3"/>
          <p:cNvSpPr/>
          <p:nvPr/>
        </p:nvSpPr>
        <p:spPr>
          <a:xfrm>
            <a:off x="0" y="189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 (Заголовки)"/>
              </a:rPr>
              <a:t>Использование И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 (Заголовки)"/>
              </a:rPr>
              <a:t>по  видам музыкаль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4"/>
          <p:cNvSpPr/>
          <p:nvPr/>
        </p:nvSpPr>
        <p:spPr>
          <a:xfrm>
            <a:off x="539640" y="119700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Century Schoolbook (Заголовки)"/>
              </a:rPr>
              <a:t>Восприятие муз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900000" y="1720800"/>
            <a:ext cx="1801800" cy="2162160"/>
          </a:xfrm>
          <a:prstGeom prst="rect">
            <a:avLst/>
          </a:prstGeom>
          <a:ln w="0">
            <a:noFill/>
          </a:ln>
        </p:spPr>
      </p:pic>
      <p:sp>
        <p:nvSpPr>
          <p:cNvPr id="564" name="TextBox 9"/>
          <p:cNvSpPr/>
          <p:nvPr/>
        </p:nvSpPr>
        <p:spPr>
          <a:xfrm>
            <a:off x="552600" y="397044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 (Заголовки)"/>
              </a:rPr>
              <a:t>Портреты, биографии компози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Рисунок 11" descr="09f709b29699.jpg"/>
          <p:cNvPicPr/>
          <p:nvPr/>
        </p:nvPicPr>
        <p:blipFill>
          <a:blip r:embed="rId2"/>
          <a:stretch/>
        </p:blipFill>
        <p:spPr>
          <a:xfrm>
            <a:off x="5364000" y="1484280"/>
            <a:ext cx="2627640" cy="1849320"/>
          </a:xfrm>
          <a:prstGeom prst="rect">
            <a:avLst/>
          </a:prstGeom>
          <a:ln w="0">
            <a:noFill/>
          </a:ln>
        </p:spPr>
      </p:pic>
      <p:sp>
        <p:nvSpPr>
          <p:cNvPr id="566" name="TextBox 12"/>
          <p:cNvSpPr/>
          <p:nvPr/>
        </p:nvSpPr>
        <p:spPr>
          <a:xfrm>
            <a:off x="5003640" y="3573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 (Заголовки)"/>
              </a:rPr>
              <a:t>Иллюстрации к музыкальным произведе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Рисунок 15" descr="поют без надписи.jpg"/>
          <p:cNvPicPr/>
          <p:nvPr/>
        </p:nvPicPr>
        <p:blipFill>
          <a:blip r:embed="rId3"/>
          <a:stretch/>
        </p:blipFill>
        <p:spPr>
          <a:xfrm>
            <a:off x="900000" y="4797360"/>
            <a:ext cx="1817640" cy="128448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6"/>
          <p:cNvSpPr/>
          <p:nvPr/>
        </p:nvSpPr>
        <p:spPr>
          <a:xfrm>
            <a:off x="179280" y="6237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 (Заголовки)"/>
              </a:rPr>
              <a:t>Жанровые 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Рисунок 17" descr="98.jpg"/>
          <p:cNvPicPr/>
          <p:nvPr/>
        </p:nvPicPr>
        <p:blipFill>
          <a:blip r:embed="rId4"/>
          <a:stretch/>
        </p:blipFill>
        <p:spPr>
          <a:xfrm>
            <a:off x="5508720" y="4292640"/>
            <a:ext cx="2338200" cy="1819080"/>
          </a:xfrm>
          <a:prstGeom prst="rect">
            <a:avLst/>
          </a:prstGeom>
          <a:ln w="0">
            <a:noFill/>
          </a:ln>
        </p:spPr>
      </p:pic>
      <p:sp>
        <p:nvSpPr>
          <p:cNvPr id="570" name="TextBox 18"/>
          <p:cNvSpPr/>
          <p:nvPr/>
        </p:nvSpPr>
        <p:spPr>
          <a:xfrm>
            <a:off x="4859280" y="62118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Знакомство с музыкальными инструме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3"/>
          <p:cNvSpPr/>
          <p:nvPr/>
        </p:nvSpPr>
        <p:spPr>
          <a:xfrm>
            <a:off x="250920" y="33336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 (Заголовки)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Century Schoolbook (Заголовки)"/>
                <a:ea typeface="Arial"/>
              </a:rPr>
              <a:t>Клипы к песня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17" descr="9c790f8f631ff2d17ecdbb77fe0f4fb7"/>
          <p:cNvPicPr/>
          <p:nvPr/>
        </p:nvPicPr>
        <p:blipFill>
          <a:blip r:embed="rId1"/>
          <a:stretch/>
        </p:blipFill>
        <p:spPr>
          <a:xfrm>
            <a:off x="500040" y="1214280"/>
            <a:ext cx="4105440" cy="25909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5" descr="1219467900"/>
          <p:cNvPicPr/>
          <p:nvPr/>
        </p:nvPicPr>
        <p:blipFill>
          <a:blip r:embed="rId2"/>
          <a:stretch/>
        </p:blipFill>
        <p:spPr>
          <a:xfrm>
            <a:off x="4859280" y="3933720"/>
            <a:ext cx="388800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Box 1"/>
          <p:cNvSpPr/>
          <p:nvPr/>
        </p:nvSpPr>
        <p:spPr>
          <a:xfrm>
            <a:off x="0" y="333360"/>
            <a:ext cx="81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entury Schoolbook (Заголовки)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Century Schoolbook (Заголовки)"/>
              </a:rPr>
              <a:t>Классическая музыка в мультфиль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8" descr="500_7b1a18caaa936387c17cf10d1e79d005"/>
          <p:cNvPicPr/>
          <p:nvPr/>
        </p:nvPicPr>
        <p:blipFill>
          <a:blip r:embed="rId1"/>
          <a:stretch/>
        </p:blipFill>
        <p:spPr>
          <a:xfrm>
            <a:off x="4859280" y="1052640"/>
            <a:ext cx="3745080" cy="2520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detskij"/>
          <p:cNvPicPr/>
          <p:nvPr/>
        </p:nvPicPr>
        <p:blipFill>
          <a:blip r:embed="rId2"/>
          <a:stretch/>
        </p:blipFill>
        <p:spPr>
          <a:xfrm>
            <a:off x="539640" y="3500280"/>
            <a:ext cx="367200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611280" y="475920"/>
            <a:ext cx="914400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171720" indent="-171720" algn="ctr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Century Schoolbook"/>
              </a:rPr>
              <a:t>Музыкально-ритмические движе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TextBox 7"/>
          <p:cNvSpPr/>
          <p:nvPr/>
        </p:nvSpPr>
        <p:spPr>
          <a:xfrm>
            <a:off x="1042920" y="3716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 (Заголовки)"/>
              </a:rPr>
              <a:t>Использование мнемотаблиц и схем та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5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3095640" cy="2522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"/>
          <p:cNvPicPr/>
          <p:nvPr/>
        </p:nvPicPr>
        <p:blipFill>
          <a:blip r:embed="rId2"/>
          <a:stretch/>
        </p:blipFill>
        <p:spPr>
          <a:xfrm>
            <a:off x="5292720" y="1125360"/>
            <a:ext cx="3138480" cy="2519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7" descr="D:\Pictures\музыка\иллюстрации музыкальные\движения\движения\парный танец.png"/>
          <p:cNvPicPr/>
          <p:nvPr/>
        </p:nvPicPr>
        <p:blipFill>
          <a:blip r:embed="rId3"/>
          <a:stretch/>
        </p:blipFill>
        <p:spPr>
          <a:xfrm>
            <a:off x="395280" y="4292640"/>
            <a:ext cx="2317680" cy="18190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9" descr="D:\Pictures\музыка\иллюстрации музыкальные\движения\движения\сканир.png"/>
          <p:cNvPicPr/>
          <p:nvPr/>
        </p:nvPicPr>
        <p:blipFill>
          <a:blip r:embed="rId4"/>
          <a:stretch/>
        </p:blipFill>
        <p:spPr>
          <a:xfrm>
            <a:off x="5724360" y="4076640"/>
            <a:ext cx="3124440" cy="2208240"/>
          </a:xfrm>
          <a:prstGeom prst="rect">
            <a:avLst/>
          </a:prstGeom>
          <a:ln w="0">
            <a:noFill/>
          </a:ln>
        </p:spPr>
      </p:pic>
      <p:pic>
        <p:nvPicPr>
          <p:cNvPr id="583" name="Рисунок 11" descr="вальс.png"/>
          <p:cNvPicPr/>
          <p:nvPr/>
        </p:nvPicPr>
        <p:blipFill>
          <a:blip r:embed="rId5"/>
          <a:stretch/>
        </p:blipFill>
        <p:spPr>
          <a:xfrm>
            <a:off x="3348000" y="3992400"/>
            <a:ext cx="2054160" cy="2865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04:29:56Z</dcterms:created>
  <dc:creator>ASUS</dc:creator>
  <dc:description/>
  <dc:language>en-US</dc:language>
  <cp:lastModifiedBy>Мария Александровна</cp:lastModifiedBy>
  <dcterms:modified xsi:type="dcterms:W3CDTF">2017-02-16T14:58:43Z</dcterms:modified>
  <cp:revision>200</cp:revision>
  <dc:subject/>
  <dc:title>Использование информационно-коммуникационных технологий в музыкальном воспитании дошкольников</dc:title>
</cp:coreProperties>
</file>