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410-DA25-45CB-B44E-8AB81B64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053-57AD-44BE-8A0F-3F1C9489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5FB-5911-4C78-9A64-822AC040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9D5-C0DE-44A3-9C85-3CC8851E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DAB-1E9D-4EE6-A873-FF14EBD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9E0-06A9-43AD-9E6D-1CCDF064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9AF-B4BA-4A93-9B28-FD69AD3E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76A-C166-45D4-B0B7-2314FCA5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E57-21C3-43B7-897D-BCDAFF13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579-46CE-41C6-A04E-8398F7E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B0B-9742-4EAD-814D-10D0AF9E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EA0-37CA-42B6-A239-9A2761E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414D-4A9A-41C3-89F8-8C983921E7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8720" y="191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интерактивных  технологи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работе педагога детского с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558720" y="620640"/>
            <a:ext cx="80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БДОУ детский сад № 12 комбинированного вида Киров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325160" y="4807080"/>
            <a:ext cx="51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льфиш Мария Всеволодовна, старший воспит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982960" y="6021360"/>
            <a:ext cx="20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кт-Петербург, 2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Знакомство педагогов с возможностью применения ИКТ в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образовательной деятельност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. Показать на практике применение программ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io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. Расширить знания, кругозор участников мастер-класса в   использовании ИК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3. Познакомить участников мастер-класса с опытом работы по применению ИКТ в образовательном процесс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но-маркерная доска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откофокусны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C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ор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активная система MimioTeach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образует обычну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керную доск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лностью интерактивную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46280" cy="1555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2"/>
          <a:srcRect l="21393" t="0" r="0" b="0"/>
          <a:stretch/>
        </p:blipFill>
        <p:spPr>
          <a:xfrm>
            <a:off x="4500720" y="4292640"/>
            <a:ext cx="151920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"/>
          <p:cNvPicPr/>
          <p:nvPr/>
        </p:nvPicPr>
        <p:blipFill>
          <a:blip r:embed="rId3"/>
          <a:stretch/>
        </p:blipFill>
        <p:spPr>
          <a:xfrm>
            <a:off x="3697200" y="404640"/>
            <a:ext cx="2900520" cy="199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6" descr=""/>
          <p:cNvPicPr/>
          <p:nvPr/>
        </p:nvPicPr>
        <p:blipFill>
          <a:blip r:embed="rId4"/>
          <a:stretch/>
        </p:blipFill>
        <p:spPr>
          <a:xfrm>
            <a:off x="4859280" y="1052640"/>
            <a:ext cx="155268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247240" cy="52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оритм подготовки к НО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ь тему, цель  и вид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резервов компьютерного обеспечения отбираются наиболее эффективные средств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обранные материалы оцениваются во времени: их продолжительность не должна превышать санитарных норм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недостатке компьютерного иллюстративного и программного материала проводится поиск в Интернет ресурсах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найденного материала собираются презентационная программ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НО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итерии отбора информации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, глубина и объём информации должны соответствовать познавательным возможностям и уровню работоспособности дошкольников, учитывать из интеллектуальную подготовку и возрастные особенност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При отборе материала для зрительного ряда описания модели избегать дальних планов и мелких дета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 время НОД с использованием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ерактивного оборудования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 могут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бодно выбирать позу (за столиком, стоя, сидя на ковре и т. п.)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ытывать минимальную нагрузку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глаза (за счет отраженного света)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еть большие четкие яркие цветные статические и динамические изображени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о взаимодействовать с ними непосредственно на поверхности дос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28600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 использования интерактивных материалов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е материал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зволяют увеличить восприятие материала за счет увеличения количества иллюстративного материал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зволяют делать поправки во время НОД, выполнять совместную работу детей во взаимодействии, осуществлять интерактивную взаимосвязь ребенок – педагог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Использование мультимедийных презентаций обеспечивает наглядность, которая способствует восприятию и лучшему запоминанию материала, что очень важно, учитывая наглядно-образное мышление детей дошкольного возрас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Одновременно используется графическая, текстовая, аудиовизуальная информация;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помощью компьютера можно смоделировать такие жизненные ситуации, которые нельзя или сложно показать во время образовательной деятельности либо увидеть в повседневной жизн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апример, воспроизведение звуков животных; работу транспорта и т.д.)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Использование новых приёмов объяснения и закрепления, особенно в игровой форме, повышает непроизвольное внимание детей, помогает развить произвольно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Высокая динамика непрерывной образовательной деятельности способствует эффективному усвоению материала, развитию памяти, воображения, творчества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Обмен опытом, наработками других педагогов Росс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Общение детей друг с другом. Дети общаются, советуются, помогают друг другу, пытаются наладить деловое сотрудничество, согласовать свои действия для достижения цел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проектов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imio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образовательных областях 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О «Социально-коммуникативное развити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усвоение норм и ценностей, принятых в обществе, развитие эмоциональной отзывчивости, сопереживания, формирование основ безопасного поведения в быту, социуме, природ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О «Познавательное развитие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освоения программного материала, развитие логики, мышления, внимания, расширение кругозора, обобщение  и систематизацию знаний и т.д.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О «Речевое развити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обогащение активного словаря, развитие связной грамматически правильной речи, развитие речевого творчества, развитие звуковой и интонационной культуры речи, обучение грамоте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О «Художественно-эстетическое развитие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формирование элементарных представлений о видах искусства, реализацию самостоятельной творческой деятельности дет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Муззал</cp:lastModifiedBy>
  <dcterms:modified xsi:type="dcterms:W3CDTF">2017-02-16T07:12:07Z</dcterms:modified>
  <cp:revision>20</cp:revision>
  <dc:subject/>
  <dc:title>Слайд 1</dc:title>
</cp:coreProperties>
</file>