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EA5-61AF-406B-9E1A-A06D5667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947-D274-4453-B351-12A8219D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49B-7303-47BA-B87C-2FB34FAD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400-094D-48A5-A160-E4C141DF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B85-21DE-4A74-9872-7665F010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C70-A277-4A36-AE93-A9C1738E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CF6-ED0D-4400-9086-C9CFEDA8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64F-51B0-4D6E-BCE5-8C10DA72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D99-660D-4102-B093-382D5420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F73-A85C-4BAC-B78B-B1C563AE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818-8224-4888-A62D-ECAAD361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0A1-09DC-43D4-B581-14EFF1F3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40BB-7A6F-4E99-88E2-CA92A1F54C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58720" y="191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интерактивных  технологи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работе педагога детского с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558720" y="620640"/>
            <a:ext cx="80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БДОУ детский сад № 12 комбинированного вида Кировского района Санкт-Петерб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1325160" y="4807080"/>
            <a:ext cx="51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льфиш Мария Всеволодовна, старший воспитат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982960" y="6021360"/>
            <a:ext cx="20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нкт-Петербург, 2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Знакомство педагогов с возможностью применения ИКТ в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образовательной деятельности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. Показать на практике применение программ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mio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О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. Расширить знания, кругозор участников мастер-класса в   использовании ИК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3. Познакомить участников мастер-класса с опытом работы по применению ИКТ в образовательном процесс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гнитно-маркерная доска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откофокусны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C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ктор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рактивная система MimioTeach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образует обычну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ркерную доск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лностью интерактивную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546280" cy="15559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"/>
          <p:cNvPicPr/>
          <p:nvPr/>
        </p:nvPicPr>
        <p:blipFill>
          <a:blip r:embed="rId2"/>
          <a:srcRect l="21393" t="0" r="0" b="0"/>
          <a:stretch/>
        </p:blipFill>
        <p:spPr>
          <a:xfrm>
            <a:off x="4500720" y="4292640"/>
            <a:ext cx="1519200" cy="1981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"/>
          <p:cNvPicPr/>
          <p:nvPr/>
        </p:nvPicPr>
        <p:blipFill>
          <a:blip r:embed="rId3"/>
          <a:stretch/>
        </p:blipFill>
        <p:spPr>
          <a:xfrm>
            <a:off x="3697200" y="404640"/>
            <a:ext cx="2900520" cy="199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Рисунок 6" descr=""/>
          <p:cNvPicPr/>
          <p:nvPr/>
        </p:nvPicPr>
        <p:blipFill>
          <a:blip r:embed="rId4"/>
          <a:stretch/>
        </p:blipFill>
        <p:spPr>
          <a:xfrm>
            <a:off x="4859280" y="1052640"/>
            <a:ext cx="1552680" cy="12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8247240" cy="52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горитм подготовки к НОД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ь тему, цель  и вид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резервов компьютерного обеспечения отбираются наиболее эффективные средств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обранные материалы оцениваются во времени: их продолжительность не должна превышать санитарных норм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недостатке компьютерного иллюстративного и программного материала проводится поиск в Интернет ресурсах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найденного материала собираются презентационная программ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ие НО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ритерии отбора информации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, глубина и объём информации должны соответствовать познавательным возможностям и уровню работоспособности дошкольников, учитывать из интеллектуальную подготовку и возрастные особенности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При отборе материала для зрительного ряда описания модели избегать дальних планов и мелких дета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 время НОД с использованием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ерактивного оборудования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 могут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бодно выбирать позу (за столиком, стоя, сидя на ковре и т. п.)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ытывать минимальную нагрузку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глаза (за счет отраженного света)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еть большие четкие яркие цветные статические и динамические изображения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4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о взаимодействовать с ними непосредственно на поверхности дос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228600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имущества использования интерактивных материалов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ые материалы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озволяют увеличить восприятие материала за счет увеличения количества иллюстративного материал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Позволяют делать поправки во время НОД, выполнять совместную работу детей во взаимодействии, осуществлять интерактивную взаимосвязь ребенок – педагог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Использование мультимедийных презентаций обеспечивает наглядность, которая способствует восприятию и лучшему запоминанию материала, что очень важно, учитывая наглядно-образное мышление детей дошкольного возраст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Одновременно используется графическая, текстовая, аудиовизуальная информация;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помощью компьютера можно смоделировать такие жизненные ситуации, которые нельзя или сложно показать во время образовательной деятельности либо увидеть в повседневной жизн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например, воспроизведение звуков животных; работу транспорта и т.д.)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Использование новых приёмов объяснения и закрепления, особенно в игровой форме, повышает непроизвольное внимание детей, помогает развить произвольно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Высокая динамика непрерывной образовательной деятельности способствует эффективному усвоению материала, развитию памяти, воображения, творчества дет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Обмен опытом, наработками других педагогов Росс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Общение детей друг с другом. Дети общаются, советуются, помогают друг другу, пытаются наладить деловое сотрудничество, согласовать свои действия для достижения цел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проектов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mio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образовательных областях 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О «Социально-коммуникативное развитие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на усвоение норм и ценностей, принятых в обществе, развитие эмоциональной отзывчивости, сопереживания, формирование основ безопасного поведения в быту, социуме, природ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О «Познавательное развитие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на освоения программного материала, развитие логики, мышления, внимания, расширение кругозора, обобщение  и систематизацию знаний и т.д.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О «Речевое развитие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на обогащение активного словаря, развитие связной грамматически правильной речи, развитие речевого творчества, развитие звуковой и интонационной культуры речи, обучение грамоте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О «Художественно-эстетическое развитие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на формирование элементарных представлений о видах искусства, реализацию самостоятельной творческой деятельности дете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Муззал</cp:lastModifiedBy>
  <dcterms:modified xsi:type="dcterms:W3CDTF">2017-02-16T07:12:07Z</dcterms:modified>
  <cp:revision>20</cp:revision>
  <dc:subject/>
  <dc:title>Слайд 1</dc:title>
</cp:coreProperties>
</file>