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2D2-811A-485C-B058-EED566AE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BF9-1C9E-4AE9-8CDC-EF3355C5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21A-D21F-4369-A346-07055E9D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E99-07A9-4D38-9DFF-6EAB480F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D24-8D66-4DFD-BD39-1D25504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EC0-20EE-4B46-B243-0893C2AB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373-61BA-4CB4-B247-E8890846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20B-7439-45A1-B02D-4BE9013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B19-46E3-4878-94FA-9B099C45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C0F-4B75-4221-947E-B34F236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AAF-7740-40B5-8340-86143D0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601-337A-415B-A313-600A3677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0B5A-CD0E-47A6-889D-D668EA3B6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6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  <a:ea typeface="바탕"/>
              </a:rPr>
              <a:t>Государственное  бюджетное профессиональное образовательное  учрежден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Bookman Old Style"/>
                <a:ea typeface="바탕"/>
              </a:rPr>
              <a:t>  Воронежской  области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Bookman Old Style"/>
                <a:ea typeface="바탕"/>
              </a:rPr>
              <a:t>«Воронежский  техникум  промышленно-строительных технологий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28680" y="5357880"/>
            <a:ext cx="50720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Bookman Old Style"/>
                <a:ea typeface="바탕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Bookman Old Style"/>
                <a:ea typeface="바탕"/>
              </a:rPr>
              <a:t>Работу выполнила                                                                                            студентка  группы  № 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Bookman Old Style"/>
                <a:ea typeface="바탕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Bookman Old Style"/>
                <a:ea typeface="바탕"/>
              </a:rPr>
              <a:t>Елфимова  Екатерина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I:\Училище\училище 010.JPG"/>
          <p:cNvPicPr/>
          <p:nvPr/>
        </p:nvPicPr>
        <p:blipFill>
          <a:blip r:embed="rId1"/>
          <a:stretch/>
        </p:blipFill>
        <p:spPr>
          <a:xfrm>
            <a:off x="285840" y="3714840"/>
            <a:ext cx="4054320" cy="292896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Отдых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а турба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Танцуем и поё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В субботу с утра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По литератур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местам                      В  пох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IMG_0313"/>
          <p:cNvPicPr/>
          <p:nvPr/>
        </p:nvPicPr>
        <p:blipFill>
          <a:blip r:embed="rId1"/>
          <a:stretch/>
        </p:blipFill>
        <p:spPr>
          <a:xfrm>
            <a:off x="6072120" y="928800"/>
            <a:ext cx="2914560" cy="250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IMG_2327"/>
          <p:cNvPicPr/>
          <p:nvPr/>
        </p:nvPicPr>
        <p:blipFill>
          <a:blip r:embed="rId2"/>
          <a:stretch/>
        </p:blipFill>
        <p:spPr>
          <a:xfrm>
            <a:off x="785880" y="3643200"/>
            <a:ext cx="298296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MG_0278"/>
          <p:cNvPicPr/>
          <p:nvPr/>
        </p:nvPicPr>
        <p:blipFill>
          <a:blip r:embed="rId3"/>
          <a:stretch/>
        </p:blipFill>
        <p:spPr>
          <a:xfrm>
            <a:off x="3071880" y="1143000"/>
            <a:ext cx="262548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Object 5"/>
          <p:cNvGraphicFramePr/>
          <p:nvPr/>
        </p:nvGraphicFramePr>
        <p:xfrm>
          <a:off x="5286240" y="4214880"/>
          <a:ext cx="2186280" cy="1685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86240" y="4214880"/>
                    <a:ext cx="21862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8"/>
          <p:cNvGraphicFramePr/>
          <p:nvPr/>
        </p:nvGraphicFramePr>
        <p:xfrm>
          <a:off x="285840" y="857160"/>
          <a:ext cx="2347920" cy="1571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4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5840" y="857160"/>
                    <a:ext cx="2347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okman Old Style"/>
              </a:rPr>
              <a:t>Спортивная  жизнь  техник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Перед решающей иг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аши 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амые  сильные            Только  поб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Татьяна\Desktop\ФОТО\IMG_1811.JPG"/>
          <p:cNvPicPr/>
          <p:nvPr/>
        </p:nvPicPr>
        <p:blipFill>
          <a:blip r:embed="rId1"/>
          <a:stretch/>
        </p:blipFill>
        <p:spPr>
          <a:xfrm>
            <a:off x="428760" y="8571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Изображение 206"/>
          <p:cNvPicPr/>
          <p:nvPr/>
        </p:nvPicPr>
        <p:blipFill>
          <a:blip r:embed="rId2"/>
          <a:stretch/>
        </p:blipFill>
        <p:spPr>
          <a:xfrm>
            <a:off x="4714920" y="1428840"/>
            <a:ext cx="3462120" cy="2597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фото 08-09 117"/>
          <p:cNvPicPr/>
          <p:nvPr/>
        </p:nvPicPr>
        <p:blipFill>
          <a:blip r:embed="rId3"/>
          <a:stretch/>
        </p:blipFill>
        <p:spPr>
          <a:xfrm>
            <a:off x="428760" y="3714840"/>
            <a:ext cx="3143160" cy="25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5"/>
          <p:cNvGraphicFramePr/>
          <p:nvPr/>
        </p:nvGraphicFramePr>
        <p:xfrm>
          <a:off x="5357880" y="4357800"/>
          <a:ext cx="2301840" cy="17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57880" y="4357800"/>
                    <a:ext cx="230184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Bookman Old Style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Наши   адр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 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Территориальный: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г. Вороне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улица  Саврас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дом 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      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Наш  сайт: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Bookman Old Style"/>
              </a:rPr>
              <a:t>vtps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425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Приказом  Государственного  Комитета  Совета  Министров  Р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по  профессиональному  техническому  образованию  № 231  от 11  мая  1966 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было  открыт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Областное  государствен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учреждение   Н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« Профессиональное  училище  № 30  г. Воронежа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С  июня  2015 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ГБПОУ  ВО  «Воронежский  техникум промышленно-строительных технолог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2920" y="142560"/>
            <a:ext cx="8858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Училище  готовит  рабочих  по  профессиям с получением   среднего  образ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Автомеха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Повар, конди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Сварщ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(электросварочные и газосварочные рабо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Мастер отделочных строительных раб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Электромонтажник электрических сетей и электрообору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Мастер столярно-плотничных и паркетных рабо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Монтажник санитарно-технических, вентиляционных систем и оборуд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Оператор свя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Bookman Old Style"/>
                <a:ea typeface="Arial"/>
              </a:rPr>
              <a:t>Слесарь  по  ремонту  строительных  маш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90010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Уроки обучения теоретическим основам профессии проходят в  кабинетах  техник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920" y="1714680"/>
            <a:ext cx="88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Урок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технологии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сварочных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работ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Ур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кулинарии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училище 1 020"/>
          <p:cNvPicPr/>
          <p:nvPr/>
        </p:nvPicPr>
        <p:blipFill>
          <a:blip r:embed="rId1"/>
          <a:stretch/>
        </p:blipFill>
        <p:spPr>
          <a:xfrm>
            <a:off x="285840" y="1928880"/>
            <a:ext cx="370512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C:\Users\Татьяна\Desktop\НОВАЯ\2ФОТО\DSCN1226.JPG"/>
          <p:cNvPicPr/>
          <p:nvPr/>
        </p:nvPicPr>
        <p:blipFill>
          <a:blip r:embed="rId2"/>
          <a:srcRect l="-983" t="0" r="0" b="0"/>
          <a:stretch/>
        </p:blipFill>
        <p:spPr>
          <a:xfrm>
            <a:off x="4714920" y="2786040"/>
            <a:ext cx="4105080" cy="375300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Урок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мастерства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Яниной О.М.-мас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высшей квалификацион-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    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Bookman Old Style"/>
              </a:rPr>
              <a:t>Нетёсова Н.И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ной  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800000"/>
                </a:solidFill>
                <a:uFillTx/>
                <a:latin typeface="Bookman Old Style"/>
              </a:rPr>
              <a:t>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    </a:t>
            </a: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         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Bookman Old Style"/>
              </a:rPr>
              <a:t>Прядкина И.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Bookman Old Style"/>
              </a:rPr>
              <a:t>                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Bookman Old Style"/>
              </a:rPr>
              <a:t>Дмитренко Н.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                             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           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Bookman Old Style"/>
              </a:rPr>
              <a:t>НАШИ  МАС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C:\Users\Татьяна\Desktop\НОВАЯ\ФОТО\IMG_0162.JPG"/>
          <p:cNvPicPr/>
          <p:nvPr/>
        </p:nvPicPr>
        <p:blipFill>
          <a:blip r:embed="rId1"/>
          <a:stretch/>
        </p:blipFill>
        <p:spPr>
          <a:xfrm>
            <a:off x="357120" y="2357280"/>
            <a:ext cx="4071960" cy="4305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C:\Users\Татьяна\Desktop\НОВАЯ\2ФОТО\DSCN1219.JPG"/>
          <p:cNvPicPr/>
          <p:nvPr/>
        </p:nvPicPr>
        <p:blipFill>
          <a:blip r:embed="rId2"/>
          <a:stretch/>
        </p:blipFill>
        <p:spPr>
          <a:xfrm>
            <a:off x="7572240" y="357120"/>
            <a:ext cx="121464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Татьяна\Desktop\НОВАЯ\2ФОТО\DSCN1219.JPG"/>
          <p:cNvPicPr/>
          <p:nvPr/>
        </p:nvPicPr>
        <p:blipFill>
          <a:blip r:embed="rId3"/>
          <a:stretch/>
        </p:blipFill>
        <p:spPr>
          <a:xfrm>
            <a:off x="7572240" y="2286000"/>
            <a:ext cx="110520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IMG_0403"/>
          <p:cNvPicPr/>
          <p:nvPr/>
        </p:nvPicPr>
        <p:blipFill>
          <a:blip r:embed="rId4"/>
          <a:stretch/>
        </p:blipFill>
        <p:spPr>
          <a:xfrm>
            <a:off x="7500960" y="4143240"/>
            <a:ext cx="1290600" cy="157176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Закрепление  теории   в  мастерских  на пра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Подготовка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сварочным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работам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чтение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схемы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распределительного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щита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Разборка и сбо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                                       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двига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Отработка профессиональ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                  </a:t>
            </a:r>
            <a:r>
              <a:rPr b="1" lang="ru-RU" sz="2000" spc="-1" strike="noStrike" u="sng">
                <a:solidFill>
                  <a:srgbClr val="800000"/>
                </a:solidFill>
                <a:uFillTx/>
                <a:latin typeface="Bookman Old Style"/>
              </a:rPr>
              <a:t>навык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C:\Users\Татьяна\Desktop\ФОТО\IMG_0169.JPG"/>
          <p:cNvPicPr/>
          <p:nvPr/>
        </p:nvPicPr>
        <p:blipFill>
          <a:blip r:embed="rId1"/>
          <a:stretch/>
        </p:blipFill>
        <p:spPr>
          <a:xfrm>
            <a:off x="214200" y="71424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IMG_0406"/>
          <p:cNvPicPr/>
          <p:nvPr/>
        </p:nvPicPr>
        <p:blipFill>
          <a:blip r:embed="rId2"/>
          <a:stretch/>
        </p:blipFill>
        <p:spPr>
          <a:xfrm>
            <a:off x="2643120" y="1071720"/>
            <a:ext cx="2071800" cy="2293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MG_0415"/>
          <p:cNvPicPr/>
          <p:nvPr/>
        </p:nvPicPr>
        <p:blipFill>
          <a:blip r:embed="rId3"/>
          <a:stretch/>
        </p:blipFill>
        <p:spPr>
          <a:xfrm>
            <a:off x="1285920" y="400068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IMG_0410"/>
          <p:cNvPicPr/>
          <p:nvPr/>
        </p:nvPicPr>
        <p:blipFill>
          <a:blip r:embed="rId4"/>
          <a:stretch/>
        </p:blipFill>
        <p:spPr>
          <a:xfrm>
            <a:off x="6286680" y="928800"/>
            <a:ext cx="1861920" cy="241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IMG_0404"/>
          <p:cNvPicPr/>
          <p:nvPr/>
        </p:nvPicPr>
        <p:blipFill>
          <a:blip r:embed="rId5"/>
          <a:stretch/>
        </p:blipFill>
        <p:spPr>
          <a:xfrm>
            <a:off x="4500720" y="4357800"/>
            <a:ext cx="1884240" cy="232092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В столо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  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техник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Рабочее  место  опера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вязи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Отрабо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практичес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авы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   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отдел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IMG_2862"/>
          <p:cNvPicPr/>
          <p:nvPr/>
        </p:nvPicPr>
        <p:blipFill>
          <a:blip r:embed="rId1"/>
          <a:stretch/>
        </p:blipFill>
        <p:spPr>
          <a:xfrm>
            <a:off x="428760" y="214200"/>
            <a:ext cx="3294000" cy="235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IMG_0419"/>
          <p:cNvPicPr/>
          <p:nvPr/>
        </p:nvPicPr>
        <p:blipFill>
          <a:blip r:embed="rId2"/>
          <a:stretch/>
        </p:blipFill>
        <p:spPr>
          <a:xfrm>
            <a:off x="6357960" y="3182760"/>
            <a:ext cx="2500200" cy="338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G_0153"/>
          <p:cNvPicPr/>
          <p:nvPr/>
        </p:nvPicPr>
        <p:blipFill>
          <a:blip r:embed="rId3"/>
          <a:stretch/>
        </p:blipFill>
        <p:spPr>
          <a:xfrm>
            <a:off x="285840" y="3857760"/>
            <a:ext cx="2666880" cy="27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IMG_0424"/>
          <p:cNvPicPr/>
          <p:nvPr/>
        </p:nvPicPr>
        <p:blipFill>
          <a:blip r:embed="rId4"/>
          <a:stretch/>
        </p:blipFill>
        <p:spPr>
          <a:xfrm>
            <a:off x="7072200" y="214200"/>
            <a:ext cx="1859040" cy="228600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Получаем  среднее  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11430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ХИ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ИСТОР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училище 1 002"/>
          <p:cNvPicPr/>
          <p:nvPr/>
        </p:nvPicPr>
        <p:blipFill>
          <a:blip r:embed="rId1"/>
          <a:stretch/>
        </p:blipFill>
        <p:spPr>
          <a:xfrm>
            <a:off x="285840" y="1000080"/>
            <a:ext cx="400824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IMG_0139"/>
          <p:cNvPicPr/>
          <p:nvPr/>
        </p:nvPicPr>
        <p:blipFill>
          <a:blip r:embed="rId2"/>
          <a:stretch/>
        </p:blipFill>
        <p:spPr>
          <a:xfrm>
            <a:off x="3143160" y="4286160"/>
            <a:ext cx="3176640" cy="2379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C:\Users\Татьяна\Desktop\НОВАЯ\2ФОТО\DSCN1253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072040" y="1071720"/>
            <a:ext cx="3714840" cy="3071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C:\Users\Татьяна\Desktop\НОВАЯ\2ФОТО\DSCN1251.JPG"/>
          <p:cNvPicPr/>
          <p:nvPr/>
        </p:nvPicPr>
        <p:blipFill>
          <a:blip r:embed="rId4"/>
          <a:stretch/>
        </p:blipFill>
        <p:spPr>
          <a:xfrm>
            <a:off x="9144000" y="57168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C:\Users\Татьяна\Desktop\НОВАЯ\2ФОТО\DSCN1236.JPG"/>
          <p:cNvPicPr/>
          <p:nvPr/>
        </p:nvPicPr>
        <p:blipFill>
          <a:blip r:embed="rId1"/>
          <a:stretch/>
        </p:blipFill>
        <p:spPr>
          <a:xfrm>
            <a:off x="571680" y="1214280"/>
            <a:ext cx="3286080" cy="4714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:\Users\Татьяна\Desktop\НОВАЯ\2ФОТО\DSCN1238.JPG"/>
          <p:cNvPicPr/>
          <p:nvPr/>
        </p:nvPicPr>
        <p:blipFill>
          <a:blip r:embed="rId2"/>
          <a:stretch/>
        </p:blipFill>
        <p:spPr>
          <a:xfrm>
            <a:off x="4929120" y="357120"/>
            <a:ext cx="3229200" cy="4457880"/>
          </a:xfrm>
          <a:prstGeom prst="rect">
            <a:avLst/>
          </a:prstGeom>
          <a:ln w="0">
            <a:noFill/>
          </a:ln>
        </p:spPr>
      </p:pic>
    </p:spTree>
  </p:cSld>
  <p:transition advTm="5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5:43:54Z</dcterms:created>
  <dc:creator>Татьяна</dc:creator>
  <dc:description/>
  <dc:language>en-US</dc:language>
  <cp:lastModifiedBy>User</cp:lastModifiedBy>
  <dcterms:modified xsi:type="dcterms:W3CDTF">2017-02-15T22:40:10Z</dcterms:modified>
  <cp:revision>54</cp:revision>
  <dc:subject/>
  <dc:title>Слайд 1</dc:title>
</cp:coreProperties>
</file>