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467-0FBB-4CC1-92F0-C53BA3E9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1175-0458-43FF-B696-AFA54CEC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9900-54EE-48ED-83F2-2E26E1AB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C9AA-4148-4360-8BAB-D1C6A52F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50C2-FB73-4FDA-9B56-15915765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1975-ECB4-44FE-BC9E-4BCED5D1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F6D0-761F-42AA-A335-4BB0B18D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853A-267E-4C4E-9845-4CEA9B5F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903F-309D-4D41-9954-F40B474F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DAA0-BEF7-4423-8AFA-0CB39A56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D697-DA6A-461F-B9B1-3A2B6DB6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7A1E-0CA9-45A7-88B6-CBAE8608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0301-8F7E-4B55-91D0-BEEFBD8F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E0EE-5924-4987-A140-E0365673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08CD-6833-49CD-AC0D-8413535F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CCCD-F782-4B4E-8400-36BE8403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E7CE-F51F-4091-BDA2-9EDE1D7A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E82-DC15-4D8E-B224-5FC76708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9D46-3292-4910-9FB2-256DB9D2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F540-7EA7-40D4-BFEB-5181E165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5259-9750-4369-AD28-6BDB4E26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81D2-4254-444A-9B11-1C3FDD7A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FB69-D5D5-45C3-B3A2-13F32CC8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63BB-D21F-4A0C-AD2D-A63D08E1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0E35-FB5F-45A7-A683-25485D45D4F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4CCC-0896-40BE-9190-437405DCE30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596880"/>
            <a:ext cx="8109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Значение эмоций для формирования положительного взаимодействия ребенка с окружающим миром</a:t>
            </a:r>
            <a:endParaRPr b="1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68360" y="4797360"/>
            <a:ext cx="81676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Родительское собрание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в 1 классе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«Счастье – это когда тебя понимают…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106800" cy="4969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172040" y="1557360"/>
            <a:ext cx="49719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Понимание и признание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Чувство необходимост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Успех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Реализация своих возможносте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Собственное уважение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«Ребенок – это живой человек. Это вовсе не орнамент нашей жизни, это отдельная полнокровная и богатая жизнь. По силе эмоций, по тревожности и глубине впечатлений, по чистоте и красоте волевых напряжений детская жизнь несравненно богаче взрослых. И радости, и драмы этой жизни сильнее потрясают личность…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А.С. Макаренк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Способы выражения любви к ребенку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Контакт глаз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Физический контак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Пристальное внимание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«Дом должен быть уютной норкой для маленького ребенка и берлогой для большого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С.Л. Соловейчи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00000" y="2492280"/>
            <a:ext cx="7344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агодарю за внимание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0:12:37Z</dcterms:created>
  <dc:creator>Admin</dc:creator>
  <dc:description/>
  <dc:language>en-US</dc:language>
  <cp:lastModifiedBy>Admin</cp:lastModifiedBy>
  <dcterms:modified xsi:type="dcterms:W3CDTF">2013-02-13T10:41:49Z</dcterms:modified>
  <cp:revision>2</cp:revision>
  <dc:subject/>
  <dc:title>Значение эмоций для формирования положительного взаимодействия ребенка с окружающим миром</dc:title>
</cp:coreProperties>
</file>