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09BC-9BCC-488B-A7A2-33CE6479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C9C1-0F6A-44D6-A1D6-0119377C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675C-4276-4FEC-864E-1016F7A4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2760-4F1E-4222-ABC1-FBBA72AC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A7C9-24CD-400F-B685-49420650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C7B1-E369-4249-9C3E-CCD8AFBA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A6AB-1F9E-4A94-A53A-A9724D53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13F4-AB22-49B0-822F-B0A4648C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2574-841A-4292-892B-FF11F319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D3B6-F151-4773-9F07-D44121F0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5901-1EF5-4748-A0C0-B5672DD6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300D-8EFF-43D5-8738-5B6E77F8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EAD3-0E26-48DA-8045-8EDFB0FE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E0C9-A992-4BAC-BBEA-74762C30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C51B-1391-4B5F-9E7B-2CA5F54B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4B45-D4D9-4F0F-9ACC-1D078E2F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6BA5-9E3D-4D20-A528-764B1D1EC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71EC-A467-4CAD-8E1F-04E183A5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D0CA-E798-4A10-AB6F-F3070194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3925-F384-419E-908B-5C9E235E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A6D6-52A6-4ED5-BDB5-46528064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FC04-16F6-4C03-A459-E0A2218D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B09-7A0E-4FE7-822F-A2222FB3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6368-8BAF-4B11-8CD5-FD1C41DE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7323-0460-48BA-9799-9BF8860D5EA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BB29-E8F3-496E-81CA-3A10E730A2F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596880"/>
            <a:ext cx="8109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Значение эмоций для формирования положительного взаимодействия ребенка с окружающим миром</a:t>
            </a:r>
            <a:endParaRPr b="1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68360" y="4797360"/>
            <a:ext cx="81676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Родительское собрание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в 1 классе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«Счастье – это когда тебя понимают…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106800" cy="4969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172040" y="1557360"/>
            <a:ext cx="49719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Понимание и признание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Чувство необходимост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Успех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Реализация своих возможносте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Собственное уважение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«Ребенок – это живой человек. Это вовсе не орнамент нашей жизни, это отдельная полнокровная и богатая жизнь. По силе эмоций, по тревожности и глубине впечатлений, по чистоте и красоте волевых напряжений детская жизнь несравненно богаче взрослых. И радости, и драмы этой жизни сильнее потрясают личность…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А.С. Макаренк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Способы выражения любви к ребенку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Контакт глаз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Физический контак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Пристальное внимание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«Дом должен быть уютной норкой для маленького ребенка и берлогой для большого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С.Л. Соловейчи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00000" y="2492280"/>
            <a:ext cx="7344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агодарю за внимание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0:12:37Z</dcterms:created>
  <dc:creator>Admin</dc:creator>
  <dc:description/>
  <dc:language>en-US</dc:language>
  <cp:lastModifiedBy>Admin</cp:lastModifiedBy>
  <dcterms:modified xsi:type="dcterms:W3CDTF">2013-02-13T10:41:49Z</dcterms:modified>
  <cp:revision>2</cp:revision>
  <dc:subject/>
  <dc:title>Значение эмоций для формирования положительного взаимодействия ребенка с окружающим миром</dc:title>
</cp:coreProperties>
</file>